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669-1AC1-4986-AE9C-16425855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CE2-FDAE-4F15-914F-A3370E3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F27-7160-4FE3-AF70-F09EC456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204-5D27-4A22-BA7D-0F2A5404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A19-DB79-44CC-9DFA-B5137AF2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CB2-A2FB-4C5E-A78A-9FEF264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282-2E1F-4BD3-A0C9-CE9E68E0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AE3-43CD-41A1-B0D1-C9D36307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760-7B06-4616-B3BF-BF461294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5CC-E188-401E-85EF-4454E73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2AE-8ADF-49DD-9A2B-53FAC9E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2EC-F38B-4BF1-8FC5-31D00F5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EDE-08CE-4EBD-877B-8462361C837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0" y="620640"/>
          <a:ext cx="9144000" cy="62388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ação de Co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ação de Co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CaixaDeTexto 6"/>
          <p:cNvSpPr/>
          <p:nvPr/>
        </p:nvSpPr>
        <p:spPr>
          <a:xfrm>
            <a:off x="370836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Orçamentário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6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Financeira e Tesour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Financeira e Tesour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jamento Govern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jamento Govern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9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JU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e Interno e Audi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e Interno e Audi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ônio, Almoxarifado e Cu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ônio, Almoxarifado e Cu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2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JU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órios da L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Plano de Cont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5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s Brasileiras de Contabil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s Brasileiras de Contabil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260280"/>
          <a:ext cx="9144000" cy="371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58" name="CaixaDeTexto 6"/>
          <p:cNvSpPr/>
          <p:nvPr/>
        </p:nvSpPr>
        <p:spPr>
          <a:xfrm>
            <a:off x="3635280" y="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TEM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7:18:48Z</dcterms:created>
  <dc:creator>Ricardo</dc:creator>
  <dc:description/>
  <dc:language>en-US</dc:language>
  <cp:lastModifiedBy>michele</cp:lastModifiedBy>
  <dcterms:modified xsi:type="dcterms:W3CDTF">2011-03-21T20:17:38Z</dcterms:modified>
  <cp:revision>22</cp:revision>
  <dc:subject/>
  <dc:title>Slide 1</dc:title>
</cp:coreProperties>
</file>