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B85C-6DCE-4F6F-AF99-44DDB9F8C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1DBF-0287-4D7E-9776-45C3C5FF9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B149-1A8B-4737-9BD1-120BEB878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15C9-5362-4CFC-AFD0-EDF6D2991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60A2-8416-4185-A7B9-94B3C4FC1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D980-A1FC-4CCA-980D-B20656BEB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9B06-E534-4161-A1C4-0D5CEBA51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FCC7-E53D-4CD6-8EC4-81033BC8E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B797-D305-4075-B429-E8CC386C1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A806-9EF3-4673-A94B-EB510BC5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79E7-C3BB-46E2-86FA-82F17AE0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A062-E427-4842-A52D-F73CCF77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01A88-D9C8-43B4-93F6-BC8DD1F50FB3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60280"/>
          <a:ext cx="9144000" cy="37152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EGU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Ç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AR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IN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EX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" name=""/>
          <p:cNvGraphicFramePr/>
          <p:nvPr/>
        </p:nvGraphicFramePr>
        <p:xfrm>
          <a:off x="0" y="620640"/>
          <a:ext cx="9144000" cy="62388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12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RI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RI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tação de Cont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tação de Cont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3" name="CaixaDeTexto 6"/>
          <p:cNvSpPr/>
          <p:nvPr/>
        </p:nvSpPr>
        <p:spPr>
          <a:xfrm>
            <a:off x="3708360" y="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ABR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620640"/>
          <a:ext cx="9144000" cy="623736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12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stema Orçamentário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stema Orçamentário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4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stema Orçamentário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stema Orçamentário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0" y="260280"/>
          <a:ext cx="9144000" cy="37152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EGU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Ç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AR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IN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EX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46" name="CaixaDeTexto 6"/>
          <p:cNvSpPr/>
          <p:nvPr/>
        </p:nvSpPr>
        <p:spPr>
          <a:xfrm>
            <a:off x="3635280" y="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MA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0" y="620640"/>
          <a:ext cx="9144000" cy="623736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12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ação Financeira e Tesoura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ação Financeira e Tesoura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4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RI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ejamento Governamen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0" y="260280"/>
          <a:ext cx="9144000" cy="37152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EGU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Ç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AR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IN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EX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49" name="CaixaDeTexto 6"/>
          <p:cNvSpPr/>
          <p:nvPr/>
        </p:nvSpPr>
        <p:spPr>
          <a:xfrm>
            <a:off x="3635280" y="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JUN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620640"/>
          <a:ext cx="9144000" cy="623736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12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ejamento Governamen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4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role Interno e Audito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role Interno e Audito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0" y="260280"/>
          <a:ext cx="9144000" cy="37152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EGU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Ç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AR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IN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EX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52" name="CaixaDeTexto 6"/>
          <p:cNvSpPr/>
          <p:nvPr/>
        </p:nvSpPr>
        <p:spPr>
          <a:xfrm>
            <a:off x="3635280" y="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JUL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0" y="620640"/>
          <a:ext cx="9144000" cy="623736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12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trimônio, Almoxarifado e Cus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trimônio, Almoxarifado e Cus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4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atórios da LR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0" y="260280"/>
          <a:ext cx="9144000" cy="37152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EGU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Ç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AR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IN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EX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55" name="CaixaDeTexto 6"/>
          <p:cNvSpPr/>
          <p:nvPr/>
        </p:nvSpPr>
        <p:spPr>
          <a:xfrm>
            <a:off x="3635280" y="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AGO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0" y="620640"/>
          <a:ext cx="9144000" cy="623736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12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RI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RI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4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o Plano de Conta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o Plano de Conta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o Plano de Conta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rmas Brasileiras de Contabilidad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rmas Brasileiras de Contabilidad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0" y="260280"/>
          <a:ext cx="9144000" cy="37152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EGU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Ç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AR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IN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EX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58" name="CaixaDeTexto 6"/>
          <p:cNvSpPr/>
          <p:nvPr/>
        </p:nvSpPr>
        <p:spPr>
          <a:xfrm>
            <a:off x="3635280" y="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SETEMB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7:18:48Z</dcterms:created>
  <dc:creator>Ricardo</dc:creator>
  <dc:description/>
  <dc:language>en-US</dc:language>
  <cp:lastModifiedBy>michele</cp:lastModifiedBy>
  <dcterms:modified xsi:type="dcterms:W3CDTF">2011-03-21T20:19:50Z</dcterms:modified>
  <cp:revision>22</cp:revision>
  <dc:subject/>
  <dc:title>Slide 1</dc:title>
</cp:coreProperties>
</file>