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3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14.jpeg" ContentType="image/jpeg"/>
  <Override PartName="/ppt/media/image22.jpeg" ContentType="image/jpeg"/>
  <Override PartName="/ppt/media/image9.png" ContentType="image/png"/>
  <Override PartName="/ppt/media/image34.png" ContentType="image/png"/>
  <Override PartName="/ppt/media/image8.png" ContentType="image/png"/>
  <Override PartName="/ppt/media/image39.jpeg" ContentType="image/jpeg"/>
  <Override PartName="/ppt/media/image4.wmf" ContentType="image/x-wmf"/>
  <Override PartName="/ppt/media/image13.jpeg" ContentType="image/jpeg"/>
  <Override PartName="/ppt/media/image33.wmf" ContentType="image/x-wmf"/>
  <Override PartName="/ppt/media/image37.jpeg" ContentType="image/jpeg"/>
  <Override PartName="/ppt/media/image40.png" ContentType="image/png"/>
  <Override PartName="/ppt/media/image41.png" ContentType="image/png"/>
  <Override PartName="/ppt/media/image30.wmf" ContentType="image/x-wmf"/>
  <Override PartName="/ppt/media/image27.jpeg" ContentType="image/jpeg"/>
  <Override PartName="/ppt/media/image43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10.png" ContentType="image/png"/>
  <Override PartName="/ppt/media/image3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2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8891-8D1A-4CDF-BEC0-1AC9FC6E9D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4DFB-371A-4F26-8BD0-8771B3D959F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F0DA-A21F-4F38-B63C-D0FB8E96E75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22C8-370B-4DD4-B6F5-DE8AC25FAA0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7465-CEB5-4EA8-996D-8B23DF87E4F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D836-913A-45DF-9DD8-48DB8D9B38B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717A-729D-432E-A775-1CFE938E30B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587D-9F94-4371-9803-C5099B6DDC5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17F4-2672-43E3-A401-B70F7697962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EDD-7993-4F00-8FB3-4655546BEDF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1084-0488-446F-8507-DBB79D88CF7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F574-AA6C-4152-98A9-AB2461923D2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FA24-FB42-4313-88E2-5260EB004D0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2A11-9781-4CC8-A566-32D65E136BB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63520" y="703440"/>
            <a:ext cx="4689720" cy="35161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34560" y="4454640"/>
            <a:ext cx="51404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AE93-3C86-497E-9459-2470BA4426F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63520" y="703440"/>
            <a:ext cx="4689720" cy="35161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54640"/>
            <a:ext cx="51404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31E2-5B3F-4F78-A5B3-CECD89AC255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43FE-3F39-4EEF-AEBE-E435421BE85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56B-4FE9-4258-B7E0-DFF85178014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5955-744E-4614-B2BA-487B47A3454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AF14-2254-47E8-BB8B-722E02F6165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987E-8055-4BB0-BE6B-AE31EF26E8F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6A0-7383-4703-A571-4088A328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685-9257-475C-B78D-F4252DAA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4FC-A190-4049-897A-7D6F4AB5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D2C-3BD1-4BE2-8C36-86423B23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FC73-47A1-4244-A61A-2677481E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2D18-6D8B-491E-A295-74251CFA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B993-B0EC-4D25-84FD-9B915BCE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DB56-AC4A-4D41-A283-F4369C56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F3DB-4EC3-4C39-A4F8-F69AB3DB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F62C-CD5F-4AF1-850C-8B9E2F3E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E460-11F6-4CA9-812A-19E7411C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C20-5E0A-43EC-BC8A-6E9435B4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4CDF-A2E9-470C-88BF-B5B2D00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29AB-0071-485B-902E-2A16BBCB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6D62-EEDA-49CB-AA51-A55A923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B1B9-8E3B-4E69-8A16-20C0C02E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3B4-9129-4805-AF78-BC35BA0E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5AB-3949-4E1B-97B3-3628CAE1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053-1E24-4D79-87FA-A4D8E72E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9F5-6B09-4AF8-B1FF-5AE08E90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405-9142-47CF-968F-740F9D81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976-CCF3-424C-BD0C-923256E3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E20-8D42-491C-A5F6-1116D5D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9C8-3FE8-4D59-AEB5-31B28C53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94B-F282-48F9-B0AC-D7F08A60A71F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BoletimITCiLogo"/>
          <p:cNvPicPr/>
          <p:nvPr/>
        </p:nvPicPr>
        <p:blipFill>
          <a:blip r:embed="rId2"/>
          <a:stretch/>
        </p:blipFill>
        <p:spPr>
          <a:xfrm>
            <a:off x="7948440" y="6029280"/>
            <a:ext cx="83844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Picture 16" descr="BoletimITCiLogo"/>
          <p:cNvPicPr/>
          <p:nvPr/>
        </p:nvPicPr>
        <p:blipFill>
          <a:blip r:embed="rId2"/>
          <a:stretch/>
        </p:blipFill>
        <p:spPr>
          <a:xfrm>
            <a:off x="7732800" y="5877000"/>
            <a:ext cx="101592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0A82-784C-4B84-BAE0-75A15F2EE187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faz.ba.gov.br/nfen/portal/imgs/logotipo_nfe_nacional.jpg&amp;imgrefurl=http://www.sefaz.ba.gov.br/nfen/portal/objetivos.htm&amp;h=143&amp;w=150&amp;sz=4&amp;hl=pt-BR&amp;start=1&amp;um=1&amp;tbnid=bJ_RJCYprCk0uM:&amp;tbnh=92&amp;tbnw=96&amp;prev=/images%3Fq%3Dnfe%2Bnacional%26svnum%3D10%26um%3D1%26hl%3Dpt-BR%26lr%3D" TargetMode="Externa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file:///Tecnologia.ppt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d.fazenda.gov.br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1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rvidorminas.com.br/loja/images/tinteiroblueg.jpg&amp;imgrefurl=http://www.servidorminas.com.br/loja/privacy.php%3FPHPSESSID%3Db7557845fd85d238f5974127ae52f6e4&amp;h=450&amp;w=525&amp;sz=32&amp;hl=pt-BR&amp;start=2&amp;um=1&amp;tbnid=LNysuj1fQV__ZM:&amp;tbnh=113&amp;tbnw=132&amp;prev=/images%3Fq%3Dcaneta%2Btinteiro%26svnum%3D10%26um%3D1%26hl%3Dpt-BR%26rls%3DADBS,ADBS:2007-16,ADBS:pt-BR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oficinadolivro.pt/site/images/maquina-escrever.gif&amp;imgrefurl=http://www.oficinadolivro.pt/site/bookDetails.aspx%3FBookID%3D238&amp;h=110&amp;w=149&amp;sz=10&amp;hl=pt-BR&amp;start=11&amp;um=1&amp;tbnid=v3g8cKYaq6KNsM:&amp;tbnh=70&amp;tbnw=95&amp;prev=/images%3Fq%3Dm%25C3%25A1quina%2Bescrever%26svnum%3D10%26um%3D1%26hl%3Dpt-BR%26rls%3DADBS,ADBS:2007-16,ADBS:pt-BR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quitandinha.com/images/brother_219-06405.jpg&amp;imgrefurl=http://www.quitandinha.com/index.php%3FcPath%3D81_131&amp;h=200&amp;w=200&amp;sz=6&amp;hl=pt-BR&amp;start=0&amp;um=1&amp;tbnid=02PZRtnJVV6FsM:&amp;tbnh=104&amp;tbnw=104&amp;prev=/images%3Fq%3Dmaquina%2Bescrever%26svnum%3D10%26um%3D1%26hl%3Dpt-BR%26rlz%3D1T4ADBS_pt-BR___BR228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ovaloja.com.br/computador%25202.jpg&amp;imgrefurl=http://newvirus07.wordpress.com/&amp;h=180&amp;w=220&amp;sz=7&amp;hl=pt-BR&amp;start=2&amp;um=1&amp;tbnid=sPcgAgqLS6TS2M:&amp;tbnh=88&amp;tbnw=107&amp;prev=/images%3Fq%3Dcomputador%26svnum%3D10%26um%3D1%26hl%3Dpt-BR%26rls%3DADBS,ADBS:2007-16,ADBS:pt-BR%26sa%3D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vetorialinformatica.com/images/ML3561N.jpg&amp;imgrefurl=http://www.vetorialinformatica.com/specials.php&amp;h=300&amp;w=300&amp;sz=13&amp;hl=pt-BR&amp;start=10&amp;um=1&amp;tbnid=dWlb-cRuRuivFM:&amp;tbnh=116&amp;tbnw=116&amp;prev=/images%3Fq%3Dimpressora%2Blaser%26svnum%3D10%26um%3D1%26hl%3Dpt-BR%26rls%3DADBS,ADBS:2007-16,ADBS:pt-BR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faz.ba.gov.br/nfen/portal/imgs/logotipo_nfe_nacional.jpg&amp;imgrefurl=http://www.sefaz.ba.gov.br/nfen/portal/objetivos.htm&amp;h=143&amp;w=150&amp;sz=4&amp;hl=pt-BR&amp;start=1&amp;um=1&amp;tbnid=bJ_RJCYprCk0uM:&amp;tbnh=92&amp;tbnw=96&amp;prev=/images%3Fq%3Dnfe%2Bnacional%26svnum%3D10%26um%3D1%26hl%3Dpt-BR%26lr%3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genciasocial.com.br/upload/noticia/alta228.jpg&amp;imgrefurl=http://www.agenciasocial.com.br/noticias_integra.asp%3FidNoticia%3D228&amp;h=607&amp;w=424&amp;sz=66&amp;hl=pt-BR&amp;start=11&amp;um=1&amp;tbnid=slskvQ8l7DF28M:&amp;tbnh=136&amp;tbnw=95&amp;prev=/images%3Fq%3DNota%2Bfiscal%2Beletronica%26svnum%3D10%26um%3D1%26hl%3Dpt-BR%26rls%3DADBS,ADBS:2007-16,ADBS:pt-BR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nadorflexaribeiro.com.br/fotos/capa_2_Constitui__o_1998_01_0001.jpg&amp;imgrefurl=http://www.senadorflexaribeiro.com.br/publicacao.asp%3Fm%3D8&amp;h=167&amp;w=159&amp;sz=17&amp;hl=pt-BR&amp;start=6&amp;um=1&amp;tbnid=UU5UvI-Q-_tymM:&amp;tbnh=99&amp;tbnw=94&amp;prev=/images%3Fq%3Dconstitui%25C3%25A7%25C3%25A3o%2Bfederal%26svnum%3D10%26um%3D1%26hl%3Dpt-BR%26rls%3DADBS,ADBS:2007-16,ADBS:pt-BR%26sa%3DN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ortalfiscal.se.gov.br/WebPortalFiscal/" TargetMode="External"/><Relationship Id="rId2" Type="http://schemas.openxmlformats.org/officeDocument/2006/relationships/image" Target="../media/image20.png"/><Relationship Id="rId3" Type="http://schemas.openxmlformats.org/officeDocument/2006/relationships/hyperlink" Target="http://images.google.com/imgres?imgurl=http://www.cepromat.mt.gov.br/arquivos/A_99571d8b5d0caa850b3b5166e971934alogo_receita_federal.jpg&amp;imgrefurl=http://www.cepromat.mt.gov.br/html/noticia.php%3FcodigoNoticia%3D162&amp;h=226&amp;w=432&amp;sz=22&amp;hl=pt-BR&amp;start=3&amp;um=1&amp;tbnid=fJBiqNaRnx5XNM:&amp;tbnh=66&amp;tbnw=126&amp;prev=/images%3Fq%3Dreceita%2Bfederal%26svnum%3D10%26um%3D1%26hl%3Dpt-BR%26rlz%3D1T4ADBS_pt-BR___BR228%26sa%3DN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ortalfiscal.se.gov.br/WebPortalFiscal/" TargetMode="External"/><Relationship Id="rId2" Type="http://schemas.openxmlformats.org/officeDocument/2006/relationships/image" Target="../media/image20.png"/><Relationship Id="rId3" Type="http://schemas.openxmlformats.org/officeDocument/2006/relationships/hyperlink" Target="http://images.google.com/imgres?imgurl=http://www.cepromat.mt.gov.br/arquivos/A_99571d8b5d0caa850b3b5166e971934alogo_receita_federal.jpg&amp;imgrefurl=http://www.cepromat.mt.gov.br/html/noticia.php%3FcodigoNoticia%3D162&amp;h=226&amp;w=432&amp;sz=22&amp;hl=pt-BR&amp;start=3&amp;um=1&amp;tbnid=fJBiqNaRnx5XNM:&amp;tbnh=66&amp;tbnw=126&amp;prev=/images%3Fq%3Dreceita%2Bfederal%26svnum%3D10%26um%3D1%26hl%3Dpt-BR%26rlz%3D1T4ADBS_pt-BR___BR228%26sa%3DN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formata.com.br/imagens/fig.tit_beneficios.jpg&amp;imgrefurl=http://www.informata.com.br/md_log/beneficios.php&amp;h=119&amp;w=109&amp;sz=3&amp;hl=pt-BR&amp;start=0&amp;um=1&amp;tbnid=2LV1bbz5XJlOuM:&amp;tbnh=88&amp;tbnw=81&amp;prev=/images%3Fq%3Dbenef%25C3%25ADcios%26svnum%3D10%26um%3D1%26hl%3Dpt-BR%26rlz%3D1T4ADBS_pt-BR___BR228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janelanaweb.com/dinheiro/imagens_main/dinheiro.gif&amp;imgrefurl=http://www.evandronunes.net/2007/05/04/igreja-universal-digo-igreja-mercenaria-do-reino-de-deus/&amp;h=240&amp;w=162&amp;sz=18&amp;hl=pt-BR&amp;start=7&amp;um=1&amp;tbnid=OQfxNv_355_TWM:&amp;tbnh=110&amp;tbnw=74&amp;prev=/images%3Fq%3Ddinheiro%26imgsz%3Dsmall%257Cmedium%257Clarge%257Cxlarge%26ndsp%3D18%26svnum%3D10%26um%3D1%26hl%3Dpt-BR%26lr%3D%26rls%3DADBS,ADBS:2007-16,ADBS:pt-BR%26sa%3D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formata.com.br/imagens/fig.tit_beneficios.jpg&amp;imgrefurl=http://www.informata.com.br/md_log/beneficios.php&amp;h=119&amp;w=109&amp;sz=3&amp;hl=pt-BR&amp;start=0&amp;um=1&amp;tbnid=2LV1bbz5XJlOuM:&amp;tbnh=88&amp;tbnw=81&amp;prev=/images%3Fq%3Dbenef%25C3%25ADcios%26svnum%3D10%26um%3D1%26hl%3Dpt-BR%26rlz%3D1T4ADBS_pt-BR___BR228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janelanaweb.com/dinheiro/imagens_main/dinheiro.gif&amp;imgrefurl=http://www.evandronunes.net/2007/05/04/igreja-universal-digo-igreja-mercenaria-do-reino-de-deus/&amp;h=240&amp;w=162&amp;sz=18&amp;hl=pt-BR&amp;start=7&amp;um=1&amp;tbnid=OQfxNv_355_TWM:&amp;tbnh=110&amp;tbnw=74&amp;prev=/images%3Fq%3Ddinheiro%26imgsz%3Dsmall%257Cmedium%257Clarge%257Cxlarge%26ndsp%3D18%26svnum%3D10%26um%3D1%26hl%3Dpt-BR%26lr%3D%26rls%3DADBS,ADBS:2007-16,ADBS:pt-BR%26sa%3D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portuguese/images/020131_cigarrosouza300.jpg&amp;imgrefurl=http://www.bbc.co.uk/portuguese/ciencia/020130_donmss2.shtml&amp;h=180&amp;w=300&amp;sz=9&amp;hl=pt-BR&amp;start=6&amp;um=1&amp;tbnid=ZvGHjGD1629p5M:&amp;tbnh=70&amp;tbnw=116&amp;prev=/images%3Fq%3Dsouza%2Bcruz%2Bcigarro%2Bma%25C3%25A7o%26imgsz%3Dsmall%257Cmedium%257Clarge%257Cxlarge%26svnum%3D10%26um%3D1%26hl%3Dpt-BR%26rls%3DADBS,ADBS:2007-16,ADBS:pt-BR%26sa%3DX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members.home.nl/m.elcaid/images/vw_Gol.jpeg&amp;imgrefurl=http://members.home.nl/m.elcaid/_fr/reserveren.html&amp;h=261&amp;w=420&amp;sz=19&amp;hl=pt-BR&amp;start=13&amp;um=1&amp;tbnid=s8_3B-XFExKxHM:&amp;tbnh=78&amp;tbnw=125&amp;prev=/images%3Fq%3DGOL%2BVW%26imgsz%3Dsmall%257Cmedium%257Clarge%257Cxlarge%26svnum%3D10%26um%3D1%26hl%3Dpt-BR%26rls%3DADBS,ADBS:2007-16,ADBS:pt-BR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consorcio.cnvw.com.br/bancovw/app/consorcio/carros/kombi/img_kombi_entrada/kombi.jpg&amp;imgrefurl=http://consorcio.cnvw.com.br/bancovw/app/consorcio/carros/kombi/kombi.asp&amp;h=203&amp;w=440&amp;sz=13&amp;hl=pt-BR&amp;start=21&amp;um=1&amp;tbnid=RsjxBykAL2iwpM:&amp;tbnh=59&amp;tbnw=127&amp;prev=/images%3Fq%3Dkombi%26start%3D18%26ndsp%3D18%26svnum%3D10%26um%3D1%26hl%3Dpt-BR%26rlz%3D1T4ADBS_pt-BR___BR228%26sa%3DN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www.emporiumsaopaulo.com.br/images/produtos/prod_12126.jpg&amp;imgrefurl=http://www.emporiumsaopaulo.com.br/produto.asp%3Fcid%3D120%26gid%3D812%26gondola%3DPadaria%26pid%3D12126&amp;h=300&amp;w=300&amp;sz=68&amp;hl=pt-BR&amp;start=24&amp;um=1&amp;tbnid=8o4PZCS23w4HUM:&amp;tbnh=116&amp;tbnw=116&amp;prev=/images%3Fq%3Dwickbold%26start%3D18%26ndsp%3D18%26svnum%3D10%26um%3D1%26hl%3Dpt-BR%26rlz%3D1T4ADBS_pt-BR___BR228%26sa%3DN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portuguese/images/020131_cigarrosouza300.jpg&amp;imgrefurl=http://www.bbc.co.uk/portuguese/ciencia/020130_donmss2.shtml&amp;h=180&amp;w=300&amp;sz=9&amp;hl=pt-BR&amp;start=6&amp;um=1&amp;tbnid=ZvGHjGD1629p5M:&amp;tbnh=70&amp;tbnw=116&amp;prev=/images%3Fq%3Dsouza%2Bcruz%2Bcigarro%2Bma%25C3%25A7o%26imgsz%3Dsmall%257Cmedium%257Clarge%257Cxlarge%26svnum%3D10%26um%3D1%26hl%3Dpt-BR%26rls%3DADBS,ADBS:2007-16,ADBS:pt-BR%26sa%3DX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members.home.nl/m.elcaid/images/vw_Gol.jpeg&amp;imgrefurl=http://members.home.nl/m.elcaid/_fr/reserveren.html&amp;h=261&amp;w=420&amp;sz=19&amp;hl=pt-BR&amp;start=13&amp;um=1&amp;tbnid=s8_3B-XFExKxHM:&amp;tbnh=78&amp;tbnw=125&amp;prev=/images%3Fq%3DGOL%2BVW%26imgsz%3Dsmall%257Cmedium%257Clarge%257Cxlarge%26svnum%3D10%26um%3D1%26hl%3Dpt-BR%26rls%3DADBS,ADBS:2007-16,ADBS:pt-BR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consorcio.cnvw.com.br/bancovw/app/consorcio/carros/kombi/img_kombi_entrada/kombi.jpg&amp;imgrefurl=http://consorcio.cnvw.com.br/bancovw/app/consorcio/carros/kombi/kombi.asp&amp;h=203&amp;w=440&amp;sz=13&amp;hl=pt-BR&amp;start=21&amp;um=1&amp;tbnid=RsjxBykAL2iwpM:&amp;tbnh=59&amp;tbnw=127&amp;prev=/images%3Fq%3Dkombi%26start%3D18%26ndsp%3D18%26svnum%3D10%26um%3D1%26hl%3Dpt-BR%26rlz%3D1T4ADBS_pt-BR___BR228%26sa%3DN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www.emporiumsaopaulo.com.br/images/produtos/prod_12126.jpg&amp;imgrefurl=http://www.emporiumsaopaulo.com.br/produto.asp%3Fcid%3D120%26gid%3D812%26gondola%3DPadaria%26pid%3D12126&amp;h=300&amp;w=300&amp;sz=68&amp;hl=pt-BR&amp;start=24&amp;um=1&amp;tbnid=8o4PZCS23w4HUM:&amp;tbnh=116&amp;tbnw=116&amp;prev=/images%3Fq%3Dwickbold%26start%3D18%26ndsp%3D18%26svnum%3D10%26um%3D1%26hl%3Dpt-BR%26rlz%3D1T4ADBS_pt-BR___BR228%26sa%3DN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nfe.fazenda.gov.br/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../../../../Configura&#231;&#245;es%20locais/Temporary%20Internet%20Files/Content.IE5/Z719PXPA/10_34929_43060992665611012850550079000000011485651995-nfe.xml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nfe.fazenda.gov.br/" TargetMode="External"/><Relationship Id="rId2" Type="http://schemas.openxmlformats.org/officeDocument/2006/relationships/hyperlink" Target="http://nfe.sef.sc.gov.br/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munip.com/images/servidor.jpg&amp;imgrefurl=http://www.comunip.com/app/handler.php%3Fid%3Dtecnologia&amp;h=292&amp;w=380&amp;sz=19&amp;hl=pt-BR&amp;start=18&amp;um=1&amp;tbnid=s4QqwL4RVZ1xyM:&amp;tbnh=95&amp;tbnw=123&amp;prev=/images%3Fq%3Dservidor%26imgsz%3Dsmall%257Cmedium%257Clarge%257Cxlarge%26svnum%3D10%26um%3D1%26hl%3Dpt-BR%26rls%3DADBS,ADBS:2007-16,ADBS:pt-BR%26sa%3D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munip.com/images/servidor.jpg&amp;imgrefurl=http://www.comunip.com/app/handler.php%3Fid%3Dtecnologia&amp;h=292&amp;w=380&amp;sz=19&amp;hl=pt-BR&amp;start=18&amp;um=1&amp;tbnid=s4QqwL4RVZ1xyM:&amp;tbnh=95&amp;tbnw=123&amp;prev=/images%3Fq%3Dservidor%26imgsz%3Dsmall%257Cmedium%257Clarge%257Cxlarge%26svnum%3D10%26um%3D1%26hl%3Dpt-BR%26rls%3DADBS,ADBS:2007-16,ADBS:pt-BR%26sa%3D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munip.com/images/servidor.jpg&amp;imgrefurl=http://www.comunip.com/app/handler.php%3Fid%3Dtecnologia&amp;h=292&amp;w=380&amp;sz=19&amp;hl=pt-BR&amp;start=18&amp;um=1&amp;tbnid=s4QqwL4RVZ1xyM:&amp;tbnh=95&amp;tbnw=123&amp;prev=/images%3Fq%3Dservidor%26imgsz%3Dsmall%257Cmedium%257Clarge%257Cxlarge%26svnum%3D10%26um%3D1%26hl%3Dpt-BR%26rls%3DADBS,ADBS:2007-16,ADBS:pt-BR%26sa%3D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cextreme.net/wp-content/uploads/2006/09/laptop1.jpg&amp;imgrefurl=http://www.pcextreme.net/reviews/video-cards/know-your-laptop/&amp;h=400&amp;w=400&amp;sz=16&amp;hl=pt-BR&amp;start=3&amp;um=1&amp;tbnid=-J-7TnGYEbEg-M:&amp;tbnh=124&amp;tbnw=124&amp;prev=/images%3Fq%3Dlaptop%26imgsz%3Dsmall%257Cmedium%257Clarge%257Cxlarge%26svnum%3D10%26um%3D1%26hl%3Dpt-BR%26rls%3DADBS,ADBS:2007-16,ADBS:pt-BR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col.com.br/websolution/websolution_arquivos/diagramafailover.gif&amp;imgrefurl=http://www.acol.com.br/websolution/cluster/index.shtml&amp;h=206&amp;w=215&amp;sz=7&amp;hl=pt-BR&amp;start=21&amp;um=1&amp;tbnid=uRooJYH8nZmOWM:&amp;tbnh=102&amp;tbnw=106&amp;prev=/images%3Fq%3Dservidor%2Bfalha%26start%3D18%26imgsz%3Dsmall%257Cmedium%257Clarge%257Cxlarge%26ndsp%3D18%26svnum%3D10%26um%3D1%26hl%3Dpt-BR%26rls%3DADBS,ADBS:2007-16,ADBS:pt-BR%26sa%3DN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cextreme.net/wp-content/uploads/2006/09/laptop1.jpg&amp;imgrefurl=http://www.pcextreme.net/reviews/video-cards/know-your-laptop/&amp;h=400&amp;w=400&amp;sz=16&amp;hl=pt-BR&amp;start=3&amp;um=1&amp;tbnid=-J-7TnGYEbEg-M:&amp;tbnh=124&amp;tbnw=124&amp;prev=/images%3Fq%3Dlaptop%26imgsz%3Dsmall%257Cmedium%257Clarge%257Cxlarge%26svnum%3D10%26um%3D1%26hl%3Dpt-BR%26rls%3DADBS,ADBS:2007-16,ADBS:pt-BR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cextreme.net/wp-content/uploads/2006/09/laptop1.jpg&amp;imgrefurl=http://www.pcextreme.net/reviews/video-cards/know-your-laptop/&amp;h=400&amp;w=400&amp;sz=16&amp;hl=pt-BR&amp;start=3&amp;um=1&amp;tbnid=-J-7TnGYEbEg-M:&amp;tbnh=124&amp;tbnw=124&amp;prev=/images%3Fq%3Dlaptop%26imgsz%3Dsmall%257Cmedium%257Clarge%257Cxlarge%26svnum%3D10%26um%3D1%26hl%3Dpt-BR%26rls%3DADBS,ADBS:2007-16,ADBS:pt-BR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cextreme.net/wp-content/uploads/2006/09/laptop1.jpg&amp;imgrefurl=http://www.pcextreme.net/reviews/video-cards/know-your-laptop/&amp;h=400&amp;w=400&amp;sz=16&amp;hl=pt-BR&amp;start=3&amp;um=1&amp;tbnid=-J-7TnGYEbEg-M:&amp;tbnh=124&amp;tbnw=124&amp;prev=/images%3Fq%3Dlaptop%26imgsz%3Dsmall%257Cmedium%257Clarge%257Cxlarge%26svnum%3D10%26um%3D1%26hl%3Dpt-BR%26rls%3DADBS,ADBS:2007-16,ADBS:pt-BR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frsoft.com.br/imagens/web_contabilidade_02.gif&amp;imgrefurl=http://www.sfrsoft.com.br/contabilidade.htm&amp;h=260&amp;w=206&amp;sz=26&amp;hl=pt-BR&amp;start=9&amp;um=1&amp;tbnid=cSotz3MA0uT8AM:&amp;tbnh=112&amp;tbnw=89&amp;prev=/images%3Fq%3Dcontabilidade%26svnum%3D10%26um%3D1%26hl%3Dpt-BR%26rlz%3D1T4ADBS_pt-BR___BR22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logotipo_nfe_nacion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386080"/>
            <a:ext cx="4321440" cy="41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3"/>
          <p:cNvGraphicFramePr/>
          <p:nvPr/>
        </p:nvGraphicFramePr>
        <p:xfrm>
          <a:off x="36360" y="22320"/>
          <a:ext cx="4606920" cy="39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60" y="22320"/>
                    <a:ext cx="4606920" cy="39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4"/>
          <p:cNvSpPr/>
          <p:nvPr/>
        </p:nvSpPr>
        <p:spPr>
          <a:xfrm>
            <a:off x="1857240" y="6143760"/>
            <a:ext cx="746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rof. Msc. Marino Luiz Eyerkaufer &amp; Esp. ControladoriaJurandir Dungersleber e adaptado pela Professora Carla Mo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 rot="209400">
            <a:off x="4641840" y="1557000"/>
            <a:ext cx="2594160" cy="934920"/>
          </a:xfrm>
          <a:custGeom>
            <a:avLst/>
            <a:gdLst>
              <a:gd name="textAreaLeft" fmla="*/ 324000 w 2594160"/>
              <a:gd name="textAreaRight" fmla="*/ 2270160 w 259416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ESBURROGRATIZ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 rot="5400000">
            <a:off x="-470880" y="4220280"/>
            <a:ext cx="2594160" cy="1150920"/>
          </a:xfrm>
          <a:custGeom>
            <a:avLst/>
            <a:gdLst>
              <a:gd name="textAreaLeft" fmla="*/ 324000 w 2594160"/>
              <a:gd name="textAreaRight" fmla="*/ 2270160 w 2594160"/>
              <a:gd name="textAreaTop" fmla="*/ 287640 h 1150920"/>
              <a:gd name="textAreaBottom" fmla="*/ 863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>
            <a:hlinkClick r:id="rId5"/>
          </p:cNvPr>
          <p:cNvSpPr/>
          <p:nvPr/>
        </p:nvSpPr>
        <p:spPr>
          <a:xfrm rot="5074800">
            <a:off x="754200" y="4220280"/>
            <a:ext cx="2594160" cy="1150920"/>
          </a:xfrm>
          <a:custGeom>
            <a:avLst/>
            <a:gdLst>
              <a:gd name="textAreaLeft" fmla="*/ 324000 w 2594160"/>
              <a:gd name="textAreaRight" fmla="*/ 2270160 w 2594160"/>
              <a:gd name="textAreaTop" fmla="*/ 287640 h 1150920"/>
              <a:gd name="textAreaBottom" fmla="*/ 863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 rot="3076200">
            <a:off x="3275640" y="3645360"/>
            <a:ext cx="2593800" cy="1150920"/>
          </a:xfrm>
          <a:custGeom>
            <a:avLst/>
            <a:gdLst>
              <a:gd name="textAreaLeft" fmla="*/ 324000 w 2593800"/>
              <a:gd name="textAreaRight" fmla="*/ 2269800 w 2593800"/>
              <a:gd name="textAreaTop" fmla="*/ 287640 h 1150920"/>
              <a:gd name="textAreaBottom" fmla="*/ 863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 rot="1780200">
            <a:off x="4211280" y="2709720"/>
            <a:ext cx="2593800" cy="1150920"/>
          </a:xfrm>
          <a:custGeom>
            <a:avLst/>
            <a:gdLst>
              <a:gd name="textAreaLeft" fmla="*/ 324000 w 2593800"/>
              <a:gd name="textAreaRight" fmla="*/ 2269800 w 2593800"/>
              <a:gd name="textAreaTop" fmla="*/ 287640 h 1150920"/>
              <a:gd name="textAreaBottom" fmla="*/ 863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AFIO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 rot="4521600">
            <a:off x="1978560" y="4150440"/>
            <a:ext cx="2593800" cy="1150920"/>
          </a:xfrm>
          <a:custGeom>
            <a:avLst/>
            <a:gdLst>
              <a:gd name="textAreaLeft" fmla="*/ 324000 w 2593800"/>
              <a:gd name="textAreaRight" fmla="*/ 2269800 w 2593800"/>
              <a:gd name="textAreaTop" fmla="*/ 287640 h 1150920"/>
              <a:gd name="textAreaBottom" fmla="*/ 863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UÇÃO CU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4570560" y="333360"/>
            <a:ext cx="2593800" cy="933480"/>
          </a:xfrm>
          <a:custGeom>
            <a:avLst/>
            <a:gdLst>
              <a:gd name="textAreaLeft" fmla="*/ 324000 w 2593800"/>
              <a:gd name="textAreaRight" fmla="*/ 2269800 w 2593800"/>
              <a:gd name="textAreaTop" fmla="*/ 233280 h 933480"/>
              <a:gd name="textAreaBottom" fmla="*/ 700200 h 933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??????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EFD - Escrituração Fiscal Digital</a:t>
            </a:r>
            <a:br>
              <a:rPr sz="3800"/>
            </a:b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Objetiv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851040" y="2011320"/>
            <a:ext cx="804384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plificar obrigações do contribui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ubstituição de livros fiscais em papel, por arquivos digit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a quem utiliza ou não NF-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smo não utilizando NF-e, será obrigado a impla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te </a:t>
            </a:r>
            <a:r>
              <a:rPr b="0" lang="pt-BR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sped.fazenda.gov.b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EFD - Escrituração Fiscal Digital</a:t>
            </a:r>
            <a:br>
              <a:rPr sz="3800"/>
            </a:b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Objetiv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851040" y="1989000"/>
            <a:ext cx="8043840" cy="34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tribuinte deve informar suas entradas, saídas e apuração, em arquivo digital (leiaute no Ato COTEPE 11/0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documentos e os arquivos da EFD deverão ser armazenados pelo prazo de 5 anos (ICMS e ao IP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EFD - Escrituração Fiscal Digital</a:t>
            </a:r>
            <a:br>
              <a:rPr sz="3800"/>
            </a:b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Iníci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51040" y="2060640"/>
            <a:ext cx="804384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vênio ICMS 54/05 (Todos as UFs, exceto o Paraná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Ato Cotepe 35/0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Ato Cotepe 70/05 (somente PE e DF adotaram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EFD - Escrituração Fiscal Digital</a:t>
            </a:r>
            <a:br>
              <a:rPr sz="3800"/>
            </a:b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Implant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755640" y="1989000"/>
            <a:ext cx="81392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critério de cada UF, a partir de janeiro de 20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a UF irá determinar os prazos de entrega e as empresas obrigadas (iniciar com empresas de lucro re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s arquivos digitais serão obrigatoriamente submetidos a programa validador para validação de conteúdo e assinatura dig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obrigatoriedade de preenchimento dependerá de definição de cada UF, conforme o perfil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EFD - Escrituração Fiscal Digital</a:t>
            </a:r>
            <a:br>
              <a:rPr sz="3800"/>
            </a:b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Implant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26920" y="2131920"/>
            <a:ext cx="7561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possível a substituição do arquivo original, somente na sua íntegra (regras e prazos serão estabelecidos pelas UFs e Receita Feder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ssinatura digital será verificada quanto a sua existência, prazo e validade no início do processo de transmissão do arqui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EFD - Escrituração Fiscal Digital</a:t>
            </a:r>
            <a:br>
              <a:rPr sz="3800"/>
            </a:b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Livros Substituíd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42920" y="1989000"/>
            <a:ext cx="6027840" cy="34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o de Entr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o de Saí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o de Apuração do IC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o de Apuração do I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o de Invent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EFD - Escrituração Fiscal Digital</a:t>
            </a:r>
            <a:br>
              <a:rPr sz="3800"/>
            </a:b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Principais Característic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042920" y="2082960"/>
            <a:ext cx="763272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quivo no formato tex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ecessidade de utilização de certificação digi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crituração individualizada por item e por tributo (ICMS, IPI, PIS e COFIN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vio da escrituração fiscal mensalm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 informações ficam na base de dados do SERP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EFD - Escrituração Fiscal Digital</a:t>
            </a:r>
            <a:br>
              <a:rPr sz="3800"/>
            </a:b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Principais Característic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51040" y="2082960"/>
            <a:ext cx="804384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ssibilidade de cruzamento com as informações contábeis e com a NF-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quivo com organização hierárquica, assim definida pela citação do nível hierárquico ao qual pertence cada regist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linha do arquivo digital deve conter os campos na exata ordem em que estão listados nos respectivos registr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dicação do documento de arrecadação e da autent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4533840" y="3341160"/>
            <a:ext cx="0" cy="259092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82800" bIns="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877080" y="2197080"/>
            <a:ext cx="1942920" cy="4038480"/>
          </a:xfrm>
          <a:custGeom>
            <a:avLst/>
            <a:gdLst>
              <a:gd name="textAreaLeft" fmla="*/ 19440 w 1942920"/>
              <a:gd name="textAreaRight" fmla="*/ 1923480 w 1942920"/>
              <a:gd name="textAreaTop" fmla="*/ 19440 h 4038480"/>
              <a:gd name="textAreaBottom" fmla="*/ 4019040 h 4038480"/>
            </a:gdLst>
            <a:ahLst/>
            <a:rect l="textAreaLeft" t="textAreaTop" r="textAreaRight" b="textAreaBottom"/>
            <a:pathLst>
              <a:path w="21600" h="44893">
                <a:moveTo>
                  <a:pt x="740" y="0"/>
                </a:moveTo>
                <a:arcTo wR="740" hR="740" stAng="16200000" swAng="-5400000"/>
                <a:lnTo>
                  <a:pt x="0" y="44153"/>
                </a:lnTo>
                <a:arcTo wR="740" hR="740" stAng="10800000" swAng="-5400000"/>
                <a:lnTo>
                  <a:pt x="20860" y="44893"/>
                </a:lnTo>
                <a:arcTo wR="740" hR="740" stAng="5400000" swAng="-5400000"/>
                <a:lnTo>
                  <a:pt x="21600" y="740"/>
                </a:lnTo>
                <a:arcTo wR="740" hR="740" stAng="0" swAng="-5400000"/>
                <a:close/>
              </a:path>
            </a:pathLst>
          </a:custGeom>
          <a:gradFill rotWithShape="0">
            <a:gsLst>
              <a:gs pos="0">
                <a:srgbClr val="e5eff6"/>
              </a:gs>
              <a:gs pos="100000">
                <a:srgbClr val="85b2d3"/>
              </a:gs>
            </a:gsLst>
            <a:lin ang="5400000"/>
          </a:gradFill>
          <a:ln w="9360">
            <a:solidFill>
              <a:srgbClr val="558bc1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647640" y="2170080"/>
            <a:ext cx="2362320" cy="4067280"/>
          </a:xfrm>
          <a:custGeom>
            <a:avLst/>
            <a:gdLst>
              <a:gd name="textAreaLeft" fmla="*/ 23400 w 2362320"/>
              <a:gd name="textAreaRight" fmla="*/ 2338920 w 2362320"/>
              <a:gd name="textAreaTop" fmla="*/ 23400 h 4067280"/>
              <a:gd name="textAreaBottom" fmla="*/ 4043880 h 4067280"/>
            </a:gdLst>
            <a:ahLst/>
            <a:rect l="textAreaLeft" t="textAreaTop" r="textAreaRight" b="textAreaBottom"/>
            <a:pathLst>
              <a:path w="21600" h="37187">
                <a:moveTo>
                  <a:pt x="740" y="0"/>
                </a:moveTo>
                <a:arcTo wR="740" hR="740" stAng="16200000" swAng="-5400000"/>
                <a:lnTo>
                  <a:pt x="0" y="36447"/>
                </a:lnTo>
                <a:arcTo wR="740" hR="740" stAng="10800000" swAng="-5400000"/>
                <a:lnTo>
                  <a:pt x="20860" y="37187"/>
                </a:lnTo>
                <a:arcTo wR="740" hR="740" stAng="5400000" swAng="-5400000"/>
                <a:lnTo>
                  <a:pt x="21600" y="740"/>
                </a:lnTo>
                <a:arcTo wR="740" hR="740" stAng="0" swAng="-5400000"/>
                <a:close/>
              </a:path>
            </a:pathLst>
          </a:custGeom>
          <a:gradFill rotWithShape="0">
            <a:gsLst>
              <a:gs pos="0">
                <a:srgbClr val="e5eff6"/>
              </a:gs>
              <a:gs pos="100000">
                <a:srgbClr val="85b2d3"/>
              </a:gs>
            </a:gsLst>
            <a:lin ang="5400000"/>
          </a:gradFill>
          <a:ln w="9360">
            <a:solidFill>
              <a:srgbClr val="558bc1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H="1">
            <a:off x="6133680" y="3036960"/>
            <a:ext cx="1295640" cy="68580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82800" bIns="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81040" y="1828800"/>
            <a:ext cx="2352600" cy="27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edd70b"/>
                </a:solidFill>
                <a:latin typeface="Verdana"/>
              </a:rPr>
              <a:t>Contribui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734240" y="2535120"/>
            <a:ext cx="838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Sa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Catar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3543480" y="2198520"/>
            <a:ext cx="1981080" cy="1295640"/>
          </a:xfrm>
          <a:prstGeom prst="roundRect">
            <a:avLst>
              <a:gd name="adj" fmla="val 3426"/>
            </a:avLst>
          </a:prstGeom>
          <a:gradFill rotWithShape="0">
            <a:gsLst>
              <a:gs pos="0">
                <a:srgbClr val="e5eff6"/>
              </a:gs>
              <a:gs pos="100000">
                <a:srgbClr val="85b2d3"/>
              </a:gs>
            </a:gsLst>
            <a:lin ang="5400000"/>
          </a:gradFill>
          <a:ln w="9360">
            <a:solidFill>
              <a:srgbClr val="558bc1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619440" y="1833480"/>
            <a:ext cx="622440" cy="29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edd70b"/>
                </a:solidFill>
                <a:latin typeface="Verdana"/>
              </a:rPr>
              <a:t>SR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4381560" y="2347920"/>
            <a:ext cx="990720" cy="917280"/>
            <a:chOff x="4381560" y="2347920"/>
            <a:chExt cx="990720" cy="917280"/>
          </a:xfrm>
        </p:grpSpPr>
        <p:sp>
          <p:nvSpPr>
            <p:cNvPr id="201" name="Oval 11"/>
            <p:cNvSpPr/>
            <p:nvPr/>
          </p:nvSpPr>
          <p:spPr>
            <a:xfrm>
              <a:off x="4381560" y="2960640"/>
              <a:ext cx="990720" cy="304560"/>
            </a:xfrm>
            <a:prstGeom prst="ellipse">
              <a:avLst/>
            </a:prstGeom>
            <a:gradFill rotWithShape="0">
              <a:gsLst>
                <a:gs pos="0">
                  <a:srgbClr val="798bbf"/>
                </a:gs>
                <a:gs pos="100000">
                  <a:srgbClr val="eff1f7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Picture 12" descr="servidor_az"/>
            <p:cNvPicPr/>
            <p:nvPr/>
          </p:nvPicPr>
          <p:blipFill>
            <a:blip r:embed="rId1"/>
            <a:stretch/>
          </p:blipFill>
          <p:spPr>
            <a:xfrm>
              <a:off x="4695840" y="2347920"/>
              <a:ext cx="362160" cy="81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AutoShape 13"/>
          <p:cNvSpPr/>
          <p:nvPr/>
        </p:nvSpPr>
        <p:spPr>
          <a:xfrm>
            <a:off x="3543480" y="3798720"/>
            <a:ext cx="1981080" cy="1812960"/>
          </a:xfrm>
          <a:prstGeom prst="roundRect">
            <a:avLst>
              <a:gd name="adj" fmla="val 3426"/>
            </a:avLst>
          </a:prstGeom>
          <a:gradFill rotWithShape="0">
            <a:gsLst>
              <a:gs pos="0">
                <a:srgbClr val="e5eff6"/>
              </a:gs>
              <a:gs pos="100000">
                <a:srgbClr val="85b2d3"/>
              </a:gs>
            </a:gsLst>
            <a:lin ang="5400000"/>
          </a:gradFill>
          <a:ln w="9360">
            <a:solidFill>
              <a:srgbClr val="558bc1"/>
            </a:solidFill>
            <a:miter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3619440" y="2487600"/>
            <a:ext cx="100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Procur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Eletrô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838080" y="2732040"/>
            <a:ext cx="7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Leiau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2095560" y="2747880"/>
            <a:ext cx="838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Banco de D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7"/>
          <p:cNvGrpSpPr/>
          <p:nvPr/>
        </p:nvGrpSpPr>
        <p:grpSpPr>
          <a:xfrm>
            <a:off x="1562040" y="2625480"/>
            <a:ext cx="533520" cy="330480"/>
            <a:chOff x="1562040" y="2625480"/>
            <a:chExt cx="533520" cy="330480"/>
          </a:xfrm>
        </p:grpSpPr>
        <p:sp>
          <p:nvSpPr>
            <p:cNvPr id="208" name="Line 18"/>
            <p:cNvSpPr/>
            <p:nvPr/>
          </p:nvSpPr>
          <p:spPr>
            <a:xfrm>
              <a:off x="1562040" y="2955960"/>
              <a:ext cx="53352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82800" bIns="-82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 flipV="1">
              <a:off x="1562040" y="2625480"/>
              <a:ext cx="1800" cy="33012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82800" bIns="82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 flipV="1">
              <a:off x="2093760" y="2625480"/>
              <a:ext cx="1800" cy="33012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82800" bIns="82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1"/>
          <p:cNvGrpSpPr/>
          <p:nvPr/>
        </p:nvGrpSpPr>
        <p:grpSpPr>
          <a:xfrm>
            <a:off x="1943280" y="2274840"/>
            <a:ext cx="355320" cy="473040"/>
            <a:chOff x="1943280" y="2274840"/>
            <a:chExt cx="355320" cy="473040"/>
          </a:xfrm>
        </p:grpSpPr>
        <p:sp>
          <p:nvSpPr>
            <p:cNvPr id="212" name="AutoShape 22">
              <a:hlinkClick r:id="rId2" action="ppaction://hlinksldjump"/>
            </p:cNvPr>
            <p:cNvSpPr/>
            <p:nvPr/>
          </p:nvSpPr>
          <p:spPr>
            <a:xfrm>
              <a:off x="1943280" y="2274840"/>
              <a:ext cx="355320" cy="473040"/>
            </a:xfrm>
            <a:prstGeom prst="flowChartMagneticDisk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5c1200"/>
                </a:gs>
              </a:gsLst>
              <a:lin ang="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3"/>
            <p:cNvSpPr/>
            <p:nvPr/>
          </p:nvSpPr>
          <p:spPr>
            <a:xfrm>
              <a:off x="1946160" y="2480760"/>
              <a:ext cx="342360" cy="182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24"/>
          <p:cNvSpPr/>
          <p:nvPr/>
        </p:nvSpPr>
        <p:spPr>
          <a:xfrm>
            <a:off x="2781360" y="5942160"/>
            <a:ext cx="16002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82800" bIns="-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5"/>
          <p:cNvSpPr/>
          <p:nvPr/>
        </p:nvSpPr>
        <p:spPr>
          <a:xfrm>
            <a:off x="838080" y="5018040"/>
            <a:ext cx="1943280" cy="1108080"/>
          </a:xfrm>
          <a:prstGeom prst="roundRect">
            <a:avLst>
              <a:gd name="adj" fmla="val 7352"/>
            </a:avLst>
          </a:prstGeom>
          <a:solidFill>
            <a:srgbClr val="ffffe1">
              <a:alpha val="50000"/>
            </a:srgbClr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876240" y="5135400"/>
            <a:ext cx="16765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. Impor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. Digi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. Valid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. Ass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. Visualiz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. Transmi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1828800" y="3468600"/>
            <a:ext cx="0" cy="6667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733400" y="4141800"/>
            <a:ext cx="20988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9" descr="micro2"/>
          <p:cNvPicPr/>
          <p:nvPr/>
        </p:nvPicPr>
        <p:blipFill>
          <a:blip r:embed="rId3"/>
          <a:stretch/>
        </p:blipFill>
        <p:spPr>
          <a:xfrm>
            <a:off x="1714680" y="5400720"/>
            <a:ext cx="869760" cy="455400"/>
          </a:xfrm>
          <a:prstGeom prst="rect">
            <a:avLst/>
          </a:prstGeom>
          <a:ln w="0">
            <a:noFill/>
          </a:ln>
        </p:spPr>
      </p:pic>
      <p:sp>
        <p:nvSpPr>
          <p:cNvPr id="220" name="Line 30"/>
          <p:cNvSpPr/>
          <p:nvPr/>
        </p:nvSpPr>
        <p:spPr>
          <a:xfrm>
            <a:off x="1828800" y="2954160"/>
            <a:ext cx="0" cy="3049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1" descr="cd_versao2"/>
          <p:cNvPicPr/>
          <p:nvPr/>
        </p:nvPicPr>
        <p:blipFill>
          <a:blip r:embed="rId4"/>
          <a:stretch/>
        </p:blipFill>
        <p:spPr>
          <a:xfrm>
            <a:off x="1566720" y="3170160"/>
            <a:ext cx="524160" cy="47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</p:pic>
      <p:sp>
        <p:nvSpPr>
          <p:cNvPr id="222" name="AutoShape 32"/>
          <p:cNvSpPr/>
          <p:nvPr/>
        </p:nvSpPr>
        <p:spPr>
          <a:xfrm>
            <a:off x="774720" y="3846600"/>
            <a:ext cx="971640" cy="609480"/>
          </a:xfrm>
          <a:prstGeom prst="roundRect">
            <a:avLst>
              <a:gd name="adj" fmla="val 7352"/>
            </a:avLst>
          </a:prstGeom>
          <a:solidFill>
            <a:srgbClr val="ffffe1">
              <a:alpha val="50000"/>
            </a:srgbClr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3"/>
          <p:cNvSpPr/>
          <p:nvPr/>
        </p:nvSpPr>
        <p:spPr>
          <a:xfrm>
            <a:off x="723960" y="4135320"/>
            <a:ext cx="1041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Verdana"/>
              </a:rPr>
              <a:t>Representa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Verdana"/>
              </a:rPr>
              <a:t>Leg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4" descr="certificacao"/>
          <p:cNvPicPr/>
          <p:nvPr/>
        </p:nvPicPr>
        <p:blipFill>
          <a:blip r:embed="rId5"/>
          <a:stretch/>
        </p:blipFill>
        <p:spPr>
          <a:xfrm>
            <a:off x="1015920" y="3722760"/>
            <a:ext cx="432000" cy="428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graphicFrame>
        <p:nvGraphicFramePr>
          <p:cNvPr id="225" name="Object 35"/>
          <p:cNvGraphicFramePr/>
          <p:nvPr/>
        </p:nvGraphicFramePr>
        <p:xfrm>
          <a:off x="1943280" y="3846600"/>
          <a:ext cx="83808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Object 3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846600"/>
                    <a:ext cx="838080" cy="609480"/>
                  </a:xfrm>
                  <a:prstGeom prst="rect">
                    <a:avLst/>
                  </a:prstGeom>
                  <a:ln w="9360">
                    <a:solidFill>
                      <a:srgbClr val="cc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Text Box 36"/>
          <p:cNvSpPr/>
          <p:nvPr/>
        </p:nvSpPr>
        <p:spPr>
          <a:xfrm>
            <a:off x="2019240" y="4151160"/>
            <a:ext cx="762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2095560" y="3205080"/>
            <a:ext cx="7621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Arqu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Tex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8"/>
          <p:cNvGrpSpPr/>
          <p:nvPr/>
        </p:nvGrpSpPr>
        <p:grpSpPr>
          <a:xfrm>
            <a:off x="3924360" y="5613840"/>
            <a:ext cx="1180800" cy="547920"/>
            <a:chOff x="3924360" y="5613840"/>
            <a:chExt cx="1180800" cy="547920"/>
          </a:xfrm>
        </p:grpSpPr>
        <p:sp>
          <p:nvSpPr>
            <p:cNvPr id="230" name="Cloud"/>
            <p:cNvSpPr/>
            <p:nvPr/>
          </p:nvSpPr>
          <p:spPr>
            <a:xfrm rot="304200">
              <a:off x="3971520" y="5661000"/>
              <a:ext cx="1088640" cy="453600"/>
            </a:xfrm>
            <a:prstGeom prst="pie">
              <a:avLst/>
            </a:prstGeom>
            <a:gradFill rotWithShape="0">
              <a:gsLst>
                <a:gs pos="0">
                  <a:srgbClr val="e5eff6"/>
                </a:gs>
                <a:gs pos="100000">
                  <a:srgbClr val="85b2d3"/>
                </a:gs>
              </a:gsLst>
              <a:lin ang="5400000"/>
            </a:gradFill>
            <a:ln w="9360">
              <a:solidFill>
                <a:srgbClr val="558bc1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3924360" y="57175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41"/>
          <p:cNvSpPr/>
          <p:nvPr/>
        </p:nvSpPr>
        <p:spPr>
          <a:xfrm>
            <a:off x="3619440" y="3570120"/>
            <a:ext cx="762120" cy="29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edd70b"/>
                </a:solidFill>
                <a:latin typeface="Verdana"/>
              </a:rPr>
              <a:t>S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3619440" y="4011480"/>
            <a:ext cx="100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Recep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Valid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3"/>
          <p:cNvSpPr/>
          <p:nvPr/>
        </p:nvSpPr>
        <p:spPr>
          <a:xfrm>
            <a:off x="3619440" y="4973760"/>
            <a:ext cx="16765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. Arquivo Orig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. Banco de D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Verdana"/>
              </a:rPr>
              <a:t>. Down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4"/>
          <p:cNvSpPr/>
          <p:nvPr/>
        </p:nvSpPr>
        <p:spPr>
          <a:xfrm>
            <a:off x="7327800" y="1833480"/>
            <a:ext cx="927360" cy="29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edd70b"/>
                </a:solidFill>
                <a:latin typeface="Verdana"/>
              </a:rPr>
              <a:t>SEFA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5"/>
          <p:cNvSpPr/>
          <p:nvPr/>
        </p:nvSpPr>
        <p:spPr>
          <a:xfrm flipH="1">
            <a:off x="4838760" y="3722760"/>
            <a:ext cx="1295280" cy="83808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82800" bIns="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381560" y="3951360"/>
            <a:ext cx="990720" cy="917280"/>
            <a:chOff x="4381560" y="3951360"/>
            <a:chExt cx="990720" cy="917280"/>
          </a:xfrm>
        </p:grpSpPr>
        <p:sp>
          <p:nvSpPr>
            <p:cNvPr id="238" name="Oval 47"/>
            <p:cNvSpPr/>
            <p:nvPr/>
          </p:nvSpPr>
          <p:spPr>
            <a:xfrm>
              <a:off x="4381560" y="4564080"/>
              <a:ext cx="990720" cy="304560"/>
            </a:xfrm>
            <a:prstGeom prst="ellipse">
              <a:avLst/>
            </a:prstGeom>
            <a:gradFill rotWithShape="0">
              <a:gsLst>
                <a:gs pos="0">
                  <a:srgbClr val="798bbf"/>
                </a:gs>
                <a:gs pos="100000">
                  <a:srgbClr val="eff1f7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Picture 48" descr="servidor_az"/>
            <p:cNvPicPr/>
            <p:nvPr/>
          </p:nvPicPr>
          <p:blipFill>
            <a:blip r:embed="rId8"/>
            <a:stretch/>
          </p:blipFill>
          <p:spPr>
            <a:xfrm>
              <a:off x="4695840" y="3951360"/>
              <a:ext cx="362160" cy="81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Oval 49"/>
          <p:cNvSpPr/>
          <p:nvPr/>
        </p:nvSpPr>
        <p:spPr>
          <a:xfrm>
            <a:off x="7505640" y="4103640"/>
            <a:ext cx="76320" cy="57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0"/>
          <p:cNvSpPr/>
          <p:nvPr/>
        </p:nvSpPr>
        <p:spPr>
          <a:xfrm>
            <a:off x="7505640" y="4205160"/>
            <a:ext cx="76320" cy="57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51"/>
          <p:cNvSpPr/>
          <p:nvPr/>
        </p:nvSpPr>
        <p:spPr>
          <a:xfrm>
            <a:off x="7505640" y="4307040"/>
            <a:ext cx="76320" cy="56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2"/>
          <p:cNvSpPr/>
          <p:nvPr/>
        </p:nvSpPr>
        <p:spPr>
          <a:xfrm>
            <a:off x="7505640" y="4408560"/>
            <a:ext cx="76320" cy="57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3"/>
          <p:cNvSpPr/>
          <p:nvPr/>
        </p:nvSpPr>
        <p:spPr>
          <a:xfrm>
            <a:off x="7734240" y="5475240"/>
            <a:ext cx="838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S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Pa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4"/>
          <p:cNvSpPr/>
          <p:nvPr/>
        </p:nvSpPr>
        <p:spPr>
          <a:xfrm>
            <a:off x="7061040" y="3525840"/>
            <a:ext cx="838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Mi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Ger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5"/>
          <p:cNvSpPr/>
          <p:nvPr/>
        </p:nvSpPr>
        <p:spPr>
          <a:xfrm flipH="1" flipV="1">
            <a:off x="6133680" y="3722760"/>
            <a:ext cx="1752840" cy="3045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82800" bIns="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6"/>
          <p:cNvSpPr/>
          <p:nvPr/>
        </p:nvSpPr>
        <p:spPr>
          <a:xfrm flipH="1" flipV="1">
            <a:off x="6133680" y="3722760"/>
            <a:ext cx="1676520" cy="129528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82800" bIns="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7"/>
          <p:cNvSpPr/>
          <p:nvPr/>
        </p:nvSpPr>
        <p:spPr>
          <a:xfrm flipH="1" flipV="1">
            <a:off x="6134040" y="3722760"/>
            <a:ext cx="990720" cy="220968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82800" bIns="82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8"/>
          <p:cNvGrpSpPr/>
          <p:nvPr/>
        </p:nvGrpSpPr>
        <p:grpSpPr>
          <a:xfrm>
            <a:off x="5706000" y="3465360"/>
            <a:ext cx="856800" cy="523440"/>
            <a:chOff x="5706000" y="3465360"/>
            <a:chExt cx="856800" cy="523440"/>
          </a:xfrm>
        </p:grpSpPr>
        <p:sp>
          <p:nvSpPr>
            <p:cNvPr id="250" name="Cloud"/>
            <p:cNvSpPr/>
            <p:nvPr/>
          </p:nvSpPr>
          <p:spPr>
            <a:xfrm rot="304200">
              <a:off x="5724000" y="3499920"/>
              <a:ext cx="806400" cy="453960"/>
            </a:xfrm>
            <a:prstGeom prst="pie">
              <a:avLst/>
            </a:prstGeom>
            <a:gradFill rotWithShape="0">
              <a:gsLst>
                <a:gs pos="0">
                  <a:srgbClr val="f2f2e5"/>
                </a:gs>
                <a:gs pos="100000">
                  <a:srgbClr val="cccc99"/>
                </a:gs>
              </a:gsLst>
              <a:lin ang="5400000"/>
            </a:gradFill>
            <a:ln w="9360">
              <a:solidFill>
                <a:srgbClr val="558bc1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0"/>
            <p:cNvSpPr/>
            <p:nvPr/>
          </p:nvSpPr>
          <p:spPr>
            <a:xfrm>
              <a:off x="5724360" y="3558960"/>
              <a:ext cx="838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Verdana"/>
                </a:rPr>
                <a:t>R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61"/>
          <p:cNvGrpSpPr/>
          <p:nvPr/>
        </p:nvGrpSpPr>
        <p:grpSpPr>
          <a:xfrm>
            <a:off x="7658280" y="3265560"/>
            <a:ext cx="990360" cy="917280"/>
            <a:chOff x="7658280" y="3265560"/>
            <a:chExt cx="990360" cy="917280"/>
          </a:xfrm>
        </p:grpSpPr>
        <p:sp>
          <p:nvSpPr>
            <p:cNvPr id="253" name="Oval 62"/>
            <p:cNvSpPr/>
            <p:nvPr/>
          </p:nvSpPr>
          <p:spPr>
            <a:xfrm>
              <a:off x="7658280" y="3878280"/>
              <a:ext cx="990360" cy="304560"/>
            </a:xfrm>
            <a:prstGeom prst="ellipse">
              <a:avLst/>
            </a:prstGeom>
            <a:gradFill rotWithShape="0">
              <a:gsLst>
                <a:gs pos="0">
                  <a:srgbClr val="798bbf"/>
                </a:gs>
                <a:gs pos="100000">
                  <a:srgbClr val="eff1f7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63" descr="servidor_az"/>
            <p:cNvPicPr/>
            <p:nvPr/>
          </p:nvPicPr>
          <p:blipFill>
            <a:blip r:embed="rId9"/>
            <a:stretch/>
          </p:blipFill>
          <p:spPr>
            <a:xfrm>
              <a:off x="7972200" y="3265560"/>
              <a:ext cx="36180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64"/>
          <p:cNvGrpSpPr/>
          <p:nvPr/>
        </p:nvGrpSpPr>
        <p:grpSpPr>
          <a:xfrm>
            <a:off x="7658280" y="4255920"/>
            <a:ext cx="990360" cy="917280"/>
            <a:chOff x="7658280" y="4255920"/>
            <a:chExt cx="990360" cy="917280"/>
          </a:xfrm>
        </p:grpSpPr>
        <p:sp>
          <p:nvSpPr>
            <p:cNvPr id="256" name="Oval 65"/>
            <p:cNvSpPr/>
            <p:nvPr/>
          </p:nvSpPr>
          <p:spPr>
            <a:xfrm>
              <a:off x="7658280" y="4868640"/>
              <a:ext cx="990360" cy="304560"/>
            </a:xfrm>
            <a:prstGeom prst="ellipse">
              <a:avLst/>
            </a:prstGeom>
            <a:gradFill rotWithShape="0">
              <a:gsLst>
                <a:gs pos="0">
                  <a:srgbClr val="798bbf"/>
                </a:gs>
                <a:gs pos="100000">
                  <a:srgbClr val="eff1f7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66" descr="servidor_az"/>
            <p:cNvPicPr/>
            <p:nvPr/>
          </p:nvPicPr>
          <p:blipFill>
            <a:blip r:embed="rId10"/>
            <a:stretch/>
          </p:blipFill>
          <p:spPr>
            <a:xfrm>
              <a:off x="7972200" y="4255920"/>
              <a:ext cx="361800" cy="81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 Box 67"/>
          <p:cNvSpPr/>
          <p:nvPr/>
        </p:nvSpPr>
        <p:spPr>
          <a:xfrm>
            <a:off x="7074000" y="4560840"/>
            <a:ext cx="8380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Ri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Jane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68"/>
          <p:cNvGrpSpPr/>
          <p:nvPr/>
        </p:nvGrpSpPr>
        <p:grpSpPr>
          <a:xfrm>
            <a:off x="6972480" y="2351160"/>
            <a:ext cx="990360" cy="917280"/>
            <a:chOff x="6972480" y="2351160"/>
            <a:chExt cx="990360" cy="917280"/>
          </a:xfrm>
        </p:grpSpPr>
        <p:sp>
          <p:nvSpPr>
            <p:cNvPr id="260" name="Oval 69"/>
            <p:cNvSpPr/>
            <p:nvPr/>
          </p:nvSpPr>
          <p:spPr>
            <a:xfrm>
              <a:off x="6972480" y="2963880"/>
              <a:ext cx="990360" cy="304560"/>
            </a:xfrm>
            <a:prstGeom prst="ellipse">
              <a:avLst/>
            </a:prstGeom>
            <a:gradFill rotWithShape="0">
              <a:gsLst>
                <a:gs pos="0">
                  <a:srgbClr val="798bbf"/>
                </a:gs>
                <a:gs pos="100000">
                  <a:srgbClr val="eff1f7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70" descr="servidor_az"/>
            <p:cNvPicPr/>
            <p:nvPr/>
          </p:nvPicPr>
          <p:blipFill>
            <a:blip r:embed="rId11"/>
            <a:stretch/>
          </p:blipFill>
          <p:spPr>
            <a:xfrm>
              <a:off x="7286400" y="2351160"/>
              <a:ext cx="36180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oup 71"/>
          <p:cNvGrpSpPr/>
          <p:nvPr/>
        </p:nvGrpSpPr>
        <p:grpSpPr>
          <a:xfrm>
            <a:off x="6972480" y="5170320"/>
            <a:ext cx="990360" cy="917280"/>
            <a:chOff x="6972480" y="5170320"/>
            <a:chExt cx="990360" cy="917280"/>
          </a:xfrm>
        </p:grpSpPr>
        <p:sp>
          <p:nvSpPr>
            <p:cNvPr id="263" name="Oval 72"/>
            <p:cNvSpPr/>
            <p:nvPr/>
          </p:nvSpPr>
          <p:spPr>
            <a:xfrm>
              <a:off x="6972480" y="5783040"/>
              <a:ext cx="990360" cy="304560"/>
            </a:xfrm>
            <a:prstGeom prst="ellipse">
              <a:avLst/>
            </a:prstGeom>
            <a:gradFill rotWithShape="0">
              <a:gsLst>
                <a:gs pos="0">
                  <a:srgbClr val="798bbf"/>
                </a:gs>
                <a:gs pos="100000">
                  <a:srgbClr val="eff1f7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73" descr="servidor_az"/>
            <p:cNvPicPr/>
            <p:nvPr/>
          </p:nvPicPr>
          <p:blipFill>
            <a:blip r:embed="rId12"/>
            <a:stretch/>
          </p:blipFill>
          <p:spPr>
            <a:xfrm>
              <a:off x="7286400" y="5170320"/>
              <a:ext cx="361800" cy="81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Picture 74" descr="Fig6"/>
          <p:cNvPicPr/>
          <p:nvPr/>
        </p:nvPicPr>
        <p:blipFill>
          <a:blip r:embed="rId13">
            <a:lum contrast="-12000"/>
          </a:blip>
          <a:stretch/>
        </p:blipFill>
        <p:spPr>
          <a:xfrm>
            <a:off x="990720" y="2314440"/>
            <a:ext cx="723960" cy="393840"/>
          </a:xfrm>
          <a:prstGeom prst="rect">
            <a:avLst/>
          </a:prstGeom>
          <a:ln w="9360">
            <a:solidFill>
              <a:srgbClr val="cccc99"/>
            </a:solidFill>
            <a:miter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09320" y="593640"/>
            <a:ext cx="7069320" cy="7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Escrituração Fiscal Digital</a:t>
            </a:r>
            <a:br>
              <a:rPr sz="3800"/>
            </a:br>
            <a:r>
              <a:rPr b="0" lang="de-DE" sz="3800" spc="-1" strike="noStrike">
                <a:solidFill>
                  <a:srgbClr val="330033"/>
                </a:solidFill>
                <a:latin typeface="Times New Roman"/>
              </a:rPr>
              <a:t>Transmiss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Line 76"/>
          <p:cNvSpPr/>
          <p:nvPr/>
        </p:nvSpPr>
        <p:spPr>
          <a:xfrm flipH="1">
            <a:off x="1828800" y="4141800"/>
            <a:ext cx="6480" cy="13334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9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34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Evolução do processo de emissão de Notas Fiscai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0" name="Picture 3" descr="tinteiroblu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6560" y="2421000"/>
            <a:ext cx="1441440" cy="1233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2195640" y="2268360"/>
            <a:ext cx="5832360" cy="404028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80000"/>
              </a:lnSpc>
              <a:spcAft>
                <a:spcPts val="561"/>
              </a:spcAft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46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Necessidade de AID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46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Emissão de NF (em papel) quando houver o F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46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Uso de cane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46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Blocos para emissão de notas fiscais, numerados pelas 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561"/>
              </a:spcAft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ecano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4680">
              <a:lnSpc>
                <a:spcPct val="80000"/>
              </a:lnSpc>
              <a:spcAft>
                <a:spcPts val="561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Necessidade de AIDF para jogos soltos, numerados previ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4680">
              <a:lnSpc>
                <a:spcPct val="80000"/>
              </a:lnSpc>
              <a:spcAft>
                <a:spcPts val="561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Utiliza máquina de escrev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4680">
              <a:lnSpc>
                <a:spcPct val="80000"/>
              </a:lnSpc>
              <a:spcAft>
                <a:spcPts val="561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Livros feitos datilograficamente, solicitado previamente ao Fi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627280" y="1838160"/>
            <a:ext cx="417672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1"/>
                </a:solidFill>
                <a:latin typeface="Tahoma"/>
              </a:rPr>
              <a:t>Regras do Convênio S/Nº de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maquina-escre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221000"/>
            <a:ext cx="1439640" cy="1060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brother_219-0640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4221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79280" y="189000"/>
            <a:ext cx="87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0033"/>
                </a:solidFill>
                <a:latin typeface="comic"/>
              </a:rPr>
              <a:t>Pesquisa s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6360" y="8730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2 OBJETIVO GERAL E ESPECI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2.1 Objetivo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os principais impactos na contabilidade a partir do surgimento do sistema público de escrituração digital (SP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2.2 Objetivos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Elucidar o que é o SP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escrever o subsistema do SPED, escrituração contábil digital (EC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escrever o subsistema do SPED, escrituração fiscal digital (EF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escrever o subsistema do SPED, nota fiscal eletrônica (NF-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presentar as vantagens para as empresas, contadores e governo com a implantação do novo siste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dentificar as mudanças que impactam na contabilidade a partir da implantação do S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5680" y="417240"/>
            <a:ext cx="706752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Evolução do processo de emissão de Notas Fiscai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484360" y="2268360"/>
            <a:ext cx="6264360" cy="382464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80000"/>
              </a:lnSpc>
              <a:spcAft>
                <a:spcPts val="624"/>
              </a:spcAft>
              <a:buClr>
                <a:srgbClr val="cc33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ele-GroteskHal"/>
              </a:rPr>
              <a:t>Processamento Eletrônic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Necessidade de AID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Uso de computador e impressor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Uso de formulários contínuos não numerados previamente, apenas número de controle (número da NF dado pelo sistem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Regras específicas do Convênio ICMS 57/9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24"/>
              </a:spcAft>
              <a:buClr>
                <a:srgbClr val="cc33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ele-GroteskHal"/>
              </a:rPr>
              <a:t>Laser (impressor e emissor autôno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Necessita de Regime Especi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Necessidade 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09560"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PAF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09560"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AI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Uso de formulários de segurança com número de control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Regras específicas dos Convênios ICMS 58/95 e 57/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85912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1"/>
                </a:solidFill>
                <a:latin typeface="Tahoma"/>
              </a:rPr>
              <a:t>Regras do Convênio S/N de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computador%252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421000"/>
            <a:ext cx="1584360" cy="1303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ML3561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29264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1" descr="logotipo_nfe_nacional"/>
          <p:cNvPicPr/>
          <p:nvPr/>
        </p:nvPicPr>
        <p:blipFill>
          <a:blip r:embed="rId1"/>
          <a:stretch/>
        </p:blipFill>
        <p:spPr>
          <a:xfrm>
            <a:off x="2592360" y="1270080"/>
            <a:ext cx="4356000" cy="41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8560" y="574200"/>
            <a:ext cx="70866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SPED Fiscal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scrituração Fiscal Digit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2484360" y="2328840"/>
            <a:ext cx="597528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Implantar um modelo nacional de documento fiscal eletrônic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Substituir nota fiscal modelo 1 ou 1-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cc99"/>
                </a:solidFill>
                <a:latin typeface="Tele-GroteskHal"/>
                <a:ea typeface="Arial"/>
              </a:rPr>
              <a:t>Implan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2006 - Início de forma gradual para as empresas do Piloto (19 empresas e 5 Estado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2007 - Massificação (entrada de novas empresas e Estado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2008 - Obrigatoriedade para o setor de combustíveis líquidos e cigarros a partir de abril de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cc99"/>
                </a:solidFill>
                <a:latin typeface="Tele-GroteskHal"/>
                <a:ea typeface="Arial"/>
              </a:rPr>
              <a:t>Legis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Ajuste SINIEF 07/0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Ato COTEPE 14/0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Anexo 11 do RICMS-SC/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307512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Nota Fiscal eletrônica – NF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logotipo_nfe_nacion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556000" cy="24494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2614680" y="2282760"/>
            <a:ext cx="5773680" cy="381024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80000"/>
              </a:lnSpc>
              <a:spcAft>
                <a:spcPts val="751"/>
              </a:spcAft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ele-GroteskHal"/>
              </a:rPr>
              <a:t>Eletrônico (processo vir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ele-GroteskHal"/>
                <a:ea typeface="Arial"/>
              </a:rPr>
              <a:t>Nova modalidade de emissão (Documento virtu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ele-GroteskHal"/>
                <a:ea typeface="Arial"/>
              </a:rPr>
              <a:t>Autorização em cada nota fi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ele-GroteskHal"/>
                <a:ea typeface="Arial"/>
              </a:rPr>
              <a:t>O sistema coloca a numer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ele-GroteskHal"/>
                <a:ea typeface="Arial"/>
              </a:rPr>
              <a:t>A circulação da mercadoria ocorre apenas com uma representação gráfica da nota fiscal (DANFE), impresso em papel A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ele-GroteskH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ele-GroteskHal"/>
                <a:ea typeface="Arial"/>
              </a:rPr>
              <a:t>Livros elaborados digi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293040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Ajuste SINIEF 07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lta2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960" y="2421000"/>
            <a:ext cx="2011320" cy="28796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38400" y="404280"/>
            <a:ext cx="706896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-e – Nota Fiscal Eletrônic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38400" y="842760"/>
            <a:ext cx="706896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NF-e – Nota Fiscal Eletrônica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411280" y="2282760"/>
            <a:ext cx="5905800" cy="381024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lnSpc>
                <a:spcPct val="100000"/>
              </a:lnSpc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ele-GroteskHal"/>
              </a:rPr>
              <a:t>Dezembro/03 – Emenda Constitucional 42/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“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Art. 37 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XXII - as administrações tributárias da </a:t>
            </a:r>
            <a:r>
              <a:rPr b="0" lang="pt-BR" sz="1600" spc="-1" strike="noStrike">
                <a:solidFill>
                  <a:srgbClr val="ff0000"/>
                </a:solidFill>
                <a:latin typeface="Tele-GroteskHal"/>
              </a:rPr>
              <a:t>União, dos Estados, do Distrito Federal e dos Municípios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, atividades essenciais ao funcionamento do Estado, exercidas por servidores de carreiras específicas, terão </a:t>
            </a:r>
            <a:r>
              <a:rPr b="0" lang="pt-BR" sz="1600" spc="-1" strike="noStrike">
                <a:solidFill>
                  <a:srgbClr val="ff0000"/>
                </a:solidFill>
                <a:latin typeface="Tele-GroteskHal"/>
              </a:rPr>
              <a:t>recursos prioritários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para a </a:t>
            </a:r>
            <a:r>
              <a:rPr b="0" lang="pt-BR" sz="1600" spc="-1" strike="noStrike">
                <a:solidFill>
                  <a:srgbClr val="ff0000"/>
                </a:solidFill>
                <a:latin typeface="Tele-GroteskHal"/>
              </a:rPr>
              <a:t>realização 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de suas </a:t>
            </a:r>
            <a:r>
              <a:rPr b="0" lang="pt-BR" sz="1600" spc="-1" strike="noStrike">
                <a:solidFill>
                  <a:srgbClr val="ff0000"/>
                </a:solidFill>
                <a:latin typeface="Tele-GroteskHal"/>
              </a:rPr>
              <a:t>atividades e atuarão de forma integrada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, inclusive com o compartilhamento de cadastros e de informações fiscais, na forma da lei ou convênio.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55600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Hist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capa_2_Constitui__o_1998_01_0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997360"/>
            <a:ext cx="204948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9363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NF-e – Nota Fiscal Eletrônica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5" name="Picture 5" descr="ENC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5734080"/>
            <a:ext cx="1600200" cy="7207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684360" y="2206800"/>
            <a:ext cx="7848360" cy="273492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lnSpc>
                <a:spcPct val="100000"/>
              </a:lnSpc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rço/06 – Lançamento do Piloto da NFe e convite as empresas para participarem do SPED Contábil e Fis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etembro/06 - emissão da 1ª NF-e com validade jurídic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bril/08 - obrigatoriedade do uso da NFe para empresas do setor de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combustíveis líquidos e cigarro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 u="sng">
                <a:solidFill>
                  <a:srgbClr val="b2b2b2"/>
                </a:solidFill>
                <a:uFillTx/>
                <a:latin typeface="Tahoma"/>
              </a:rPr>
              <a:t>A partir de Setembro/08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, mais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ahoma"/>
              </a:rPr>
              <a:t>9 setores estarão obrigado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) fabricantes de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automóvei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, camionetes, utilitários, caminhões, ônibus e motocicletas;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48436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Hist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A_99571d8b5d0caa850b3b5166e971934alogo_receita_feder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51240" y="5686560"/>
            <a:ext cx="1434960" cy="75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9363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NF-e – Nota Fiscal Eletrônica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0" name="Picture 3" descr="ENC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5734080"/>
            <a:ext cx="1600200" cy="7207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684360" y="2206800"/>
            <a:ext cx="7848360" cy="273492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b) fabricantes de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cimento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) fabricantes, distribuidores e comerciante atacadista de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medicamentos alopático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para uso huma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frigoríficos e atacadista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que promoverem a saída de carnes frescas, refrigeradas ou congeladas das espécies bovina, suína, bufalina e aví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) fabricantes de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bebidas alcoólica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inclusive cervejas e chop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) fabricantes de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refrigerante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g) agentes que assumem o papel de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fornecedores de energia elétric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, no âmbito da Câmara de Comercialização de Energia Elétrica – CCEE;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48436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Hist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A_99571d8b5d0caa850b3b5166e971934alogo_receita_feder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51240" y="5686560"/>
            <a:ext cx="1434960" cy="7506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8"/>
          <p:cNvSpPr/>
          <p:nvPr/>
        </p:nvSpPr>
        <p:spPr>
          <a:xfrm>
            <a:off x="2340000" y="6580080"/>
            <a:ext cx="69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rof. Msc. Marino Luiz Eyerkaufer &amp; Esp. ControladoriaJurandir Dungersle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9363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NF-e – Nota Fiscal Eletrônica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84360" y="2206800"/>
            <a:ext cx="8135640" cy="273492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h) fabricantes de semi-acabados, laminados planos ou longos, relaminados, trefilados e perfilados de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aço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) fabricantes de </a:t>
            </a:r>
            <a:r>
              <a:rPr b="0" i="1" lang="pt-BR" sz="1800" spc="-1" strike="noStrike">
                <a:solidFill>
                  <a:srgbClr val="b2b2b2"/>
                </a:solidFill>
                <a:latin typeface="Tahoma"/>
              </a:rPr>
              <a:t>ferro-gus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cc0000"/>
                </a:solidFill>
                <a:uFillTx/>
                <a:latin typeface="Tahoma"/>
              </a:rPr>
              <a:t>A obrigatoriedade de emissão de NF-e não se aplica (Protocolo ICMS 88/0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 - ao estabelecimento do contribuinte de combustíveis líquidos e cigarros e aos obrigados a partir de set/2008 onde não se pratique e nem se tenha praticado as atividades há pelo menos 12 meses, ainda que estas sejam realizadas em outros estabelecimentos do mesmo titul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I – aos fabricantes e distribuidores de cigarros, às operações realizadas fora do estabelecimento, relativas às saídas de mercadorias remetidas sem destinatário certo, desde que os documentos fiscais relativos à remessa e ao retorno sejam NF-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248436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Hist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9363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NF-e – Nota Fiscal Eletrônica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84360" y="2709720"/>
            <a:ext cx="8135640" cy="273528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II – em se tratando de distribuidores de cigarros, às operações praticadas por contribuinte que tenha como atividade preponderante o comércio atacadista, desde que o valor das operações com cigarros não ultrapasse 5% (cinco por cento) do valor total das saídas nos últimos (12) doze meses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V – ao fabricante de aguardente (cachaça) e vinho que aufira receita bruta anual inferior a R$ 360.000,00 (trezentos e sessenta mil) re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 u="sng">
                <a:solidFill>
                  <a:srgbClr val="cc0000"/>
                </a:solidFill>
                <a:uFillTx/>
                <a:latin typeface="Tahoma"/>
              </a:rPr>
              <a:t>Base legal:</a:t>
            </a:r>
            <a:r>
              <a:rPr b="0" i="1" lang="pt-BR" sz="1800" spc="-1" strike="noStrike">
                <a:solidFill>
                  <a:srgbClr val="cc0000"/>
                </a:solidFill>
                <a:latin typeface="Tahoma"/>
              </a:rPr>
              <a:t> § 3º do art. 23 do Anexo 11 do RICMS-SC/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48436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Hist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enefíc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58920" y="2133720"/>
            <a:ext cx="727380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Para o Vendedor (Emissor NF-e) e Comprador (Receptor NF-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Redu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de custos de armazenagem de documentos fiscai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Diminui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da Concorrência desle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Incentivo a uso de relacionamentos eletrônicos com clientes (B2B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Diminui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custo impressão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Elimina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de digita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f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924280"/>
            <a:ext cx="1392120" cy="1512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dinheir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508640"/>
            <a:ext cx="13082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9636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Projeto SPED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istema Público de Escrituração Digita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429000" y="2922480"/>
            <a:ext cx="4743360" cy="309888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ubstituição da emissão de livros e documentos contábeis e fiscais em papel por documentos eletrô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51280" y="1844640"/>
            <a:ext cx="3103560" cy="324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100080" y="2941560"/>
          <a:ext cx="260028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2941560"/>
                    <a:ext cx="260028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enefíc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1859040" y="2421000"/>
            <a:ext cx="59529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Para as Administrações Tributári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Aperfei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oamento dos processos de controle fisc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Maior confiabilidade da Nota Fisc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Compartilhamento e redu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da redundância de informa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õe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Redu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de custos no processo de fiscaliza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em trânsi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Para a Socieda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du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ç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ão do Custo Bras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eserv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ç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ão do me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f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492280"/>
            <a:ext cx="1459080" cy="158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dinheir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80000" y="4510080"/>
            <a:ext cx="1260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-e (Nota Fiscal Eletrônica)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fini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20" name="Picture 15" descr="020131_cigarrosouza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5516640"/>
            <a:ext cx="1301760" cy="78588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"/>
          <p:cNvSpPr/>
          <p:nvPr/>
        </p:nvSpPr>
        <p:spPr>
          <a:xfrm>
            <a:off x="468360" y="1989000"/>
            <a:ext cx="604836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460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ele-GroteskFe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ele-GroteskFet"/>
              </a:rPr>
              <a:t>É um documento emitido e armazenado eletronicamente, </a:t>
            </a:r>
            <a:r>
              <a:rPr b="0" lang="pt-BR" sz="2000" spc="-1" strike="noStrike">
                <a:solidFill>
                  <a:srgbClr val="cc3300"/>
                </a:solidFill>
                <a:latin typeface="Tele-GroteskFet"/>
              </a:rPr>
              <a:t>de existência apenas</a:t>
            </a:r>
            <a:r>
              <a:rPr b="0" lang="pt-BR" sz="2000" spc="-1" strike="noStrike">
                <a:solidFill>
                  <a:srgbClr val="330033"/>
                </a:solidFill>
                <a:latin typeface="Tele-GroteskFet"/>
              </a:rPr>
              <a:t> </a:t>
            </a:r>
            <a:r>
              <a:rPr b="0" lang="pt-BR" sz="2000" spc="-1" strike="noStrike">
                <a:solidFill>
                  <a:srgbClr val="cc3300"/>
                </a:solidFill>
                <a:latin typeface="Tele-GroteskFet"/>
              </a:rPr>
              <a:t>digital</a:t>
            </a:r>
            <a:r>
              <a:rPr b="0" lang="pt-BR" sz="2000" spc="-1" strike="noStrike">
                <a:solidFill>
                  <a:srgbClr val="000000"/>
                </a:solidFill>
                <a:latin typeface="Tele-GroteskFet"/>
              </a:rPr>
              <a:t>, com o intuito de documentar uma operação de circulação de mercadorias ou prestação de serviços ocorrida entre as partes, cuja validade jurídica é garantida pela </a:t>
            </a:r>
            <a:r>
              <a:rPr b="0" lang="pt-BR" sz="2000" spc="-1" strike="noStrike">
                <a:solidFill>
                  <a:srgbClr val="cc3300"/>
                </a:solidFill>
                <a:latin typeface="Tele-GroteskFet"/>
              </a:rPr>
              <a:t>assinatura digital</a:t>
            </a:r>
            <a:r>
              <a:rPr b="0" lang="pt-BR" sz="2000" spc="-1" strike="noStrike">
                <a:solidFill>
                  <a:srgbClr val="000000"/>
                </a:solidFill>
                <a:latin typeface="Tele-GroteskFet"/>
              </a:rPr>
              <a:t> do emitente e recepção, pelo fisco, </a:t>
            </a:r>
            <a:r>
              <a:rPr b="0" lang="pt-BR" sz="2000" spc="-1" strike="noStrike">
                <a:solidFill>
                  <a:srgbClr val="cc3300"/>
                </a:solidFill>
                <a:latin typeface="Tele-GroteskFet"/>
              </a:rPr>
              <a:t>antes </a:t>
            </a:r>
            <a:r>
              <a:rPr b="0" lang="pt-BR" sz="2000" spc="-1" strike="noStrike">
                <a:solidFill>
                  <a:srgbClr val="000000"/>
                </a:solidFill>
                <a:latin typeface="Tele-GroteskFet"/>
              </a:rPr>
              <a:t>da ocorrência do Fato Ge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8" descr="vw_G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5445000"/>
            <a:ext cx="1871640" cy="1168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3" descr="komb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91440" y="2203560"/>
            <a:ext cx="2160360" cy="1104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6" descr="prod_1212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67440" y="4105440"/>
            <a:ext cx="15130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-e (Nota Fiscal Eletrônica)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jeti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26" name="Picture 4" descr="020131_cigarrosouza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5373720"/>
            <a:ext cx="1301760" cy="7858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468360" y="2133720"/>
            <a:ext cx="6048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4600" indent="-17460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antar um modelo nacional de documento fiscal eletrôn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stituir a sistemática atual do documento em pap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talecer o controle e fisca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mplificar obrigações acessórias do contrib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ir o controle em tempo real das operações comerciais pelo Fi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vw_G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77080" y="2205000"/>
            <a:ext cx="1871640" cy="1168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komb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5157720"/>
            <a:ext cx="2592360" cy="1203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prod_1212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20000" y="393372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Legisl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2039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cc3300"/>
                </a:solidFill>
                <a:latin typeface="Arial"/>
              </a:rPr>
              <a:t>Naci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juste SINIEF 07/05 e altera</a:t>
            </a:r>
            <a:r>
              <a:rPr b="0" lang="pt-BR" sz="1700" spc="-1" strike="noStrike">
                <a:solidFill>
                  <a:srgbClr val="000000"/>
                </a:solidFill>
                <a:latin typeface="Tele-GroteskH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õe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to COTEPE 14/07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rotocolo ICMS 10/07 e altera</a:t>
            </a:r>
            <a:r>
              <a:rPr b="0" lang="pt-BR" sz="1700" spc="-1" strike="noStrike">
                <a:solidFill>
                  <a:srgbClr val="000000"/>
                </a:solidFill>
                <a:latin typeface="Tele-GroteskH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õe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rotocolo ICMS 55/07 e altera</a:t>
            </a:r>
            <a:r>
              <a:rPr b="0" lang="pt-BR" sz="1700" spc="-1" strike="noStrike">
                <a:solidFill>
                  <a:srgbClr val="000000"/>
                </a:solidFill>
                <a:latin typeface="Tele-GroteskH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õ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cc3300"/>
                </a:solidFill>
                <a:latin typeface="Arial"/>
              </a:rPr>
              <a:t>Estado de Santa Catari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rt. 15, inc. I, alínea "i", do Anexo 5, do RICMS-SC/01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rt. 1º, do Anexo 11, do RICMS-SC/0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ortaria SEF nº 189/2007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cc3300"/>
                </a:solidFill>
                <a:latin typeface="Arial"/>
              </a:rPr>
              <a:t>Sites de Consul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ortal Nacional </a:t>
            </a:r>
            <a:r>
              <a:rPr b="0" lang="pt-BR" sz="17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nfe.fazenda.gov.b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ite Estado de Santa Catarina http://nfe.sef.sc.gov.b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Novas disposi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63272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quivo digital no padrão XML (Extended Markup Language);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 de arquivo XML:</a:t>
            </a:r>
            <a:br>
              <a:rPr sz="1800"/>
            </a:br>
            <a:br>
              <a:rPr sz="1800"/>
            </a:br>
            <a:r>
              <a:rPr b="0" lang="pt-BR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sefaz.rs.gov.br/SEF_ROOT/inf/SEF-NFE_informacoe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numeração da NF-e será de 1 a 999.999.999, por estabelecimento e por série, devendo ser reiniciada quando atingido esse limi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Novas disposi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2039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NF-e deve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onter chave de acesso (44 caracteres), contendo código numérico aleatório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er assinada com assinatura digital (padrão ICP-Brasil), contendo o CNPJ do emitente ou da matri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 a emissão da NF-e, o contribuinte pode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Utilizar "software" desenvolvido ou adquirido por el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Utilizar "software" disponibilizado pela Secretaria da Fazenda, no endereço eletrônico </a:t>
            </a:r>
            <a:br>
              <a:rPr sz="1700"/>
            </a:br>
            <a:r>
              <a:rPr b="0" lang="pt-BR" sz="17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nfe.fazenda.gov.br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ou</a:t>
            </a:r>
            <a:br>
              <a:rPr sz="1700"/>
            </a:br>
            <a:r>
              <a:rPr b="0" lang="pt-BR" sz="17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nfe.sef.sc.gov.br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Adotar séries distintas, mediante lavratura de termo no livro modelo 6 (RUDFTO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redenci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122560" y="1927080"/>
            <a:ext cx="669744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2840" indent="-312840">
              <a:spcBef>
                <a:spcPts val="349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pt-BR" sz="1400" spc="-1" strike="noStrike">
                <a:solidFill>
                  <a:srgbClr val="cc3300"/>
                </a:solidFill>
                <a:latin typeface="Arial"/>
              </a:rPr>
              <a:t>Portaria SEF 189/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solicitação de credenciamento como emissor de NF-e se dará pelo contabilista ou escritório contábil responsável pela escrita fiscal ou contábil do contribuinte, eletronicamente, através do aplicativo </a:t>
            </a:r>
            <a:r>
              <a:rPr b="1" lang="pt-BR" sz="1200" spc="-1" strike="noStrike">
                <a:solidFill>
                  <a:srgbClr val="0000ff"/>
                </a:solidFill>
                <a:latin typeface="Arial"/>
              </a:rPr>
              <a:t>TTD - Tratamento Tributário Diferenciado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disponível no S@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2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Arial"/>
              </a:rPr>
              <a:t>Somente poderá ser credenciado o contribuinte que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) seja usuário de sistema eletrônico de processamento de dados;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b) esteja relacionado na obrigatoriedade prevista no RICMS/SC, Anexo 11, art. 23, I, mesmo não sendo usuário de processamento de dados;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) possua estabelecimento em mais de uma Unidade da Federação, </a:t>
            </a:r>
            <a:r>
              <a:rPr b="1" lang="pt-BR" sz="1200" spc="-1" strike="noStrike">
                <a:solidFill>
                  <a:srgbClr val="cc0000"/>
                </a:solidFill>
                <a:latin typeface="Arial"/>
              </a:rPr>
              <a:t>ou se não possuir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, desde que o SEFAZ VIRTUAL/RS tenha disponibilidade para atendimento;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) opte pela emissão da NF-e em substituição ao Número Seqüencial Único - N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 algn="just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logo_nacional_do_projeto"/>
          <p:cNvPicPr/>
          <p:nvPr/>
        </p:nvPicPr>
        <p:blipFill>
          <a:blip r:embed="rId1"/>
          <a:stretch/>
        </p:blipFill>
        <p:spPr>
          <a:xfrm>
            <a:off x="468360" y="3141720"/>
            <a:ext cx="16556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redenci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124000" y="1927080"/>
            <a:ext cx="62643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2840" indent="-312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3300"/>
                </a:solidFill>
                <a:latin typeface="Arial"/>
              </a:rPr>
              <a:t>Portaria SEF 189/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O credenciamento será composto de </a:t>
            </a:r>
            <a:r>
              <a:rPr b="0" lang="pt-BR" sz="1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 fases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ª fase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: A primeira, de acesso ao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ambiente de testes e emissão em paralelo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, compreende testes qualitativos e quantitativos, em ambiente de homologação, com autenticação mútua de servidores, assinatura digital, comunicação com web services, verificação e validação da linguagem de marcação utilizada, com geração das NF-e ainda sem valor legal e respectivos DANFE impressos com a expressão "SEM VALOR FISCAL“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ª fase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: produção, compreende a geração das NF-e em ambiente de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produção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 e os respectivos DANFE, emitidos após a autorização de uso, já possuindo todos os requisitos legais e fiscais, iniciando-se somente após o deferimento do Pedido de Credenciamento Final como emissor de NF-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logo_nacional_do_projeto"/>
          <p:cNvPicPr/>
          <p:nvPr/>
        </p:nvPicPr>
        <p:blipFill>
          <a:blip r:embed="rId1"/>
          <a:stretch/>
        </p:blipFill>
        <p:spPr>
          <a:xfrm>
            <a:off x="468360" y="3141720"/>
            <a:ext cx="16556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redenci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476360" y="1844640"/>
            <a:ext cx="72723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2840" indent="-312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Portaria SEF 189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A SEF/SC fará o credenciamento final somente após parecer técnico favorável da SEFAZ VIRTUAL/RS, aprovando a fase de testes e emissão simultâne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O credenciamento final somente será concedido à empresa com situação cadastral regul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É vedada a emissão de nota fiscal modelo 1 ou 1-A ao contribuinte credenciado à emissão de NF-e, exceto nas seguintes hipótes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a) Na impossibilidade de transmissão da NF-e ou obtenção de resposta à solicitação de Autorização de Uso da NF-e, em decorrência de </a:t>
            </a:r>
            <a:r>
              <a:rPr b="1" i="1" lang="pt-BR" sz="1700" spc="-1" strike="noStrike">
                <a:solidFill>
                  <a:srgbClr val="cc00cc"/>
                </a:solidFill>
                <a:latin typeface="Arial"/>
                <a:ea typeface="Arial"/>
              </a:rPr>
              <a:t>problemas técnicos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b) Na </a:t>
            </a:r>
            <a:r>
              <a:rPr b="1" i="1" lang="pt-BR" sz="1700" spc="-1" strike="noStrike">
                <a:solidFill>
                  <a:srgbClr val="9900cc"/>
                </a:solidFill>
                <a:latin typeface="Arial"/>
                <a:ea typeface="Arial"/>
              </a:rPr>
              <a:t>fase de implantação do sistema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 no estabelecimento credencia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logo_nacional_do_projeto"/>
          <p:cNvPicPr/>
          <p:nvPr/>
        </p:nvPicPr>
        <p:blipFill>
          <a:blip r:embed="rId1"/>
          <a:stretch/>
        </p:blipFill>
        <p:spPr>
          <a:xfrm>
            <a:off x="324000" y="3141720"/>
            <a:ext cx="16556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redenci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1835280" y="1844640"/>
            <a:ext cx="62640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2840" indent="-312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3300"/>
                </a:solidFill>
                <a:latin typeface="Arial"/>
              </a:rPr>
              <a:t>Empresas que iniciaram o Credenciamento da emissão de NF-e em SC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755640" y="2178000"/>
            <a:ext cx="7129440" cy="4130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9"/>
          <p:cNvSpPr/>
          <p:nvPr/>
        </p:nvSpPr>
        <p:spPr>
          <a:xfrm>
            <a:off x="2340000" y="6580080"/>
            <a:ext cx="698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0120" y="396360"/>
            <a:ext cx="7878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Projeto SPED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istema Público de Escrituração Digita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348000" y="2201760"/>
            <a:ext cx="5111640" cy="331488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mover atuação integrada dos f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entralização da inform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Racionalizar e uniformizar as obrigações acessórias para os contribui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ntregar um único arquiv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Tornar mais célere a identificação de ilícitos tribut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ossibilidade de cruzamento das informações entreg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851280" y="1844640"/>
            <a:ext cx="3103560" cy="324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1440" y="2438280"/>
          <a:ext cx="2600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2438280"/>
                    <a:ext cx="2600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5"/>
          <p:cNvSpPr/>
          <p:nvPr/>
        </p:nvSpPr>
        <p:spPr>
          <a:xfrm>
            <a:off x="5435640" y="2997360"/>
            <a:ext cx="3457440" cy="3240000"/>
          </a:xfrm>
          <a:prstGeom prst="rect">
            <a:avLst/>
          </a:prstGeom>
          <a:noFill/>
          <a:ln w="25560">
            <a:solidFill>
              <a:srgbClr val="cc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0033"/>
                </a:solidFill>
                <a:latin typeface="Tele-GroteskH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Tele-GroteskHal"/>
              </a:rPr>
              <a:t>2ª fase do proj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91960"/>
                <a:tab algn="l" pos="571680"/>
                <a:tab algn="l" pos="863640"/>
                <a:tab algn="l" pos="1143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Emiss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AutoShape 3"/>
          <p:cNvSpPr/>
          <p:nvPr/>
        </p:nvSpPr>
        <p:spPr>
          <a:xfrm>
            <a:off x="1103400" y="2990880"/>
            <a:ext cx="228600" cy="2114640"/>
          </a:xfrm>
          <a:prstGeom prst="downArrow">
            <a:avLst>
              <a:gd name="adj1" fmla="val 50000"/>
              <a:gd name="adj2" fmla="val 2312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2052720" y="5824440"/>
            <a:ext cx="1727280" cy="311400"/>
          </a:xfrm>
          <a:prstGeom prst="rightArrow">
            <a:avLst>
              <a:gd name="adj1" fmla="val 50000"/>
              <a:gd name="adj2" fmla="val 13867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780000" y="5249880"/>
            <a:ext cx="1630080" cy="1131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Situação cadast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Credencia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Assinatura Digi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Esquema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330033"/>
                </a:solidFill>
                <a:latin typeface="Arial"/>
              </a:rPr>
              <a:t>Numer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5546880" y="5537160"/>
            <a:ext cx="1473120" cy="309600"/>
          </a:xfrm>
          <a:prstGeom prst="rightArrow">
            <a:avLst>
              <a:gd name="adj1" fmla="val 50000"/>
              <a:gd name="adj2" fmla="val 11895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2195640" y="2441520"/>
            <a:ext cx="1368360" cy="260280"/>
          </a:xfrm>
          <a:prstGeom prst="rightArrow">
            <a:avLst>
              <a:gd name="adj1" fmla="val 50000"/>
              <a:gd name="adj2" fmla="val 13143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803680" y="2077920"/>
            <a:ext cx="2743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irculação da mercadoria com o DA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1717560" y="4070520"/>
            <a:ext cx="1486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4) Contribuinte recebe Autorização de U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3306600" y="3033720"/>
            <a:ext cx="2057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5) Transporte da Mercado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84360" y="616572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cc99"/>
                </a:solidFill>
                <a:latin typeface="Tele-GroteskHal"/>
              </a:rPr>
              <a:t>SEF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2"/>
          <p:cNvSpPr/>
          <p:nvPr/>
        </p:nvSpPr>
        <p:spPr>
          <a:xfrm rot="10800000">
            <a:off x="1476000" y="2946240"/>
            <a:ext cx="360360" cy="2159280"/>
          </a:xfrm>
          <a:prstGeom prst="downArrow">
            <a:avLst>
              <a:gd name="adj1" fmla="val 50000"/>
              <a:gd name="adj2" fmla="val 1498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3"/>
          <p:cNvSpPr/>
          <p:nvPr/>
        </p:nvSpPr>
        <p:spPr>
          <a:xfrm rot="10800000">
            <a:off x="7596000" y="2997360"/>
            <a:ext cx="215640" cy="1584000"/>
          </a:xfrm>
          <a:prstGeom prst="downArrow">
            <a:avLst>
              <a:gd name="adj1" fmla="val 50000"/>
              <a:gd name="adj2" fmla="val 1836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5724360" y="4287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0033"/>
                </a:solidFill>
                <a:latin typeface="Arial"/>
              </a:rPr>
              <a:t>Possibilidade de Fiscaliz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1089000" y="1125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39640" y="1901880"/>
            <a:ext cx="208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484200" y="2084400"/>
            <a:ext cx="1633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9" descr=""/>
          <p:cNvPicPr/>
          <p:nvPr/>
        </p:nvPicPr>
        <p:blipFill>
          <a:blip r:embed="rId1"/>
          <a:stretch/>
        </p:blipFill>
        <p:spPr>
          <a:xfrm>
            <a:off x="3564000" y="2305080"/>
            <a:ext cx="1708200" cy="6634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1" descr=""/>
          <p:cNvPicPr/>
          <p:nvPr/>
        </p:nvPicPr>
        <p:blipFill>
          <a:blip r:embed="rId2"/>
          <a:stretch/>
        </p:blipFill>
        <p:spPr>
          <a:xfrm>
            <a:off x="755640" y="2224080"/>
            <a:ext cx="1390680" cy="704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2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0" y="2762280"/>
            <a:ext cx="360" cy="36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4" descr="bl00985_"/>
          <p:cNvPicPr/>
          <p:nvPr/>
        </p:nvPicPr>
        <p:blipFill>
          <a:blip r:embed="rId3"/>
          <a:stretch/>
        </p:blipFill>
        <p:spPr>
          <a:xfrm>
            <a:off x="7020000" y="2244600"/>
            <a:ext cx="1257120" cy="7477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6" descr=""/>
          <p:cNvPicPr/>
          <p:nvPr/>
        </p:nvPicPr>
        <p:blipFill>
          <a:blip r:embed="rId4"/>
          <a:stretch/>
        </p:blipFill>
        <p:spPr>
          <a:xfrm>
            <a:off x="865080" y="5038560"/>
            <a:ext cx="1114560" cy="12193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27"/>
          <p:cNvSpPr/>
          <p:nvPr/>
        </p:nvSpPr>
        <p:spPr>
          <a:xfrm>
            <a:off x="611280" y="199080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Vendedor Emissor d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6877080" y="1982880"/>
            <a:ext cx="2016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omprador Receptor d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108000" y="2900520"/>
            <a:ext cx="116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1)Envio da NFe (arquivo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272880" y="4149720"/>
            <a:ext cx="9144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2) SEFAZ Receb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1"/>
          <p:cNvSpPr/>
          <p:nvPr/>
        </p:nvSpPr>
        <p:spPr>
          <a:xfrm>
            <a:off x="5435640" y="2468520"/>
            <a:ext cx="1584360" cy="260280"/>
          </a:xfrm>
          <a:prstGeom prst="rightArrow">
            <a:avLst>
              <a:gd name="adj1" fmla="val 50000"/>
              <a:gd name="adj2" fmla="val 15217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2"/>
          <p:cNvSpPr/>
          <p:nvPr/>
        </p:nvSpPr>
        <p:spPr>
          <a:xfrm>
            <a:off x="7059600" y="4600440"/>
            <a:ext cx="125748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 u="sng">
                <a:solidFill>
                  <a:srgbClr val="330033"/>
                </a:solidFill>
                <a:uFillTx/>
                <a:latin typeface="Arial"/>
              </a:rPr>
              <a:t>Pós Valid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oerência das informaçõ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ruzamento de d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2222640" y="5659560"/>
            <a:ext cx="1485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3) Valid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5546880" y="3016080"/>
            <a:ext cx="33685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36"/>
          <p:cNvSpPr/>
          <p:nvPr/>
        </p:nvSpPr>
        <p:spPr>
          <a:xfrm rot="10800000">
            <a:off x="2052720" y="5320800"/>
            <a:ext cx="1727280" cy="311400"/>
          </a:xfrm>
          <a:prstGeom prst="rightArrow">
            <a:avLst>
              <a:gd name="adj1" fmla="val 50000"/>
              <a:gd name="adj2" fmla="val 13867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7"/>
          <p:cNvSpPr/>
          <p:nvPr/>
        </p:nvSpPr>
        <p:spPr>
          <a:xfrm>
            <a:off x="3957480" y="4070520"/>
            <a:ext cx="974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cc99"/>
                </a:solidFill>
                <a:latin typeface="Tele-GroteskHal"/>
              </a:rPr>
              <a:t>SER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8" descr=""/>
          <p:cNvPicPr/>
          <p:nvPr/>
        </p:nvPicPr>
        <p:blipFill>
          <a:blip r:embed="rId5"/>
          <a:stretch/>
        </p:blipFill>
        <p:spPr>
          <a:xfrm>
            <a:off x="3990960" y="3376440"/>
            <a:ext cx="652320" cy="7146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39"/>
          <p:cNvSpPr/>
          <p:nvPr/>
        </p:nvSpPr>
        <p:spPr>
          <a:xfrm rot="10800000">
            <a:off x="4211280" y="4287960"/>
            <a:ext cx="360360" cy="960480"/>
          </a:xfrm>
          <a:prstGeom prst="downArrow">
            <a:avLst>
              <a:gd name="adj1" fmla="val 50000"/>
              <a:gd name="adj2" fmla="val 666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0" descr="logo_nacional_do_projeto"/>
          <p:cNvPicPr/>
          <p:nvPr/>
        </p:nvPicPr>
        <p:blipFill>
          <a:blip r:embed="rId6"/>
          <a:stretch/>
        </p:blipFill>
        <p:spPr>
          <a:xfrm>
            <a:off x="8132760" y="692280"/>
            <a:ext cx="1011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91960"/>
                <a:tab algn="l" pos="571680"/>
                <a:tab algn="l" pos="863640"/>
                <a:tab algn="l" pos="1143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3400"/>
            </a:b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missão em operação interestadua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1103400" y="3116160"/>
            <a:ext cx="228600" cy="1683000"/>
          </a:xfrm>
          <a:prstGeom prst="downArrow">
            <a:avLst>
              <a:gd name="adj1" fmla="val 50000"/>
              <a:gd name="adj2" fmla="val 1840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052720" y="5567400"/>
            <a:ext cx="1727280" cy="311040"/>
          </a:xfrm>
          <a:prstGeom prst="rightArrow">
            <a:avLst>
              <a:gd name="adj1" fmla="val 50000"/>
              <a:gd name="adj2" fmla="val 13883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924360" y="5014800"/>
            <a:ext cx="1485720" cy="927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Assinatura Dig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Esquema 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Emitente Autoriz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5546880" y="5302080"/>
            <a:ext cx="1473120" cy="309600"/>
          </a:xfrm>
          <a:prstGeom prst="rightArrow">
            <a:avLst>
              <a:gd name="adj1" fmla="val 50000"/>
              <a:gd name="adj2" fmla="val 11895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2195640" y="2567160"/>
            <a:ext cx="1368360" cy="260280"/>
          </a:xfrm>
          <a:prstGeom prst="rightArrow">
            <a:avLst>
              <a:gd name="adj1" fmla="val 50000"/>
              <a:gd name="adj2" fmla="val 13143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2803680" y="2027160"/>
            <a:ext cx="2743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irculação da mercadoria com o DA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17560" y="4195800"/>
            <a:ext cx="1486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4) Contribuinte recebe Autorização de U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3306600" y="315900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5) Transporte da Mercado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933480" y="60944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cc99"/>
                </a:solidFill>
                <a:latin typeface="Tele-GroteskHal"/>
              </a:rPr>
              <a:t>SEF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2"/>
          <p:cNvSpPr/>
          <p:nvPr/>
        </p:nvSpPr>
        <p:spPr>
          <a:xfrm rot="10800000">
            <a:off x="1619280" y="3143160"/>
            <a:ext cx="216000" cy="1727280"/>
          </a:xfrm>
          <a:prstGeom prst="downArrow">
            <a:avLst>
              <a:gd name="adj1" fmla="val 50000"/>
              <a:gd name="adj2" fmla="val 1999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6950160" y="5589720"/>
            <a:ext cx="15825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cccc99"/>
                </a:solidFill>
                <a:latin typeface="Arial"/>
              </a:rPr>
              <a:t>SEFAZ dest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cccc99"/>
                </a:solidFill>
                <a:latin typeface="Arial"/>
              </a:rPr>
              <a:t>SERP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cccc99"/>
                </a:solidFill>
                <a:latin typeface="Arial"/>
              </a:rPr>
              <a:t>Outros interess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1089000" y="1125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539640" y="2027160"/>
            <a:ext cx="208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84200" y="2027160"/>
            <a:ext cx="1633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8" descr=""/>
          <p:cNvPicPr/>
          <p:nvPr/>
        </p:nvPicPr>
        <p:blipFill>
          <a:blip r:embed="rId1"/>
          <a:stretch/>
        </p:blipFill>
        <p:spPr>
          <a:xfrm>
            <a:off x="3564000" y="2430360"/>
            <a:ext cx="1708200" cy="663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0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1390680" cy="704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21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2"/>
          <p:cNvSpPr/>
          <p:nvPr/>
        </p:nvSpPr>
        <p:spPr>
          <a:xfrm>
            <a:off x="0" y="2762280"/>
            <a:ext cx="360" cy="36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3" descr="bl00985_"/>
          <p:cNvPicPr/>
          <p:nvPr/>
        </p:nvPicPr>
        <p:blipFill>
          <a:blip r:embed="rId3"/>
          <a:stretch/>
        </p:blipFill>
        <p:spPr>
          <a:xfrm>
            <a:off x="7020000" y="2370240"/>
            <a:ext cx="1257120" cy="7477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4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5" descr=""/>
          <p:cNvPicPr/>
          <p:nvPr/>
        </p:nvPicPr>
        <p:blipFill>
          <a:blip r:embed="rId4"/>
          <a:stretch/>
        </p:blipFill>
        <p:spPr>
          <a:xfrm>
            <a:off x="865080" y="4799160"/>
            <a:ext cx="1114560" cy="12189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26"/>
          <p:cNvSpPr/>
          <p:nvPr/>
        </p:nvSpPr>
        <p:spPr>
          <a:xfrm>
            <a:off x="611280" y="199080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Vendedor Emissor d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7"/>
          <p:cNvSpPr/>
          <p:nvPr/>
        </p:nvSpPr>
        <p:spPr>
          <a:xfrm>
            <a:off x="6877080" y="210816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omprador Receptor d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8"/>
          <p:cNvSpPr/>
          <p:nvPr/>
        </p:nvSpPr>
        <p:spPr>
          <a:xfrm>
            <a:off x="250920" y="31179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1)Envio da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9"/>
          <p:cNvSpPr/>
          <p:nvPr/>
        </p:nvSpPr>
        <p:spPr>
          <a:xfrm>
            <a:off x="272880" y="4294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2) SEFAZ Receb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30"/>
          <p:cNvSpPr/>
          <p:nvPr/>
        </p:nvSpPr>
        <p:spPr>
          <a:xfrm>
            <a:off x="5435640" y="2593800"/>
            <a:ext cx="1584360" cy="260640"/>
          </a:xfrm>
          <a:prstGeom prst="rightArrow">
            <a:avLst>
              <a:gd name="adj1" fmla="val 50000"/>
              <a:gd name="adj2" fmla="val 15196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1"/>
          <p:cNvSpPr/>
          <p:nvPr/>
        </p:nvSpPr>
        <p:spPr>
          <a:xfrm>
            <a:off x="2149560" y="5348160"/>
            <a:ext cx="10540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3) Valid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2"/>
          <p:cNvSpPr/>
          <p:nvPr/>
        </p:nvSpPr>
        <p:spPr>
          <a:xfrm>
            <a:off x="5546880" y="3141720"/>
            <a:ext cx="3368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3"/>
          <p:cNvSpPr/>
          <p:nvPr/>
        </p:nvSpPr>
        <p:spPr>
          <a:xfrm>
            <a:off x="5580000" y="5060880"/>
            <a:ext cx="129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0033"/>
                </a:solidFill>
                <a:latin typeface="Arial"/>
              </a:rPr>
              <a:t>Retransmis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4" descr=""/>
          <p:cNvPicPr/>
          <p:nvPr/>
        </p:nvPicPr>
        <p:blipFill>
          <a:blip r:embed="rId5"/>
          <a:stretch/>
        </p:blipFill>
        <p:spPr>
          <a:xfrm>
            <a:off x="6977160" y="4038480"/>
            <a:ext cx="1574640" cy="173196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35"/>
          <p:cNvSpPr/>
          <p:nvPr/>
        </p:nvSpPr>
        <p:spPr>
          <a:xfrm rot="10800000">
            <a:off x="2124000" y="5086440"/>
            <a:ext cx="1727280" cy="311040"/>
          </a:xfrm>
          <a:prstGeom prst="rightArrow">
            <a:avLst>
              <a:gd name="adj1" fmla="val 50000"/>
              <a:gd name="adj2" fmla="val 13883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8"/>
          <p:cNvSpPr/>
          <p:nvPr/>
        </p:nvSpPr>
        <p:spPr>
          <a:xfrm rot="2914200">
            <a:off x="7909920" y="4897440"/>
            <a:ext cx="648000" cy="828720"/>
          </a:xfrm>
          <a:custGeom>
            <a:avLst/>
            <a:gdLst>
              <a:gd name="textAreaLeft" fmla="*/ 81000 w 648000"/>
              <a:gd name="textAreaRight" fmla="*/ 567000 w 648000"/>
              <a:gd name="textAreaTop" fmla="*/ 207000 h 828720"/>
              <a:gd name="textAreaBottom" fmla="*/ 621720 h 82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2900"/>
            </a:br>
            <a:r>
              <a:rPr b="0" lang="en-GB" sz="2900" spc="-1" strike="noStrike">
                <a:solidFill>
                  <a:srgbClr val="330033"/>
                </a:solidFill>
                <a:latin typeface="Times New Roman"/>
              </a:rPr>
              <a:t>DANFE (Documento Auxiliar Nota Fiscal Eletrônica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132000" y="191628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</a:t>
            </a: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ão gr</a:t>
            </a: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ca simplificada da NF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pel comum (A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1500" spc="-1" strike="noStrike">
                <a:solidFill>
                  <a:srgbClr val="000000"/>
                </a:solidFill>
                <a:latin typeface="Tele-GroteskNor"/>
              </a:rPr>
              <a:t>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500" spc="-1" strike="noStrike">
                <a:solidFill>
                  <a:srgbClr val="000000"/>
                </a:solidFill>
                <a:latin typeface="Tele-GroteskNor"/>
              </a:rPr>
              <a:t>é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 a chave de acesso para consulta da NF-e na Internet (44 caracte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Tele-GroteskNor"/>
              </a:rPr>
              <a:t>ó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go de barras para facilitar a captura da chave de acesso da NF-e pelos Postos Fisca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</a:t>
            </a: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ma nota fiscal, </a:t>
            </a: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strumento auxiliar para consulta da NF-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necessita ser arquiv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0" descr="danfe"/>
          <p:cNvPicPr/>
          <p:nvPr/>
        </p:nvPicPr>
        <p:blipFill>
          <a:blip r:embed="rId1"/>
          <a:stretch/>
        </p:blipFill>
        <p:spPr>
          <a:xfrm>
            <a:off x="230040" y="2276640"/>
            <a:ext cx="2613240" cy="36003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5"/>
          <p:cNvSpPr/>
          <p:nvPr/>
        </p:nvSpPr>
        <p:spPr>
          <a:xfrm>
            <a:off x="635040" y="3573360"/>
            <a:ext cx="1776240" cy="642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e1"/>
                </a:solidFill>
                <a:latin typeface="Tele-GroteskHal"/>
              </a:rPr>
              <a:t>DAN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2900"/>
            </a:br>
            <a:r>
              <a:rPr b="0" lang="en-GB" sz="2900" spc="-1" strike="noStrike">
                <a:solidFill>
                  <a:srgbClr val="330033"/>
                </a:solidFill>
                <a:latin typeface="Times New Roman"/>
              </a:rPr>
              <a:t>DANFE (Documento Auxiliar Nota Fiscal Eletrônica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32000" y="191628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</a:t>
            </a: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ão gr</a:t>
            </a: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ca simplificada da NF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pel comum (A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1500" spc="-1" strike="noStrike">
                <a:solidFill>
                  <a:srgbClr val="000000"/>
                </a:solidFill>
                <a:latin typeface="Tele-GroteskNor"/>
              </a:rPr>
              <a:t>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500" spc="-1" strike="noStrike">
                <a:solidFill>
                  <a:srgbClr val="000000"/>
                </a:solidFill>
                <a:latin typeface="Tele-GroteskNor"/>
              </a:rPr>
              <a:t>é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 a chave de acesso para consulta da NF-e na Internet (44 caracte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Tele-GroteskNor"/>
              </a:rPr>
              <a:t>ó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go de barras para facilitar a captura da chave de acesso da NF-e pelos Postos Fisca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</a:t>
            </a: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ma nota fiscal, </a:t>
            </a:r>
            <a:r>
              <a:rPr b="0" lang="en-US" sz="1600" spc="-1" strike="noStrike">
                <a:solidFill>
                  <a:srgbClr val="000000"/>
                </a:solidFill>
                <a:latin typeface="Tele-GroteskNor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strumento auxiliar para consulta da NF-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necessita ser arquiv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danfe"/>
          <p:cNvPicPr/>
          <p:nvPr/>
        </p:nvPicPr>
        <p:blipFill>
          <a:blip r:embed="rId1"/>
          <a:stretch/>
        </p:blipFill>
        <p:spPr>
          <a:xfrm>
            <a:off x="230040" y="2276640"/>
            <a:ext cx="2613240" cy="36003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5"/>
          <p:cNvSpPr/>
          <p:nvPr/>
        </p:nvSpPr>
        <p:spPr>
          <a:xfrm>
            <a:off x="635040" y="3573360"/>
            <a:ext cx="1776240" cy="642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e1"/>
                </a:solidFill>
                <a:latin typeface="Tele-GroteskHal"/>
              </a:rPr>
              <a:t>DAN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7" descr="danfe"/>
          <p:cNvPicPr/>
          <p:nvPr/>
        </p:nvPicPr>
        <p:blipFill>
          <a:blip r:embed="rId1"/>
          <a:stretch/>
        </p:blipFill>
        <p:spPr>
          <a:xfrm>
            <a:off x="2124000" y="0"/>
            <a:ext cx="4896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sultados do Process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006640" y="1926720"/>
            <a:ext cx="6958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3300"/>
                </a:solidFill>
                <a:latin typeface="Arial"/>
              </a:rPr>
              <a:t>Autoriza</a:t>
            </a:r>
            <a:r>
              <a:rPr b="1" lang="pt-BR" sz="2300" spc="-1" strike="noStrike">
                <a:solidFill>
                  <a:srgbClr val="cc3300"/>
                </a:solidFill>
                <a:latin typeface="Tahoma"/>
              </a:rPr>
              <a:t>ç</a:t>
            </a:r>
            <a:r>
              <a:rPr b="1" lang="pt-BR" sz="2300" spc="-1" strike="noStrike">
                <a:solidFill>
                  <a:srgbClr val="cc3300"/>
                </a:solidFill>
                <a:latin typeface="Arial"/>
              </a:rPr>
              <a:t>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Necess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á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ia para circular a mercador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nvio da NF-e e retorno autorizando o seu us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ser impresso o DANF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rcadoria pode circul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NFe não pode ser alterada ap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ó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 sua autoriza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ç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servid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0" y="3079800"/>
            <a:ext cx="241128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sultados do Process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68000" y="1855440"/>
            <a:ext cx="65516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Rejei</a:t>
            </a:r>
            <a:r>
              <a:rPr b="1" lang="pt-BR" sz="2800" spc="-1" strike="noStrike">
                <a:solidFill>
                  <a:srgbClr val="cc3300"/>
                </a:solidFill>
                <a:latin typeface="Tahoma"/>
              </a:rPr>
              <a:t>ç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igura criada com a NF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nvio da NFe e retorno indicando que h</a:t>
            </a:r>
            <a:r>
              <a:rPr b="0" lang="pt-BR" sz="2600" spc="-1" strike="noStrike">
                <a:solidFill>
                  <a:srgbClr val="000000"/>
                </a:solidFill>
                <a:latin typeface="Tele-GroteskNor"/>
              </a:rPr>
              <a:t>á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roblema no esquema 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NFe enviada não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gravada na base de dados da SEFAZ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cessidade de corrigir o arquivo, podendo reenvi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lo ou inutilizar a numera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3" descr="servid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3213000"/>
            <a:ext cx="24843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sultados do Process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20840" y="1599840"/>
            <a:ext cx="6183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Dene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igura criada com a NF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corre quando h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roblema com a inscri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ão do emit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Fe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gravada na base de dados da SEFAZ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h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toriza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ão de uso da NFe (não pode circular a mercador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servid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360" y="2862360"/>
            <a:ext cx="241164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tuações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ossíve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74600" y="199872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3300"/>
                </a:solidFill>
                <a:latin typeface="Arial"/>
              </a:rPr>
              <a:t>Inutilização de numer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gura criada com a NF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Necessidade de envio de arquivo XML indicando os n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ú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ros inutilizad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Necess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á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io sempre que houver quebra de numera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ç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lapt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85264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tuações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ossíve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4560" y="1599840"/>
            <a:ext cx="618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3300"/>
                </a:solidFill>
                <a:latin typeface="Arial"/>
              </a:rPr>
              <a:t>Cancela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Uma NF-e somente pode ser cancelada s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or Autorizado seu us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não houver circula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ão da mercadori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contribuinte deve solicitar o Cancelamento enviando Pedido de Cancelamento a SEFAZ,  atrav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 de arquivo XM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diagramafailov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6000" y="2492280"/>
            <a:ext cx="190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5840" y="355320"/>
            <a:ext cx="77565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3400" spc="-1" strike="noStrike">
                <a:solidFill>
                  <a:srgbClr val="330033"/>
                </a:solidFill>
                <a:latin typeface="Times New Roman"/>
              </a:rPr>
              <a:t>Projeto SPED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istema Público de Escrituração Digita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2" name="Organization Chart 7"/>
          <p:cNvGrpSpPr/>
          <p:nvPr/>
        </p:nvGrpSpPr>
        <p:grpSpPr>
          <a:xfrm>
            <a:off x="617400" y="2289240"/>
            <a:ext cx="7914960" cy="3155400"/>
            <a:chOff x="617400" y="2289240"/>
            <a:chExt cx="7914960" cy="3155400"/>
          </a:xfrm>
        </p:grpSpPr>
        <p:cxnSp>
          <p:nvCxnSpPr>
            <p:cNvPr id="133" name="_s4100"/>
            <p:cNvCxnSpPr>
              <a:stCxn id="134" idx="0"/>
              <a:endCxn id="135" idx="2"/>
            </p:cNvCxnSpPr>
            <p:nvPr/>
          </p:nvCxnSpPr>
          <p:spPr>
            <a:xfrm flipV="1">
              <a:off x="7324560" y="4345560"/>
              <a:ext cx="180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4101"/>
            <p:cNvCxnSpPr>
              <a:stCxn id="137" idx="0"/>
              <a:endCxn id="138" idx="2"/>
            </p:cNvCxnSpPr>
            <p:nvPr/>
          </p:nvCxnSpPr>
          <p:spPr>
            <a:xfrm flipV="1">
              <a:off x="4574520" y="4345560"/>
              <a:ext cx="180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4102"/>
            <p:cNvCxnSpPr>
              <a:stCxn id="140" idx="0"/>
              <a:endCxn id="141" idx="2"/>
            </p:cNvCxnSpPr>
            <p:nvPr/>
          </p:nvCxnSpPr>
          <p:spPr>
            <a:xfrm flipV="1">
              <a:off x="1826280" y="4345560"/>
              <a:ext cx="21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4103"/>
            <p:cNvCxnSpPr>
              <a:stCxn id="135" idx="0"/>
              <a:endCxn id="143" idx="2"/>
            </p:cNvCxnSpPr>
            <p:nvPr/>
          </p:nvCxnSpPr>
          <p:spPr>
            <a:xfrm flipV="1" rot="16200000">
              <a:off x="5839920" y="2421720"/>
              <a:ext cx="219960" cy="274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4104"/>
            <p:cNvCxnSpPr>
              <a:stCxn id="138" idx="0"/>
              <a:endCxn id="143" idx="2"/>
            </p:cNvCxnSpPr>
            <p:nvPr/>
          </p:nvCxnSpPr>
          <p:spPr>
            <a:xfrm flipH="1" flipV="1" rot="5400000">
              <a:off x="4465440" y="3795480"/>
              <a:ext cx="21996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4105"/>
            <p:cNvCxnSpPr>
              <a:stCxn id="141" idx="0"/>
              <a:endCxn id="143" idx="2"/>
            </p:cNvCxnSpPr>
            <p:nvPr/>
          </p:nvCxnSpPr>
          <p:spPr>
            <a:xfrm flipH="1" flipV="1" rot="5400000">
              <a:off x="3091320" y="2421360"/>
              <a:ext cx="219960" cy="2750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4106"/>
            <p:cNvSpPr/>
            <p:nvPr/>
          </p:nvSpPr>
          <p:spPr>
            <a:xfrm>
              <a:off x="3586680" y="2808360"/>
              <a:ext cx="1977120" cy="87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SPED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(Receita Federal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4107"/>
            <p:cNvSpPr/>
            <p:nvPr/>
          </p:nvSpPr>
          <p:spPr>
            <a:xfrm>
              <a:off x="617400" y="3906720"/>
              <a:ext cx="2418120" cy="43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SPED Contábil (ECD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4108"/>
            <p:cNvSpPr/>
            <p:nvPr/>
          </p:nvSpPr>
          <p:spPr>
            <a:xfrm>
              <a:off x="3365640" y="3906720"/>
              <a:ext cx="2418120" cy="43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SPED Fiscal (EFD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09"/>
            <p:cNvSpPr/>
            <p:nvPr/>
          </p:nvSpPr>
          <p:spPr>
            <a:xfrm>
              <a:off x="6114240" y="3906720"/>
              <a:ext cx="2418120" cy="43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e1"/>
                  </a:solidFill>
                  <a:latin typeface="Tele-GroteskFet"/>
                </a:rPr>
                <a:t>NF-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4110"/>
            <p:cNvSpPr/>
            <p:nvPr/>
          </p:nvSpPr>
          <p:spPr>
            <a:xfrm>
              <a:off x="837000" y="4565880"/>
              <a:ext cx="1978560" cy="87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Receita Feder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4111"/>
            <p:cNvSpPr/>
            <p:nvPr/>
          </p:nvSpPr>
          <p:spPr>
            <a:xfrm>
              <a:off x="3585240" y="4565880"/>
              <a:ext cx="1978560" cy="87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Receita Federal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Estado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4112"/>
            <p:cNvSpPr/>
            <p:nvPr/>
          </p:nvSpPr>
          <p:spPr>
            <a:xfrm>
              <a:off x="6333840" y="4565880"/>
              <a:ext cx="1978920" cy="87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Estado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e1"/>
                  </a:solidFill>
                  <a:latin typeface="Tele-GroteskFet"/>
                </a:rPr>
                <a:t>Receita Feder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4"/>
            <p:cNvSpPr/>
            <p:nvPr/>
          </p:nvSpPr>
          <p:spPr>
            <a:xfrm>
              <a:off x="3055680" y="2289240"/>
              <a:ext cx="3104280" cy="3229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1"/>
                  </a:solidFill>
                  <a:latin typeface="Tele-GroteskFet"/>
                </a:rPr>
                <a:t>Proj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AutoShape 50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tuações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ossíve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01520" y="1998720"/>
            <a:ext cx="71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3300"/>
                </a:solidFill>
                <a:latin typeface="Arial"/>
              </a:rPr>
              <a:t>Devolu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sma situa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ão de hoj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rcadoria sai do estabelecimento remetente e entra no estabelecimento destina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io (emissão de NF para devolver a mercadoria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lapt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7280" y="306864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tuações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ossíve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901520" y="1998720"/>
            <a:ext cx="71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3300"/>
                </a:solidFill>
                <a:latin typeface="Arial"/>
              </a:rPr>
              <a:t>Retorn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sma situa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ç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ão de hoj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rcadoria sai do estabelecimento remetente e não entra no estabelecimento destina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io (emissão de NF de entrada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lapt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7280" y="306864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tuações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ossíve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619280" y="199872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3300"/>
                </a:solidFill>
                <a:latin typeface="Arial"/>
              </a:rPr>
              <a:t>Carta de Corr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ossível depois da autorização de uso da NF-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CC-e não possibilita sanar erros relacionados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Variáveis consideradas no cálculo do valor do imposto, tais como: </a:t>
            </a:r>
            <a:r>
              <a:rPr b="0" i="1" lang="pt-BR" sz="2100" spc="-1" strike="noStrike" u="sng">
                <a:solidFill>
                  <a:srgbClr val="cc0000"/>
                </a:solidFill>
                <a:uFillTx/>
                <a:latin typeface="Arial"/>
              </a:rPr>
              <a:t>valor</a:t>
            </a:r>
            <a:r>
              <a:rPr b="0" i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a operação ou da prestação, </a:t>
            </a:r>
            <a:r>
              <a:rPr b="0" i="1" lang="pt-BR" sz="2100" spc="-1" strike="noStrike" u="sng">
                <a:solidFill>
                  <a:srgbClr val="cc0000"/>
                </a:solidFill>
                <a:uFillTx/>
                <a:latin typeface="Arial"/>
              </a:rPr>
              <a:t>base de cálcul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100" spc="-1" strike="noStrike" u="sng">
                <a:solidFill>
                  <a:srgbClr val="cc0000"/>
                </a:solidFill>
                <a:uFillTx/>
                <a:latin typeface="Arial"/>
              </a:rPr>
              <a:t>alíquota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ados cadastrais que impliquem alteração na </a:t>
            </a:r>
            <a:r>
              <a:rPr b="0" i="1" lang="pt-BR" sz="2100" spc="-1" strike="noStrike" u="sng">
                <a:solidFill>
                  <a:srgbClr val="cc0000"/>
                </a:solidFill>
                <a:uFillTx/>
                <a:latin typeface="Arial"/>
              </a:rPr>
              <a:t>identidade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ou no </a:t>
            </a:r>
            <a:r>
              <a:rPr b="0" i="1" lang="pt-BR" sz="2100" spc="-1" strike="noStrike" u="sng">
                <a:solidFill>
                  <a:srgbClr val="cc0000"/>
                </a:solidFill>
                <a:uFillTx/>
                <a:latin typeface="Arial"/>
              </a:rPr>
              <a:t>endereç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de localização do remetente ou do destinatári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ata de </a:t>
            </a:r>
            <a:r>
              <a:rPr b="0" i="1" lang="pt-BR" sz="2100" spc="-1" strike="noStrike" u="sng">
                <a:solidFill>
                  <a:srgbClr val="cc0000"/>
                </a:solidFill>
                <a:uFillTx/>
                <a:latin typeface="Arial"/>
              </a:rPr>
              <a:t>emissã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da NF-e ou à data de saída da mercador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lapt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35370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tuações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ossíve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901520" y="1844640"/>
            <a:ext cx="71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3300"/>
                </a:solidFill>
                <a:latin typeface="Arial"/>
              </a:rPr>
              <a:t>Carta de Corr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C-e de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ervar o leiaute estabelecido em Ato COTEPE (quando divulgad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er assinatura digital do emitente, observada as mesmas regras da emissão da NF-e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 transmitida via Internet, contendo, o número do protocolo, a chave de acesso, o número da NF-e e a data e a hora do recebi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houver mais de uma CC-e para uma mesma NF-e, deverão ser consolidadas na última CC-e todas as informações retificadas anterior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laptop1"/>
          <p:cNvPicPr/>
          <p:nvPr/>
        </p:nvPicPr>
        <p:blipFill>
          <a:blip r:embed="rId1"/>
          <a:stretch/>
        </p:blipFill>
        <p:spPr>
          <a:xfrm>
            <a:off x="0" y="306864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SEFAZ VIRTU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974960" y="1844640"/>
            <a:ext cx="684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3300"/>
                </a:solidFill>
                <a:latin typeface="Arial"/>
              </a:rPr>
              <a:t>Protocolo ICMS 55/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ossibilidade de aprova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ç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ão de NF-e por UF sem tecnologia pr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ó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i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ispon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í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vel 24 X 7 para autorizar a NF-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can</a:t>
            </a:r>
            <a:r>
              <a:rPr b="0" lang="pt-BR" sz="2200" spc="-1" strike="noStrike">
                <a:solidFill>
                  <a:srgbClr val="000000"/>
                </a:solidFill>
                <a:latin typeface="Tele-GroteskNor"/>
              </a:rPr>
              <a:t>ç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dos pelo Protocolo ICMS 10/07 e altera</a:t>
            </a:r>
            <a:r>
              <a:rPr b="0" lang="pt-BR" sz="2200" spc="-1" strike="noStrike">
                <a:solidFill>
                  <a:srgbClr val="000000"/>
                </a:solidFill>
                <a:latin typeface="Tele-GroteskNor"/>
              </a:rPr>
              <a:t>ç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ões; 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e possuam estabelecimentos em mais de uma U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ara credenciamento 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é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necess</a:t>
            </a:r>
            <a:r>
              <a:rPr b="0" lang="pt-BR" sz="2300" spc="-1" strike="noStrike">
                <a:solidFill>
                  <a:srgbClr val="000000"/>
                </a:solidFill>
                <a:latin typeface="Tele-GroteskNor"/>
              </a:rPr>
              <a:t>á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io seguir 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anual de Credenciamento do R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6" descr="logo_ead_media"/>
          <p:cNvPicPr/>
          <p:nvPr/>
        </p:nvPicPr>
        <p:blipFill>
          <a:blip r:embed="rId1"/>
          <a:stretch/>
        </p:blipFill>
        <p:spPr>
          <a:xfrm>
            <a:off x="324000" y="3645000"/>
            <a:ext cx="19443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roblemas de transmiss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2695680" y="1916280"/>
            <a:ext cx="54054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cc3300"/>
                </a:solidFill>
                <a:latin typeface="Arial"/>
              </a:rPr>
              <a:t>Contingê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igura criada com a NF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blemas de comunica</a:t>
            </a:r>
            <a:r>
              <a:rPr b="0" lang="pt-BR" sz="18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ão entre o Contribuinte e a SEFA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Problemas de comunica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na SEFAZ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Problemas de comunica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no Contribuint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Problemas de comunica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ão em amb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egisla</a:t>
            </a:r>
            <a:r>
              <a:rPr b="0" lang="pt-BR" sz="18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ão possibilita duas alternat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Emissão de NF modelo 1 ou 1-A (empresas não obrigadas a emitir 100%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Emissão de NFe em contingênci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diagramafailover"/>
          <p:cNvPicPr/>
          <p:nvPr/>
        </p:nvPicPr>
        <p:blipFill>
          <a:blip r:embed="rId1"/>
          <a:stretch/>
        </p:blipFill>
        <p:spPr>
          <a:xfrm>
            <a:off x="431640" y="2924280"/>
            <a:ext cx="2268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roblemas de transmiss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2622600" y="2021040"/>
            <a:ext cx="54054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cc3300"/>
                </a:solidFill>
                <a:latin typeface="Arial"/>
              </a:rPr>
              <a:t>Contingê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cedimento da NF-e em contingê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Emissão atrav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é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s do SCAN (Sistema de Contingência do Ambiente Nac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Emissão do DANFE em formul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á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rio de seguran</a:t>
            </a:r>
            <a:r>
              <a:rPr b="0" lang="pt-BR" sz="17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3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Quando sanar o problema a NF-e deve ser enviada a SEFAZ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F-e enviada ap</a:t>
            </a:r>
            <a:r>
              <a:rPr b="0" lang="pt-BR" sz="1800" spc="-1" strike="noStrike">
                <a:solidFill>
                  <a:srgbClr val="000000"/>
                </a:solidFill>
                <a:latin typeface="Tele-GroteskNor"/>
                <a:ea typeface="Arial"/>
              </a:rPr>
              <a:t>ó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 a circula</a:t>
            </a:r>
            <a:r>
              <a:rPr b="0" lang="pt-BR" sz="1800" spc="-1" strike="noStrike">
                <a:solidFill>
                  <a:srgbClr val="000000"/>
                </a:solidFill>
                <a:latin typeface="Tele-GroteskNor"/>
                <a:ea typeface="Arial"/>
              </a:rPr>
              <a:t>ç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ão da mercad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diagramafailover"/>
          <p:cNvPicPr/>
          <p:nvPr/>
        </p:nvPicPr>
        <p:blipFill>
          <a:blip r:embed="rId1"/>
          <a:stretch/>
        </p:blipFill>
        <p:spPr>
          <a:xfrm>
            <a:off x="250920" y="2708280"/>
            <a:ext cx="22683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ceb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411280" y="1949400"/>
            <a:ext cx="54054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2840" indent="-312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cc99"/>
                </a:solidFill>
                <a:latin typeface="Arial"/>
              </a:rPr>
              <a:t>Recebimento da NF-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empresa ao receber o DANFE de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verificar sua validade efetuando consulta na internet através da chave de acess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Escriturar a NF-e no livro Registro de Entradas send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39920" indent="-181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ara emissor de NF-e é obrigatório que arquive a NF-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920" indent="-181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ara não emissor de NF-e pode ser utilizado a DANFE para escrituração e arqu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" descr="64"/>
          <p:cNvPicPr/>
          <p:nvPr/>
        </p:nvPicPr>
        <p:blipFill>
          <a:blip r:embed="rId1"/>
          <a:stretch/>
        </p:blipFill>
        <p:spPr>
          <a:xfrm>
            <a:off x="395280" y="3213000"/>
            <a:ext cx="18730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-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onsult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2050560"/>
            <a:ext cx="8486640" cy="2241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ar um dos ender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tal Nacional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ww.nfe.fazenda.gov.b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78720" indent="-1454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te Estado de SC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http://nfe.sef.sc.gov.b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58320" y="290520"/>
            <a:ext cx="6666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91960"/>
                <a:tab algn="l" pos="571680"/>
                <a:tab algn="l" pos="863640"/>
                <a:tab algn="l" pos="1143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ortal Fiscal: www.nfe.fazenda.gov.br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1042920" y="2017800"/>
            <a:ext cx="6985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920" y="185760"/>
            <a:ext cx="763416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SPED </a:t>
            </a:r>
            <a:br>
              <a:rPr sz="42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stema Público de Escrituração Digit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195640" y="2417760"/>
            <a:ext cx="6191280" cy="309888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79280" indent="-17784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Arial"/>
              </a:rPr>
              <a:t>Envio das informações contábeis e fiscais periodic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Arial"/>
              </a:rPr>
              <a:t>Necessidade de utilização de certificação digi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Arial"/>
              </a:rPr>
              <a:t>As informações ficam na base de dados do SERP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Arial"/>
              </a:rPr>
              <a:t>A diferença entre </a:t>
            </a:r>
            <a:r>
              <a:rPr b="0" i="1" lang="pt-BR" sz="2000" spc="-1" strike="noStrike">
                <a:solidFill>
                  <a:srgbClr val="330033"/>
                </a:solidFill>
                <a:latin typeface="Tahoma"/>
                <a:ea typeface="Arial"/>
              </a:rPr>
              <a:t>Escrituração Digital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Arial"/>
              </a:rPr>
              <a:t> e </a:t>
            </a:r>
            <a:r>
              <a:rPr b="0" i="1" lang="pt-BR" sz="2000" spc="-1" strike="noStrike">
                <a:solidFill>
                  <a:srgbClr val="9900cc"/>
                </a:solidFill>
                <a:latin typeface="Tahoma"/>
                <a:ea typeface="Arial"/>
              </a:rPr>
              <a:t>NF-e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Arial"/>
              </a:rPr>
              <a:t> é que a primeira será exigida </a:t>
            </a:r>
            <a:r>
              <a:rPr b="0" i="1" lang="pt-BR" sz="2000" spc="-1" strike="noStrike">
                <a:solidFill>
                  <a:srgbClr val="330033"/>
                </a:solidFill>
                <a:latin typeface="Tahoma"/>
                <a:ea typeface="Arial"/>
              </a:rPr>
              <a:t>pelo faturament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Arial"/>
              </a:rPr>
              <a:t> das empresas e a segunda será </a:t>
            </a:r>
            <a:r>
              <a:rPr b="0" i="1" lang="pt-BR" sz="2000" spc="-1" strike="noStrike">
                <a:solidFill>
                  <a:srgbClr val="9900cc"/>
                </a:solidFill>
                <a:latin typeface="Tahoma"/>
                <a:ea typeface="Arial"/>
              </a:rPr>
              <a:t>exigida por segment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49876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Principais Mud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6"/>
          <p:cNvGraphicFramePr/>
          <p:nvPr/>
        </p:nvGraphicFramePr>
        <p:xfrm>
          <a:off x="179280" y="2924280"/>
          <a:ext cx="1944720" cy="16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924280"/>
                    <a:ext cx="194472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AutoShape 11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8320" y="290520"/>
            <a:ext cx="6666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91960"/>
                <a:tab algn="l" pos="571680"/>
                <a:tab algn="l" pos="863640"/>
                <a:tab algn="l" pos="1143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ortal Fiscal: http://nfe.sef.sc.gov.br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504720" y="1241280"/>
            <a:ext cx="838836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-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onsult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360" y="2050560"/>
            <a:ext cx="8486640" cy="22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Ap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Tahoma"/>
              </a:rPr>
              <a:t>ó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s acessar um dos endere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Tahoma"/>
              </a:rPr>
              <a:t>ç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ar a chave de acesso (44 caracteres) ou utilizar leitor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NF-e e seu statu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 180 dias aparecer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consulta resum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2   0004    00000000000014   02  003    000000009   1   00000008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5"/>
          <p:cNvSpPr/>
          <p:nvPr/>
        </p:nvSpPr>
        <p:spPr>
          <a:xfrm flipV="1">
            <a:off x="1044720" y="4632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826920" y="4316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ele-GroteskHal"/>
              </a:rPr>
              <a:t>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7"/>
          <p:cNvSpPr/>
          <p:nvPr/>
        </p:nvSpPr>
        <p:spPr>
          <a:xfrm>
            <a:off x="1547640" y="5229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973080" y="58053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ele-GroteskHal"/>
              </a:rPr>
              <a:t>Ano e mê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9"/>
          <p:cNvSpPr/>
          <p:nvPr/>
        </p:nvSpPr>
        <p:spPr>
          <a:xfrm>
            <a:off x="2844720" y="465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4797360" y="4365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ele-GroteskHal"/>
              </a:rPr>
              <a:t>núm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1"/>
          <p:cNvSpPr/>
          <p:nvPr/>
        </p:nvSpPr>
        <p:spPr>
          <a:xfrm>
            <a:off x="3924360" y="5229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2"/>
          <p:cNvSpPr/>
          <p:nvPr/>
        </p:nvSpPr>
        <p:spPr>
          <a:xfrm flipV="1">
            <a:off x="4356000" y="465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"/>
          <p:cNvSpPr/>
          <p:nvPr/>
        </p:nvSpPr>
        <p:spPr>
          <a:xfrm flipV="1">
            <a:off x="5219640" y="465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 flipV="1">
            <a:off x="6659640" y="465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3995640" y="4365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ele-GroteskHal"/>
              </a:rPr>
              <a:t>sé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3421080" y="58053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ele-GroteskH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2050920" y="4365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ele-GroteskHal"/>
              </a:rPr>
              <a:t>CNPJ emit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8"/>
          <p:cNvSpPr/>
          <p:nvPr/>
        </p:nvSpPr>
        <p:spPr>
          <a:xfrm>
            <a:off x="5796000" y="43876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ele-GroteskHal"/>
              </a:rPr>
              <a:t>Código de ac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900000" y="5000760"/>
            <a:ext cx="38124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0"/>
          <p:cNvSpPr/>
          <p:nvPr/>
        </p:nvSpPr>
        <p:spPr>
          <a:xfrm>
            <a:off x="1332000" y="5000760"/>
            <a:ext cx="6094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1"/>
          <p:cNvSpPr/>
          <p:nvPr/>
        </p:nvSpPr>
        <p:spPr>
          <a:xfrm>
            <a:off x="2050920" y="5013360"/>
            <a:ext cx="165744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2"/>
          <p:cNvSpPr/>
          <p:nvPr/>
        </p:nvSpPr>
        <p:spPr>
          <a:xfrm>
            <a:off x="3781440" y="5013360"/>
            <a:ext cx="30492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4140360" y="5013360"/>
            <a:ext cx="45720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4716360" y="5013360"/>
            <a:ext cx="1079640" cy="2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6227640" y="5013360"/>
            <a:ext cx="100836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7"/>
          <p:cNvSpPr/>
          <p:nvPr/>
        </p:nvSpPr>
        <p:spPr>
          <a:xfrm>
            <a:off x="7307280" y="5013360"/>
            <a:ext cx="287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8"/>
          <p:cNvSpPr/>
          <p:nvPr/>
        </p:nvSpPr>
        <p:spPr>
          <a:xfrm>
            <a:off x="6012000" y="52671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9"/>
          <p:cNvSpPr/>
          <p:nvPr/>
        </p:nvSpPr>
        <p:spPr>
          <a:xfrm>
            <a:off x="6732720" y="573408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ele-GroteskHal"/>
              </a:rPr>
              <a:t>Dígito verif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3"/>
          <p:cNvSpPr/>
          <p:nvPr/>
        </p:nvSpPr>
        <p:spPr>
          <a:xfrm>
            <a:off x="5867280" y="5013360"/>
            <a:ext cx="2872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4"/>
          <p:cNvSpPr/>
          <p:nvPr/>
        </p:nvSpPr>
        <p:spPr>
          <a:xfrm>
            <a:off x="7451640" y="5229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5"/>
          <p:cNvSpPr/>
          <p:nvPr/>
        </p:nvSpPr>
        <p:spPr>
          <a:xfrm>
            <a:off x="5580000" y="58006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ele-GroteskHal"/>
              </a:rPr>
              <a:t>Tipo de emis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91960"/>
                <a:tab algn="l" pos="571680"/>
                <a:tab algn="l" pos="863640"/>
                <a:tab algn="l" pos="1143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onsult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1103400" y="3186000"/>
            <a:ext cx="228600" cy="2114640"/>
          </a:xfrm>
          <a:prstGeom prst="downArrow">
            <a:avLst>
              <a:gd name="adj1" fmla="val 50000"/>
              <a:gd name="adj2" fmla="val 2312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4"/>
          <p:cNvSpPr/>
          <p:nvPr/>
        </p:nvSpPr>
        <p:spPr>
          <a:xfrm rot="9348600">
            <a:off x="1834920" y="4570200"/>
            <a:ext cx="5673600" cy="369720"/>
          </a:xfrm>
          <a:prstGeom prst="rightArrow">
            <a:avLst>
              <a:gd name="adj1" fmla="val 50000"/>
              <a:gd name="adj2" fmla="val 38364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2195640" y="2637000"/>
            <a:ext cx="1368360" cy="260280"/>
          </a:xfrm>
          <a:prstGeom prst="rightArrow">
            <a:avLst>
              <a:gd name="adj1" fmla="val 50000"/>
              <a:gd name="adj2" fmla="val 13143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2803680" y="2097000"/>
            <a:ext cx="2743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irculação da mercadoria com o DA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1717560" y="4265640"/>
            <a:ext cx="1486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3) Contribuinte recebe Autorização de U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3306600" y="322884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4) Transporte da Mercado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933480" y="645012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cc99"/>
                </a:solidFill>
                <a:latin typeface="Tele-GroteskHal"/>
              </a:rPr>
              <a:t>SEF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0"/>
          <p:cNvSpPr/>
          <p:nvPr/>
        </p:nvSpPr>
        <p:spPr>
          <a:xfrm rot="10800000">
            <a:off x="1619280" y="3213000"/>
            <a:ext cx="209520" cy="2159280"/>
          </a:xfrm>
          <a:prstGeom prst="downArrow">
            <a:avLst>
              <a:gd name="adj1" fmla="val 50000"/>
              <a:gd name="adj2" fmla="val 25764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1089000" y="1628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539640" y="2097000"/>
            <a:ext cx="208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484200" y="2097000"/>
            <a:ext cx="1633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5" descr=""/>
          <p:cNvPicPr/>
          <p:nvPr/>
        </p:nvPicPr>
        <p:blipFill>
          <a:blip r:embed="rId1"/>
          <a:stretch/>
        </p:blipFill>
        <p:spPr>
          <a:xfrm>
            <a:off x="3564000" y="2500200"/>
            <a:ext cx="1708200" cy="6638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7" descr=""/>
          <p:cNvPicPr/>
          <p:nvPr/>
        </p:nvPicPr>
        <p:blipFill>
          <a:blip r:embed="rId2"/>
          <a:stretch/>
        </p:blipFill>
        <p:spPr>
          <a:xfrm>
            <a:off x="755640" y="2419200"/>
            <a:ext cx="1390680" cy="70488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8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9"/>
          <p:cNvSpPr/>
          <p:nvPr/>
        </p:nvSpPr>
        <p:spPr>
          <a:xfrm>
            <a:off x="0" y="2762280"/>
            <a:ext cx="360" cy="36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0" descr="bl00985_"/>
          <p:cNvPicPr/>
          <p:nvPr/>
        </p:nvPicPr>
        <p:blipFill>
          <a:blip r:embed="rId3"/>
          <a:stretch/>
        </p:blipFill>
        <p:spPr>
          <a:xfrm>
            <a:off x="7020000" y="2440080"/>
            <a:ext cx="1257120" cy="74772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21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2" descr=""/>
          <p:cNvPicPr/>
          <p:nvPr/>
        </p:nvPicPr>
        <p:blipFill>
          <a:blip r:embed="rId4"/>
          <a:stretch/>
        </p:blipFill>
        <p:spPr>
          <a:xfrm>
            <a:off x="1042920" y="5234040"/>
            <a:ext cx="1114560" cy="12193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3"/>
          <p:cNvSpPr/>
          <p:nvPr/>
        </p:nvSpPr>
        <p:spPr>
          <a:xfrm>
            <a:off x="611280" y="206064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Vendedor Emissor d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4"/>
          <p:cNvSpPr/>
          <p:nvPr/>
        </p:nvSpPr>
        <p:spPr>
          <a:xfrm>
            <a:off x="6877080" y="2106720"/>
            <a:ext cx="2016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omprador Receptor d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5"/>
          <p:cNvSpPr/>
          <p:nvPr/>
        </p:nvSpPr>
        <p:spPr>
          <a:xfrm>
            <a:off x="108000" y="2684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1)Envio da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272880" y="4149720"/>
            <a:ext cx="9144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2) SEFAZ Receb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7"/>
          <p:cNvSpPr/>
          <p:nvPr/>
        </p:nvSpPr>
        <p:spPr>
          <a:xfrm>
            <a:off x="5435640" y="2664000"/>
            <a:ext cx="1584360" cy="260280"/>
          </a:xfrm>
          <a:prstGeom prst="rightArrow">
            <a:avLst>
              <a:gd name="adj1" fmla="val 50000"/>
              <a:gd name="adj2" fmla="val 15217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5546880" y="2708280"/>
            <a:ext cx="3368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5546880" y="4653000"/>
            <a:ext cx="2481120" cy="1366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onsulta da NFe no site da SEFAZ de envio ou no site naciona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have de ac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Verifica dados completos ou resumidos (após 180 di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91960"/>
                <a:tab algn="l" pos="571680"/>
                <a:tab algn="l" pos="863640"/>
                <a:tab algn="l" pos="114300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Fe - Nota Fiscal Eletrônica</a:t>
            </a:r>
            <a:br>
              <a:rPr sz="4200"/>
            </a:b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A ser implantad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1319040" y="3141720"/>
            <a:ext cx="228600" cy="1728720"/>
          </a:xfrm>
          <a:prstGeom prst="downArrow">
            <a:avLst>
              <a:gd name="adj1" fmla="val 50000"/>
              <a:gd name="adj2" fmla="val 1890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2268360" y="5157720"/>
            <a:ext cx="3167280" cy="455760"/>
          </a:xfrm>
          <a:prstGeom prst="rightArrow">
            <a:avLst>
              <a:gd name="adj1" fmla="val 50000"/>
              <a:gd name="adj2" fmla="val 1737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5651640" y="4654440"/>
            <a:ext cx="3097080" cy="12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0033"/>
                </a:solidFill>
                <a:latin typeface="Tele-GroteskHal"/>
              </a:rPr>
              <a:t>Avali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Tele-GroteskH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Tele-GroteskHal"/>
              </a:rPr>
              <a:t>Assinatura Digital do destinatá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Tele-GroteskH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Tele-GroteskHal"/>
              </a:rPr>
              <a:t>Existência das N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Wingdings 2"/>
                <a:ea typeface="Wingdings 2"/>
              </a:rPr>
              <a:t></a:t>
            </a:r>
            <a:r>
              <a:rPr b="0" lang="pt-BR" sz="1000" spc="-1" strike="noStrike">
                <a:solidFill>
                  <a:srgbClr val="330033"/>
                </a:solidFill>
                <a:latin typeface="Tele-GroteskHal"/>
              </a:rPr>
              <a:t> </a:t>
            </a:r>
            <a:r>
              <a:rPr b="0" lang="pt-BR" sz="1000" spc="-1" strike="noStrike">
                <a:solidFill>
                  <a:srgbClr val="330033"/>
                </a:solidFill>
                <a:latin typeface="Tele-GroteskHal"/>
              </a:rPr>
              <a:t>Coerência NFe – destinatário </a:t>
            </a: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Assinatura Dig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900000" y="609300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cc99"/>
                </a:solidFill>
                <a:latin typeface="Tele-GroteskHal"/>
              </a:rPr>
              <a:t>SEF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rot="10800000">
            <a:off x="7656120" y="3213000"/>
            <a:ext cx="228600" cy="1440000"/>
          </a:xfrm>
          <a:prstGeom prst="downArrow">
            <a:avLst>
              <a:gd name="adj1" fmla="val 50000"/>
              <a:gd name="adj2" fmla="val 15748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1089000" y="1125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539640" y="1882800"/>
            <a:ext cx="208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484200" y="1882800"/>
            <a:ext cx="1633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3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4"/>
          <p:cNvSpPr/>
          <p:nvPr/>
        </p:nvSpPr>
        <p:spPr>
          <a:xfrm>
            <a:off x="0" y="2762280"/>
            <a:ext cx="360" cy="36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5" descr="bl00985_"/>
          <p:cNvPicPr/>
          <p:nvPr/>
        </p:nvPicPr>
        <p:blipFill>
          <a:blip r:embed="rId1"/>
          <a:stretch/>
        </p:blipFill>
        <p:spPr>
          <a:xfrm>
            <a:off x="754200" y="2178000"/>
            <a:ext cx="1514160" cy="9000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7" descr=""/>
          <p:cNvPicPr/>
          <p:nvPr/>
        </p:nvPicPr>
        <p:blipFill>
          <a:blip r:embed="rId2"/>
          <a:stretch/>
        </p:blipFill>
        <p:spPr>
          <a:xfrm>
            <a:off x="900000" y="4797360"/>
            <a:ext cx="1251000" cy="1368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8"/>
          <p:cNvSpPr/>
          <p:nvPr/>
        </p:nvSpPr>
        <p:spPr>
          <a:xfrm>
            <a:off x="611280" y="1916280"/>
            <a:ext cx="2016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Comprador Receptor de N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1547640" y="3670200"/>
            <a:ext cx="1800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1) Envia relação de NFe recebidas no perí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2509920" y="498780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330033"/>
                </a:solidFill>
                <a:latin typeface="Arial"/>
              </a:rPr>
              <a:t>2) Análise eletrônica do pe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5546880" y="2708280"/>
            <a:ext cx="3368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2"/>
          <p:cNvSpPr/>
          <p:nvPr/>
        </p:nvSpPr>
        <p:spPr>
          <a:xfrm>
            <a:off x="5627520" y="2933640"/>
            <a:ext cx="1371600" cy="571680"/>
          </a:xfrm>
          <a:prstGeom prst="leftArrow">
            <a:avLst>
              <a:gd name="adj1" fmla="val 50000"/>
              <a:gd name="adj2" fmla="val 59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3"/>
          <p:cNvSpPr/>
          <p:nvPr/>
        </p:nvSpPr>
        <p:spPr>
          <a:xfrm>
            <a:off x="5627520" y="2133720"/>
            <a:ext cx="1257480" cy="571320"/>
          </a:xfrm>
          <a:prstGeom prst="leftArrow">
            <a:avLst>
              <a:gd name="adj1" fmla="val 50000"/>
              <a:gd name="adj2" fmla="val 5502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4"/>
          <p:cNvSpPr/>
          <p:nvPr/>
        </p:nvSpPr>
        <p:spPr>
          <a:xfrm>
            <a:off x="6084720" y="3048120"/>
            <a:ext cx="801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0033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5"/>
          <p:cNvSpPr/>
          <p:nvPr/>
        </p:nvSpPr>
        <p:spPr>
          <a:xfrm>
            <a:off x="5970600" y="224784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0033"/>
                </a:solidFill>
                <a:latin typeface="Arial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4255920" y="2933640"/>
            <a:ext cx="1371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0033"/>
                </a:solidFill>
                <a:latin typeface="Arial"/>
              </a:rPr>
              <a:t>Devolve protocolo – Aceite realiz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4255920" y="2133720"/>
            <a:ext cx="1371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0033"/>
                </a:solidFill>
                <a:latin typeface="Arial"/>
              </a:rPr>
              <a:t>Devolve mensagem de er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8"/>
          <p:cNvSpPr/>
          <p:nvPr/>
        </p:nvSpPr>
        <p:spPr>
          <a:xfrm>
            <a:off x="6932520" y="2112840"/>
            <a:ext cx="1600200" cy="102888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9"/>
          <p:cNvSpPr/>
          <p:nvPr/>
        </p:nvSpPr>
        <p:spPr>
          <a:xfrm>
            <a:off x="7415280" y="234936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0033"/>
                </a:solidFill>
                <a:latin typeface="Tele-GroteskHal"/>
              </a:rPr>
              <a:t>Ace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0033"/>
                </a:solidFill>
                <a:latin typeface="Tele-GroteskHal"/>
              </a:rPr>
              <a:t>O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566280"/>
            <a:ext cx="70866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SPED Contábil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scrituração Contábil Digit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195640" y="2205000"/>
            <a:ext cx="6769080" cy="331488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Substituir a emissão de livros contábeis (Diário e Razão) em papel por arquivos digitais, bem como </a:t>
            </a:r>
            <a:r>
              <a:rPr b="0" lang="pt-BR" sz="1600" spc="-1" strike="noStrike">
                <a:solidFill>
                  <a:srgbClr val="000000"/>
                </a:solidFill>
                <a:latin typeface="Tele-GroteskFet"/>
                <a:ea typeface="Arial"/>
              </a:rPr>
              <a:t>Balancetes diários, Balanços e Fichas de lanç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ele-GroteskHal"/>
                <a:ea typeface="Arial"/>
              </a:rPr>
              <a:t>Implantação Pre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Para 2009 (base de dados 2008) - Lucro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Contribuintes com 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Tele-GroteskHal"/>
                <a:ea typeface="Arial"/>
              </a:rPr>
              <a:t>acompanhamento especial</a:t>
            </a: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 (+/- 12.000 empresa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Tele-GroteskFet"/>
                <a:ea typeface="Arial"/>
              </a:rPr>
              <a:t>Entrega até o último dia útil do mês de junho</a:t>
            </a:r>
            <a:r>
              <a:rPr b="0" lang="pt-BR" sz="1600" spc="-1" strike="noStrike">
                <a:solidFill>
                  <a:srgbClr val="000000"/>
                </a:solidFill>
                <a:latin typeface="Tele-GroteskFet"/>
                <a:ea typeface="Arial"/>
              </a:rPr>
              <a:t> do ano seguinte ao ano-calendário a que se refira a escritur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Fet"/>
                <a:ea typeface="Arial"/>
              </a:rPr>
              <a:t>A não apresentação da ECD acarretará aplicação de </a:t>
            </a:r>
            <a:r>
              <a:rPr b="1" lang="pt-BR" sz="1600" spc="-1" strike="noStrike">
                <a:solidFill>
                  <a:srgbClr val="9900cc"/>
                </a:solidFill>
                <a:latin typeface="Tele-GroteskFet"/>
                <a:ea typeface="Arial"/>
              </a:rPr>
              <a:t>multa no valor de R$ 5.000,00</a:t>
            </a:r>
            <a:r>
              <a:rPr b="0" lang="pt-BR" sz="1600" spc="-1" strike="noStrike">
                <a:solidFill>
                  <a:srgbClr val="000000"/>
                </a:solidFill>
                <a:latin typeface="Tele-GroteskFet"/>
                <a:ea typeface="Arial"/>
              </a:rPr>
              <a:t> por mês-calendário ou fr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cc99"/>
                </a:solidFill>
                <a:latin typeface="Tele-GroteskHal"/>
                <a:ea typeface="Arial"/>
              </a:rPr>
              <a:t>Legis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Decreto 6.022 de 22 de Janeiro de 200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IN 787/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ele-GroteskHal"/>
                <a:ea typeface="Arial"/>
              </a:rPr>
              <a:t>Portaria 11.211/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49876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Escrituração Contábil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web_contabilidade_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852640"/>
            <a:ext cx="2003400" cy="25210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4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8560" y="566280"/>
            <a:ext cx="70866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SPED Contábil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scrituração Contábil Digit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49876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Escrituração Contábil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8360" y="2165400"/>
            <a:ext cx="82090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ele-GroteskFet"/>
              </a:rPr>
              <a:t>PORTARIA Nº 11.211, DE 07.11.2007 (DOU DE 12.11.2007)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Dispõe sobre o </a:t>
            </a:r>
            <a:r>
              <a:rPr b="1" lang="pt-BR" sz="1400" spc="-1" strike="noStrike">
                <a:solidFill>
                  <a:srgbClr val="9900cc"/>
                </a:solidFill>
                <a:latin typeface="Tele-GroteskFet"/>
              </a:rPr>
              <a:t>acompanhamento econômico-tributário diferenciado das pessoas jurídicas</a:t>
            </a: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.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Art. 4º - As PJ objeto do acompanhamento diferenciado serão indicadas pela Coordenação Especial de Acompanhamento dos </a:t>
            </a:r>
            <a:r>
              <a:rPr b="1" lang="pt-BR" sz="1400" spc="-1" strike="noStrike">
                <a:solidFill>
                  <a:srgbClr val="990033"/>
                </a:solidFill>
                <a:latin typeface="Tele-GroteskFet"/>
              </a:rPr>
              <a:t>Maiores Contribuintes</a:t>
            </a: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 (Comac), com base nas seguintes variáveis: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I - receita bruta constante da DIPJ ou do DACON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II - débitos declarados na DCTF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III - massa salarial constante da GFIP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IV - débitos totais declarados na GFIP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V - representatividade na arrecadação de tributos administrados pela RFB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VI - PJ de direito público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VII - PJ que operem em setores econômicos relevantes, em termos de representatividade da arrecadação tributária federal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VIII - que tenham efetuado indevidamente compensações de tributos, nos termos do art. 74 da Lei nº 9430/96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IX - imunes, isentas ou beneficiárias de incentivos fiscais;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ele-GroteskFet"/>
              </a:rPr>
              <a:t>X - que tenham praticado infrações à legislação tributária, apuradas em procedimentos de fiscalização efetuados no âmbito da RFB.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Tele-GroteskFe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560" y="574200"/>
            <a:ext cx="70866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SPED Fiscal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scrituração Fiscal Digit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701800" y="2490840"/>
            <a:ext cx="5757840" cy="3098880"/>
          </a:xfrm>
          <a:prstGeom prst="rect">
            <a:avLst/>
          </a:prstGeom>
          <a:solidFill>
            <a:srgbClr val="ffff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179280" indent="-177840">
              <a:lnSpc>
                <a:spcPts val="1698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ele-GroteskHal"/>
                <a:ea typeface="Arial"/>
              </a:rPr>
              <a:t>Substituir a emissão de livros fiscais (Entrada, Saída, Inventário, Apuração do ICMS e Apuração do IPI) em papel por arquivos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cc99"/>
                </a:solidFill>
                <a:latin typeface="Tele-GroteskHal"/>
                <a:ea typeface="Arial"/>
              </a:rPr>
              <a:t>Implantação Pre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ele-GroteskHal"/>
                <a:ea typeface="Arial"/>
              </a:rPr>
              <a:t>Para 2009, será obrigatório, conforme determinação de cada UF. Só MG quer para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cc99"/>
                </a:solidFill>
                <a:latin typeface="Tele-GroteskHal"/>
                <a:ea typeface="Arial"/>
              </a:rPr>
              <a:t>Legis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ele-GroteskHal"/>
                <a:ea typeface="Arial"/>
              </a:rPr>
              <a:t>Convênio ICMS 143/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ele-GroteskHal"/>
                <a:ea typeface="Arial"/>
              </a:rPr>
              <a:t>Ato COTEPE 11/0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ts val="1698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ele-GroteskHal"/>
                <a:ea typeface="Arial"/>
              </a:rPr>
              <a:t>Ato COTEPE 20/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843280" y="1838160"/>
            <a:ext cx="4017960" cy="366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Tele-GroteskFet"/>
              </a:rPr>
              <a:t>Escrituração Fiscal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ebookbuch"/>
          <p:cNvPicPr/>
          <p:nvPr/>
        </p:nvPicPr>
        <p:blipFill>
          <a:blip r:embed="rId1"/>
          <a:stretch/>
        </p:blipFill>
        <p:spPr>
          <a:xfrm>
            <a:off x="208080" y="2349360"/>
            <a:ext cx="2276280" cy="28386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8"/>
          <p:cNvSpPr/>
          <p:nvPr/>
        </p:nvSpPr>
        <p:spPr>
          <a:xfrm>
            <a:off x="8532720" y="115920"/>
            <a:ext cx="576360" cy="504720"/>
          </a:xfrm>
          <a:prstGeom prst="lightningBol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5:22:51Z</dcterms:created>
  <dc:creator>Luiz Claudio Momm</dc:creator>
  <dc:description/>
  <dc:language>en-US</dc:language>
  <cp:lastModifiedBy>Carla Moser</cp:lastModifiedBy>
  <dcterms:modified xsi:type="dcterms:W3CDTF">2011-03-17T14:10:19Z</dcterms:modified>
  <cp:revision>199</cp:revision>
  <dc:subject/>
  <dc:title>NF-e e SPED</dc:title>
</cp:coreProperties>
</file>