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8075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5040" y="159984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5040" y="387216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5999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440" y="1599840"/>
            <a:ext cx="25999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680" y="1599840"/>
            <a:ext cx="25999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5999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440" y="3872160"/>
            <a:ext cx="25999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680" y="3872160"/>
            <a:ext cx="25999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A5CCB-E8C7-4F79-B4AE-4502401D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0755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D3D3F-A55C-46F3-9823-EF6C309D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19017-DE6C-4B8A-8C48-C96E510B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405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5040" y="1599840"/>
            <a:ext cx="39405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2EDBA-FAC1-4A3C-846A-A1EA8614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B73EE-E965-40C6-B4C7-2B55A21A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6A06C-397D-4930-9930-BFAB3004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5040" y="1599840"/>
            <a:ext cx="39405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BC64E-5624-45AF-9ED4-0FA07648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0755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405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5040" y="159984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5040" y="387216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58D9C-10EF-4150-9C28-E17B2377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5040" y="159984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8075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A27F8-C96A-46FC-BE9E-DA698D2D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8075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6E99E-6DB2-4EC7-8483-5AF1F835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5040" y="159984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5040" y="387216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FE362-120E-4594-BD70-C68C669F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5999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440" y="1599840"/>
            <a:ext cx="25999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7680" y="1599840"/>
            <a:ext cx="25999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5999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440" y="3872160"/>
            <a:ext cx="25999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7680" y="3872160"/>
            <a:ext cx="25999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25DFB-03D5-4028-B114-BD39562E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405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5040" y="1599840"/>
            <a:ext cx="39405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5040" y="1599840"/>
            <a:ext cx="39405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405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5040" y="159984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5040" y="387216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5040" y="1599840"/>
            <a:ext cx="39405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8075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7" descr=""/>
          <p:cNvPicPr/>
          <p:nvPr/>
        </p:nvPicPr>
        <p:blipFill>
          <a:blip r:embed="rId2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" name="Imagem 6" descr="Aprovado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075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7" descr=""/>
          <p:cNvPicPr/>
          <p:nvPr/>
        </p:nvPicPr>
        <p:blipFill>
          <a:blip r:embed="rId2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42" name="Imagem 6" descr="Aprovado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075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CD22-5658-44AD-9868-04D8A2B17739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estação de Contas do Administrador – P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 Auditorias do TCE/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rincipais irregularidades apon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2000" y="1773000"/>
            <a:ext cx="7812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Contratação Tempor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Cargos Comission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Horas Ex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Diá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Terceirização dos Serviç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Recolhimento de Previd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ixaDeTexto 1"/>
          <p:cNvSpPr/>
          <p:nvPr/>
        </p:nvSpPr>
        <p:spPr>
          <a:xfrm>
            <a:off x="5292720" y="333360"/>
            <a:ext cx="338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19194d"/>
                </a:solidFill>
                <a:uFillTx/>
                <a:latin typeface="Arial"/>
              </a:rPr>
              <a:t>PESSO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55280" y="1773000"/>
            <a:ext cx="8388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Compra fracionada de bens e serviç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Registro de Preç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Concorrência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Contratos e Ad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Aspecto formal(3 participantes, prazos, assinaturas, homologa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Despesas sem lici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ixaDeTexto 1"/>
          <p:cNvSpPr/>
          <p:nvPr/>
        </p:nvSpPr>
        <p:spPr>
          <a:xfrm>
            <a:off x="5292720" y="33336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19194d"/>
                </a:solidFill>
                <a:uFillTx/>
                <a:latin typeface="Arial"/>
              </a:rPr>
              <a:t>LICIT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55280" y="1773000"/>
            <a:ext cx="8388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Registros Contáb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Movimentação de dotações orçament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Cumprimento de metas estabelecidas na 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Controle dos Vínculos de Re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Cancelamento de Restos a P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Limitação de empe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ixaDeTexto 1"/>
          <p:cNvSpPr/>
          <p:nvPr/>
        </p:nvSpPr>
        <p:spPr>
          <a:xfrm>
            <a:off x="3863880" y="18900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19194d"/>
                </a:solidFill>
                <a:uFillTx/>
                <a:latin typeface="Arial"/>
              </a:rPr>
              <a:t>CONTABILIDADE E ORÇ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55280" y="1773360"/>
            <a:ext cx="8388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Pagamento de Benefícios (Planos de saúde, seguro de vida em grupo, assistência so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Recursos dia do Trabalhad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Recursos final de exercí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Subvenções, Contribuições e Auxí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Despesas estranhas a competência do municíp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ixaDeTexto 1"/>
          <p:cNvSpPr/>
          <p:nvPr/>
        </p:nvSpPr>
        <p:spPr>
          <a:xfrm>
            <a:off x="3132000" y="4762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19194d"/>
                </a:solidFill>
                <a:uFillTx/>
                <a:latin typeface="Arial"/>
              </a:rPr>
              <a:t>DESPESA PÚB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1773360"/>
            <a:ext cx="9144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Responsabilização de Servidor (controle interno, comissão licitação, contador, secretário de administração e finanç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Prestação de Contas/Convên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20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– </a:t>
            </a: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Restrições de ano eleit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– </a:t>
            </a: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Restrições de fim de mand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ixaDeTexto 1"/>
          <p:cNvSpPr/>
          <p:nvPr/>
        </p:nvSpPr>
        <p:spPr>
          <a:xfrm>
            <a:off x="3132000" y="4762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19194d"/>
                </a:solidFill>
                <a:uFillTx/>
                <a:latin typeface="Arial"/>
              </a:rPr>
              <a:t>PREOCUP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1773360"/>
            <a:ext cx="9144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Efetividade do Controle In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Pessoal /estrutura: Jurídico, Contabilidade, Planejamento, Licitação e 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9194d"/>
                </a:solidFill>
                <a:latin typeface="Arial"/>
              </a:rPr>
              <a:t>Ciclo do T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ixaDeTexto 1"/>
          <p:cNvSpPr/>
          <p:nvPr/>
        </p:nvSpPr>
        <p:spPr>
          <a:xfrm>
            <a:off x="3164040" y="4762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19194d"/>
                </a:solidFill>
                <a:uFillTx/>
                <a:latin typeface="Arial"/>
              </a:rPr>
              <a:t>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9:31:33Z</dcterms:created>
  <dc:creator>Cesar</dc:creator>
  <dc:description/>
  <dc:language>en-US</dc:language>
  <cp:lastModifiedBy>iravone</cp:lastModifiedBy>
  <dcterms:modified xsi:type="dcterms:W3CDTF">2011-07-20T17:27:10Z</dcterms:modified>
  <cp:revision>119</cp:revision>
  <dc:subject/>
  <dc:title>Slide 1</dc:title>
</cp:coreProperties>
</file>