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3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4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5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616-323D-4751-8D9A-9188CACFFF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Espaço Reservado para Número de Slide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911-7C38-4798-9198-2B1E063B93A8}" type="slidenum">
              <a:rPr b="0" lang="pt-B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A69B-DF50-45C3-AFB6-A3F4FD819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46F3-2A7E-4EE5-A4C4-D74372F51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9FB5-C907-485D-BB6D-2F96D0B85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2D5E-D73E-44F1-B122-E31270F4C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1343-79D0-4A0F-99C1-9FCA35500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E5C5-2749-4C33-A06E-EB0593597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3A65-7AAE-4077-8629-4D1100FEB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09CC-55FA-4E09-82D5-74AC678EE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9B4B-494D-4822-967E-76A3DCEDB9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57EB-F7DE-499F-BE74-8A041F5674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4859-7DB8-4C90-AF4F-8E4354069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B9B3-1417-4E9B-A8D0-3C761DDD0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16E0-CB22-4354-98CE-56AC00097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B59A-0937-4850-9DEF-B6073B6A2E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D8CF-FFC8-4627-8AE5-5C49DBCBBB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B428-10B9-4902-A98E-17D315DF6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45DC-54C0-494C-89BA-A7AE22DD79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E72F-CE09-472C-8E79-484BE88FE4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9EDF-D7A2-49E2-902F-2F7174CE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7F86-BCB8-4254-B1F7-C3D4F8E1F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6A08-BC81-48FE-8380-BA2778377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8FB5-24D1-49B0-9AC5-6A3FD6A1F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0B7-55D2-4D8F-B874-7CC6E3851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29DA-2D67-481D-ABD8-D5D1219F7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103680" y="6453000"/>
            <a:ext cx="49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EC7F-F2CB-40F5-99A0-C4A54D065E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Imagem 6" descr="papel_carta_fecam_30_ano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0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  <p:sp>
          <p:nvSpPr>
            <p:cNvPr id="41" name="Freeform 4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5320" y="805320"/>
            <a:ext cx="7837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8055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41040" y="6242040"/>
            <a:ext cx="677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F29-810A-42AE-95D1-1DB977664360}" type="slidenum">
              <a:rPr b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080" y="160344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838080" y="1603440"/>
            <a:ext cx="6782040" cy="41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7" name="Picture 13" descr="fecam impressão pq"/>
          <p:cNvPicPr/>
          <p:nvPr/>
        </p:nvPicPr>
        <p:blipFill>
          <a:blip r:embed="rId2"/>
          <a:stretch/>
        </p:blipFill>
        <p:spPr>
          <a:xfrm>
            <a:off x="8307360" y="0"/>
            <a:ext cx="83664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0" y="0"/>
            <a:ext cx="4571640" cy="6858000"/>
            <a:chOff x="0" y="0"/>
            <a:chExt cx="4571640" cy="6858000"/>
          </a:xfrm>
        </p:grpSpPr>
        <p:sp>
          <p:nvSpPr>
            <p:cNvPr id="85" name="Rectangle 4"/>
            <p:cNvSpPr/>
            <p:nvPr/>
          </p:nvSpPr>
          <p:spPr>
            <a:xfrm>
              <a:off x="0" y="0"/>
              <a:ext cx="3562560" cy="6858000"/>
            </a:xfrm>
            <a:prstGeom prst="rect">
              <a:avLst/>
            </a:prstGeom>
            <a:solidFill>
              <a:srgbClr val="4a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534240" y="990720"/>
              <a:ext cx="4037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</p:grpSp>
      <p:pic>
        <p:nvPicPr>
          <p:cNvPr id="87" name="Picture 11" descr="faixa 30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selo_final_sem_fundo"/>
          <p:cNvPicPr/>
          <p:nvPr/>
        </p:nvPicPr>
        <p:blipFill>
          <a:blip r:embed="rId3"/>
          <a:stretch/>
        </p:blipFill>
        <p:spPr>
          <a:xfrm>
            <a:off x="0" y="3645000"/>
            <a:ext cx="3492360" cy="229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5320" y="805320"/>
            <a:ext cx="7837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8055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_Ato2004-2006/2004/Lei/L10.887.htm#art11" TargetMode="External"/><Relationship Id="rId2" Type="http://schemas.openxmlformats.org/officeDocument/2006/relationships/hyperlink" Target="http://www.planalto.gov.br/ccivil_03/_Ato2004-2006/2004/Lei/L10.887.htm#art11" TargetMode="External"/><Relationship Id="rId3" Type="http://schemas.openxmlformats.org/officeDocument/2006/relationships/hyperlink" Target="http://www.planalto.gov.br/ccivil_03/_Ato2004-2006/2004/Lei/L10.887.htm#art1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6680" y="1650240"/>
            <a:ext cx="78742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ahoma"/>
              </a:rPr>
              <a:t>Vinculação do servidor a regime previdenciário: INSS, IPREV/SC e RPPS municip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708360" y="3809880"/>
            <a:ext cx="50068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dv. Ericksen P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ätzel Ellwange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essor Jurídico da FECA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AB/SC 29.478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3640" y="1412640"/>
            <a:ext cx="835812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Lei n. 8212/91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12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ão segurados obrigató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a Previdência Social as seguintes pessoas físic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 - como empregado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)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exercente de mandato eletiv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federal, estadual ou municipal,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sde que não vinculado a regime próprio de previdência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(Incluído pela Lei 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nº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 10.887, de 2004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28400" y="1428480"/>
            <a:ext cx="835812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Prefeito é segurado obrigatório da previdência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s termos do art. 12, inciso I, alínea 'j', da Lei Federal nº 8.212/91 (acrescido pela Lei Federal nº 10.887/2004), devendo as contribuições serem recolhidas ao INSS,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ceto se forem servidores públicos efetivos integrantes de Regimes de Previdência do Serviço Público – RPSP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Regimes Próprios de Previdência). (TCE/SC, prejulgado nº 18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C estadual n. 412/2008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4º (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§ 3º Permanece filiado ao RPPS/SC, mediante contribuição previdenciária, o segurado que estiver afastado de suas funções, qu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dido ou à disposi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a outro órgão ou entidade da administração direta e indireta da União, dos Estados, do Distrito Federal ou dos Municíp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fastado ou licenciad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emporariamente, do cargo e de suas funções; 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exercício de mandato eletiv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as condições previstas em lei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C estadual n. 412/2008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19. No caso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ssão de segurad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a órgão ou entidade da administração direta ou indireta da União, dos Estados ou Municípios, o desconto e o recolhimento das contribuições previdenciárias, do segurado e patronal (...) serão de responsabilida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 - d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órgão cessionár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aso a remuneração do segurado ocorrer à conta daquele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20. Nas hipóteses de cessão ou afastamento do segurado, de que trata o art. 4º, § 3º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 cálculo da contribuição será feito de acordo com o salário de contribuição do cargo de que o segurado seja titul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Lei n. 8.212/91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t. 13. O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dor civil ocupante de cargo efetiv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ou o militar da União, dos Estados, do Distrito Federal ou dos Municípios, bem como o das respectivas autarquias e fundações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ão excluídos do RGP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onsubstanciado nesta Lei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sde que amparados por regime próprio de previdência soci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§ 1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aso o servidor ou o militar venham a exercer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comitantemen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uma ou mais atividades abrangidas pelo Regime Geral de Previdência Social, tornar-se-ão segurados obrigatórios em relação a essas atividad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§ 2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aso o servidor ou o militar, amparados por regime próprio de previdência social, sejam requisitados para outro órgão ou entidade cujo regime previdenciário não permita a filiação nessa condição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rmanecerão vinculados ao regime de origem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obedecidas as regras que cada ente estabeleça acerca de sua contribuiçã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ângulo 3"/>
          <p:cNvSpPr/>
          <p:nvPr/>
        </p:nvSpPr>
        <p:spPr>
          <a:xfrm>
            <a:off x="0" y="-142920"/>
            <a:ext cx="914400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Espaço Reservado para Número de Slide 2"/>
          <p:cNvSpPr/>
          <p:nvPr/>
        </p:nvSpPr>
        <p:spPr>
          <a:xfrm>
            <a:off x="-103320" y="6453360"/>
            <a:ext cx="498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94B-8FBC-4EDE-8404-63D5B344A4FF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3" name="Picture 3" descr="fecam_favo"/>
          <p:cNvPicPr/>
          <p:nvPr/>
        </p:nvPicPr>
        <p:blipFill>
          <a:blip r:embed="rId1"/>
          <a:stretch/>
        </p:blipFill>
        <p:spPr>
          <a:xfrm>
            <a:off x="2000160" y="0"/>
            <a:ext cx="5359320" cy="6885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4:34:50Z</dcterms:created>
  <dc:creator>x</dc:creator>
  <dc:description/>
  <dc:language>en-US</dc:language>
  <cp:lastModifiedBy>Administrador</cp:lastModifiedBy>
  <dcterms:modified xsi:type="dcterms:W3CDTF">2010-06-14T17:10:34Z</dcterms:modified>
  <cp:revision>533</cp:revision>
  <dc:subject/>
  <dc:title>ROTEIRO DE LICITAÇÃO PÚBLICA E CONTRATO ADMINISTRATIVO   PROF. DR. JOEL DE MENEZES NIEBUHR </dc:title>
</cp:coreProperties>
</file>