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80513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62E8-6A75-4909-A13E-301CAA7FA6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0000" y="37900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A776-D9C9-4571-B150-6497A81A1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764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B745-4316-4831-BB71-8F6CDBC874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316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7000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316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FD7B-D5CF-401D-A2B8-46C99B6D18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09855-2544-47FC-B44F-883FF6765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696C8-D27A-4DE8-A3C6-DCE4C837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71381-8F23-4E40-B131-C57CDD20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15660-7770-4703-94A7-C2D1441D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F5048A-B8AA-4888-A4A7-213CA51C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69640" y="189000"/>
            <a:ext cx="684036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AC3A0-E5D5-44DF-A63C-32F25BFC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06B70-4B77-4DD7-82C0-8BF7AB61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2B6DD-A9F0-4831-9307-E6375716D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764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A6F6E-FFD1-4EAB-8420-901B5A4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8DCE1-D1BB-46D3-BF4D-83C5209F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70000" y="37900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5841B-B547-4ADF-8F9B-564DAD2E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764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0B44C-ABE9-4AD4-B96D-75DF86F4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140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3160" y="12682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7000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140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3160" y="3790080"/>
            <a:ext cx="278208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F07FC-9516-46E8-AEAA-BD03622C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4703-E689-4F0B-BE5D-0177B0B65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A5E92-9258-47A2-B485-6D8B6D12B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EEFF-DB40-46FA-A59A-55D50CB5E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9640" y="189000"/>
            <a:ext cx="684036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DCC0-8A50-41D1-A925-CC4E112FBE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CFDF-B98E-4A74-9790-7C085A1C8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7640" y="37900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ADF5-E298-4D97-B6E9-58D7393DC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1268280"/>
            <a:ext cx="42163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70000" y="3790080"/>
            <a:ext cx="864072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2951-4EA5-4B47-87F4-A471717B9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9180360" cy="620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7792" t="32441" r="8616" b="34766"/>
          <a:stretch/>
        </p:blipFill>
        <p:spPr>
          <a:xfrm>
            <a:off x="8005680" y="6499080"/>
            <a:ext cx="1079640" cy="29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69640" y="189000"/>
            <a:ext cx="6840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70000" y="6381720"/>
            <a:ext cx="6264000" cy="3240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607080" y="6381720"/>
            <a:ext cx="5032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AAA7-015B-42D2-B6A2-985CFD0B03C7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40360" cy="444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rcRect l="0" t="0" r="0" b="18228"/>
          <a:stretch/>
        </p:blipFill>
        <p:spPr>
          <a:xfrm>
            <a:off x="19080" y="1246320"/>
            <a:ext cx="9180360" cy="56116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76440" y="3428640"/>
            <a:ext cx="4778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98000" y="6381720"/>
            <a:ext cx="6476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509640" y="6381720"/>
            <a:ext cx="4824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3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3399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78720" y="6381720"/>
            <a:ext cx="5032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E542-F4E4-4315-8069-060FF0DA746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73280" y="6313320"/>
            <a:ext cx="1871640" cy="409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9000" y="1604520"/>
            <a:ext cx="8261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00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0000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65640" y="3500280"/>
            <a:ext cx="5760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267000" y="3933720"/>
            <a:ext cx="583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716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71604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73280" y="3860640"/>
            <a:ext cx="8353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ERINTENDÊNCIA REGIONAL VALE DO ITAJAÍ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26200" y="5105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04920" y="5084640"/>
            <a:ext cx="763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97840" y="5897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256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360" y="333360"/>
            <a:ext cx="898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RÍODO PRÉ-ELEITORAL -TRANSFERÊNCIAS DE RECURSOS DA  UNIÃO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964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m 2008, é vedada a realização de operações de crédito no período de 120 dias que antecedem a troca do Chefe do Poder Executivo, ou seja, de 03 de setembro a 31 de dezembro de 2008, com o governo municipal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ei eleitoral proíbe desembolsar recursos no período de três meses que antecedem a realização do pleito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 desembolso dentro do período de três meses que antecedem ao dia da eleição só é possível em contratos firmados em data anterior ao início deste período cujo objeto contratual tenha sido caracterizado como “em andamento” em data também anterior ao início deste período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09640" y="333000"/>
            <a:ext cx="68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RÍODO PRÉ-ELEITORAL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 comprovação do início do objeto contratual para operações de obras e serviços deve atender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utorização de início do objeto expedida pela CAIXA até 04/07/2008, devidamente registrada no SIAPF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resentação, até 08/07/2008, de declaração do tomador, informando a data de início das obras/serviços ocorrida até 04/07/2008, que deverá ser encaminhada anexando-se a respectiva ordem de serviço;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resentação, até 18/07/2008, de pedido de medição da etapa de obra/serviço, cujo ateste da execução pela CAIXA deve ocorrer até 01/08/2008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9640" y="188640"/>
            <a:ext cx="734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PERÍODO PRÉ-ELEITORAL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É vedada a liberação e a autorização de saque dos recursos no período pré-eleitoral para operações exclusivas para aquisição de  bens, máquinas e equipamentos.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É vedada a antecipação de recursos de parcelas, nos casos de obras/serviços executados sob o regime de administração direta, cujo início do objeto contratual não esteja comprovado até a data limite estipulada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06360" y="333000"/>
            <a:ext cx="68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RÍODO PRÉ-ELEITORAL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As operações que, embora tenham autorização para início de obra expedida pela CAIXA, possuam medição que se refira exclusivamente a atos preparatórios, tais como elaboração de projeto, aquisição de terreno e execução do trabalho social, além dos serviços preliminares para início de obra (implantação de canteiro de obra, instalação de placas, cercamento de área, dentre outros) não estão aptas a receber recursos no período pré-eleitora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33280" y="62028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PERÍODO PRÉ-ELEITORAL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 caso de Contratos de Repasse firmados no âmbito do MDA, do MDS, do MCT e do MI, considerando que a autorização para início do empreendimento se condiciona ao crédito dos recursos na conta corrente vinculada ao contrato, no período pré-eleitoral, não são emitidas Ordens Bancárias. 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33280" y="62028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TOTAL DE CONTRATOS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0000" y="1268280"/>
            <a:ext cx="86407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epasses e Financiamento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Quantidade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Val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297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Contratados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R$ 113.018.350,00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80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Em contratação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R$          20.000,00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62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360" y="5733720"/>
            <a:ext cx="68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Obrigado!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20:55:03Z</dcterms:created>
  <dc:creator>CEF</dc:creator>
  <dc:description/>
  <dc:language>en-US</dc:language>
  <cp:lastModifiedBy>Michele</cp:lastModifiedBy>
  <dcterms:modified xsi:type="dcterms:W3CDTF">2008-06-19T17:30:29Z</dcterms:modified>
  <cp:revision>457</cp:revision>
  <dc:subject/>
  <dc:title>Slide sem título </dc:title>
</cp:coreProperties>
</file>