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3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4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5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6A40-6721-4A40-874F-6DFD92F425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Espaço Reservado para Número de Slide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EF4-DEEF-4703-8DA2-20C0A276B8B3}" type="slidenum">
              <a:rPr b="0" lang="pt-B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DA33-A585-447B-A82E-359E7100D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F5D4-81E0-4D49-B3EE-A49269AF6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0264-35B6-442A-8A1A-5496A2EA0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C923-DF08-4137-BB35-1AAC0D46C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EBC8-AFE6-4021-AFBF-AFA70DA994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9DD2-1E92-4E07-BF10-2EADBFC0FC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EFC4-C0C3-41FA-9D1D-69BC6EAFDF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7933-DBCA-4C89-9F8C-96678B2646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EFB5-FD97-456E-8896-3F54436A9B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0560" y="184464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BCD2-1CCD-44D6-A157-78EA465143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84A0-2408-4ECF-8543-4F2F7ED009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F16F-6B7B-437A-BB3F-A09F72533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7F43-AF0F-466E-9DBB-C207956DED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F5D5-8D35-47D1-B544-1B96BBF733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4745-5BE4-4BA7-8431-16D663CC53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C07F-E093-4CB7-BB06-645BC21D3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8874-AE69-4EB5-A1C5-A336F0B3E1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9CCB-6FB8-45DF-8047-C0C2B7FE0B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90560" y="184464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DD0F-8E01-4A28-BEF5-4EB08F080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1FDD-1D72-4234-85E4-613EC8D85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90560" y="184464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E451-5B67-48B2-87D3-CBCD940E1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D55C-A781-43D8-85E2-9B80A6841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0AA2-560E-4F4A-A2C7-724B066D0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C117-CD5A-445E-8FD7-4976126E9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103680" y="6453000"/>
            <a:ext cx="49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2B94-96EF-44FE-AB17-DDEA97E8C2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0560" y="1844640"/>
            <a:ext cx="8353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Imagem 6" descr="papel_carta_fecam_30_ano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0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Verdana"/>
              </a:endParaRPr>
            </a:p>
          </p:txBody>
        </p:sp>
        <p:sp>
          <p:nvSpPr>
            <p:cNvPr id="41" name="Freeform 4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Verdana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5320" y="805320"/>
            <a:ext cx="78375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7720" y="1981080"/>
            <a:ext cx="8055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41040" y="6242040"/>
            <a:ext cx="6778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0794-AD2D-40B1-8657-58FCD30677B2}" type="slidenum">
              <a:rPr b="1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080" y="160344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838080" y="1603440"/>
            <a:ext cx="6782040" cy="415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7" name="Picture 13" descr="fecam impressão pq"/>
          <p:cNvPicPr/>
          <p:nvPr/>
        </p:nvPicPr>
        <p:blipFill>
          <a:blip r:embed="rId2"/>
          <a:stretch/>
        </p:blipFill>
        <p:spPr>
          <a:xfrm>
            <a:off x="8307360" y="0"/>
            <a:ext cx="83664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3"/>
          <p:cNvGrpSpPr/>
          <p:nvPr/>
        </p:nvGrpSpPr>
        <p:grpSpPr>
          <a:xfrm>
            <a:off x="0" y="0"/>
            <a:ext cx="4571640" cy="6858000"/>
            <a:chOff x="0" y="0"/>
            <a:chExt cx="4571640" cy="6858000"/>
          </a:xfrm>
        </p:grpSpPr>
        <p:sp>
          <p:nvSpPr>
            <p:cNvPr id="85" name="Rectangle 4"/>
            <p:cNvSpPr/>
            <p:nvPr/>
          </p:nvSpPr>
          <p:spPr>
            <a:xfrm>
              <a:off x="0" y="0"/>
              <a:ext cx="3562560" cy="6858000"/>
            </a:xfrm>
            <a:prstGeom prst="rect">
              <a:avLst/>
            </a:prstGeom>
            <a:solidFill>
              <a:srgbClr val="4aa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Verdana"/>
              </a:endParaRPr>
            </a:p>
          </p:txBody>
        </p:sp>
        <p:sp>
          <p:nvSpPr>
            <p:cNvPr id="86" name="AutoShape 5"/>
            <p:cNvSpPr/>
            <p:nvPr/>
          </p:nvSpPr>
          <p:spPr>
            <a:xfrm>
              <a:off x="534240" y="990720"/>
              <a:ext cx="403740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Verdana"/>
              </a:endParaRPr>
            </a:p>
          </p:txBody>
        </p:sp>
      </p:grpSp>
      <p:pic>
        <p:nvPicPr>
          <p:cNvPr id="87" name="Picture 11" descr="faixa 30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selo_final_sem_fundo"/>
          <p:cNvPicPr/>
          <p:nvPr/>
        </p:nvPicPr>
        <p:blipFill>
          <a:blip r:embed="rId3"/>
          <a:stretch/>
        </p:blipFill>
        <p:spPr>
          <a:xfrm>
            <a:off x="0" y="3645000"/>
            <a:ext cx="3492360" cy="229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5320" y="805320"/>
            <a:ext cx="78375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7720" y="1981080"/>
            <a:ext cx="8055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lanalto.gov.br/ccivil_03/_Ato2004-2006/2004/Lei/L10.887.htm#art11" TargetMode="External"/><Relationship Id="rId2" Type="http://schemas.openxmlformats.org/officeDocument/2006/relationships/hyperlink" Target="http://www.planalto.gov.br/ccivil_03/_Ato2004-2006/2004/Lei/L10.887.htm#art11" TargetMode="External"/><Relationship Id="rId3" Type="http://schemas.openxmlformats.org/officeDocument/2006/relationships/hyperlink" Target="http://www.planalto.gov.br/ccivil_03/_Ato2004-2006/2004/Lei/L10.887.htm#art1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76680" y="1650240"/>
            <a:ext cx="78742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00"/>
                </a:solidFill>
                <a:latin typeface="Tahoma"/>
              </a:rPr>
              <a:t>Vinculação do servidor a regime previdenciário: INSS, IPREV/SC e RPPS municip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708360" y="3809880"/>
            <a:ext cx="50068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Adv. Ericksen P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ätzel Ellwanger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sessor Jurídico da FECAM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AB/SC 29.478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3640" y="1412640"/>
            <a:ext cx="835812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Lei n. 8212/91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. 12.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ão segurados obrigató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a Previdência Social as seguintes pessoas física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 - como empregado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)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exercente de mandato eletiv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federal, estadual ou municipal,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desde que não vinculado a regime próprio de previdência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pt-BR" sz="1800" spc="-1" strike="noStrike" u="sng">
                <a:solidFill>
                  <a:srgbClr val="003366"/>
                </a:solidFill>
                <a:uFillTx/>
                <a:latin typeface="Verdana"/>
                <a:hlinkClick r:id="rId1"/>
              </a:rPr>
              <a:t>(Incluído pela Lei </a:t>
            </a:r>
            <a:r>
              <a:rPr b="0" lang="pt-BR" sz="18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nº</a:t>
            </a:r>
            <a:r>
              <a:rPr b="0" lang="pt-BR" sz="1800" spc="-1" strike="noStrike" u="sng">
                <a:solidFill>
                  <a:srgbClr val="003366"/>
                </a:solidFill>
                <a:uFillTx/>
                <a:latin typeface="Verdana"/>
                <a:hlinkClick r:id="rId3"/>
              </a:rPr>
              <a:t> 10.887, de 2004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28400" y="1428480"/>
            <a:ext cx="835812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 Prefeito é segurado obrigatório da previdência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s termos do art. 12, inciso I, alínea 'j', da Lei Federal nº 8.212/91 (acrescido pela Lei Federal nº 10.887/2004), devendo as contribuições serem recolhidas ao INSS,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xceto se forem servidores públicos efetivos integrantes de Regimes de Previdência do Serviço Público – RPSP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Regimes Próprios de Previdência). (TCE/SC, prejulgado nº 18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1428480"/>
            <a:ext cx="860760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LC estadual n. 412/2008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. 4º (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§ 3º Permanece filiado ao RPPS/SC, mediante contribuição previdenciária, o segurado que estiver afastado de suas funções, qua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dido ou à disposi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ra outro órgão ou entidade da administração direta e indireta da União, dos Estados, do Distrito Federal ou dos Municípi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I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fastado ou licenciad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emporariamente, do cargo e de suas funções; 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II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exercício de mandato eletiv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as condições previstas em lei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79280" y="1428480"/>
            <a:ext cx="860760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LC estadual n. 412/2008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. 19. No caso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ssão de segurad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ra órgão ou entidade da administração direta ou indireta da União, dos Estados ou Municípios, o desconto e o recolhimento das contribuições previdenciárias, do segurado e patronal (...) serão de responsabilida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I - d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órgão cessionár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aso a remuneração do segurado ocorrer à conta daquele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. 20. Nas hipóteses de cessão ou afastamento do segurado, de que trata o art. 4º, § 3º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 cálculo da contribuição será feito de acordo com o salário de contribuição do cargo de que o segurado seja titul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1428480"/>
            <a:ext cx="8607600" cy="51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Lei n. 8.212/91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t. 13. O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dor civil ocupante de cargo efetiv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ou o militar da União, dos Estados, do Distrito Federal ou dos Municípios, bem como o das respectivas autarquias e fundações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ão excluídos do RGPS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consubstanciado nesta Lei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esde que amparados por regime próprio de previdência soci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§ 1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Caso o servidor ou o militar venham a exercer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comitantement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uma ou mais atividades abrangidas pelo Regime Geral de Previdência Social, tornar-se-ão segurados obrigatórios em relação a essas atividad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§ 2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Caso o servidor ou o militar, amparados por regime próprio de previdência social, sejam requisitados para outro órgão ou entidade cujo regime previdenciário não permita a filiação nessa condição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ermanecerão vinculados ao regime de origem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obedecidas as regras que cada ente estabeleça acerca de sua contribuiçã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tângulo 3"/>
          <p:cNvSpPr/>
          <p:nvPr/>
        </p:nvSpPr>
        <p:spPr>
          <a:xfrm>
            <a:off x="0" y="-142920"/>
            <a:ext cx="9144000" cy="700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Espaço Reservado para Número de Slide 2"/>
          <p:cNvSpPr/>
          <p:nvPr/>
        </p:nvSpPr>
        <p:spPr>
          <a:xfrm>
            <a:off x="-103320" y="6453360"/>
            <a:ext cx="498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440-60C2-4C22-9018-3268BBCBB90E}" type="slidenum">
              <a:rPr b="1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3" name="Picture 3" descr="fecam_favo"/>
          <p:cNvPicPr/>
          <p:nvPr/>
        </p:nvPicPr>
        <p:blipFill>
          <a:blip r:embed="rId1"/>
          <a:stretch/>
        </p:blipFill>
        <p:spPr>
          <a:xfrm>
            <a:off x="2000160" y="0"/>
            <a:ext cx="5359320" cy="6885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4:34:50Z</dcterms:created>
  <dc:creator>x</dc:creator>
  <dc:description/>
  <dc:language>en-US</dc:language>
  <cp:lastModifiedBy>Administrador</cp:lastModifiedBy>
  <dcterms:modified xsi:type="dcterms:W3CDTF">2010-06-14T17:10:34Z</dcterms:modified>
  <cp:revision>533</cp:revision>
  <dc:subject/>
  <dc:title>ROTEIRO DE LICITAÇÃO PÚBLICA E CONTRATO ADMINISTRATIVO   PROF. DR. JOEL DE MENEZES NIEBUHR </dc:title>
</cp:coreProperties>
</file>