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52EB6A-BE6E-428E-8C22-0E8540B8E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A3F934-C1E6-4DD0-BC05-2CEA5BDE99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11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pt-BR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AEED23-2788-4F56-8F78-0AFD32CC3C5C}" type="slidenum">
              <a:rPr b="0" lang="pt-BR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CAA-D2EC-4668-B957-4D69A862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87D-BC98-4E89-A058-567F188B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7C6-5F28-409C-88F7-A2F4B5F1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D39-DBC9-4F3C-BE7D-27B9C59D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6F56-7030-4FC4-9265-6B0FAA37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92EB-B432-4EBE-8B8A-034AED8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80DE-FA38-496F-BDEC-9CAE7FE7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D64D-6DD7-4675-BAA7-CFC7C5EA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FB6-0757-4C1E-859E-FE50A5C4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AFC0-BBCA-4637-B2B3-860F9F21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ACD6-326C-4ABC-8983-8A9AD85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1E1-2B93-4C5C-AD53-93110C34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00E0-3FBA-41B6-A312-66A39427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45F8-C2A1-4957-BE62-0289E549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D2FB-1BE2-4767-B526-C2B603D5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F57-7167-4A9F-B820-D2BCA07D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5B36-E3F6-4DF5-A447-9BA20FE8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5DA-59E7-40D8-863F-461D3847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302-909D-4531-8CF0-E2C3949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EAD-413D-4826-8EC8-F7C622B8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963-CCF3-47E6-B9E2-3CD7A394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BCB-4DE1-467C-BDA9-1FC412A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271-2984-49A4-82E3-71A9C11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579-4ED4-45B0-87D5-9E132C0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4671720" cy="5490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Object 7"/>
          <p:cNvGraphicFramePr/>
          <p:nvPr/>
        </p:nvGraphicFramePr>
        <p:xfrm>
          <a:off x="4643280" y="0"/>
          <a:ext cx="450036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0"/>
                    <a:ext cx="45003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1"/>
          <p:cNvSpPr/>
          <p:nvPr/>
        </p:nvSpPr>
        <p:spPr>
          <a:xfrm>
            <a:off x="0" y="549360"/>
            <a:ext cx="9143640" cy="70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3"/>
          <p:cNvSpPr/>
          <p:nvPr/>
        </p:nvSpPr>
        <p:spPr>
          <a:xfrm>
            <a:off x="0" y="6381720"/>
            <a:ext cx="9144000" cy="360"/>
          </a:xfrm>
          <a:prstGeom prst="line">
            <a:avLst/>
          </a:prstGeom>
          <a:ln w="952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5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11" descr=""/>
          <p:cNvPicPr/>
          <p:nvPr/>
        </p:nvPicPr>
        <p:blipFill>
          <a:blip r:embed="rId6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sp>
        <p:nvSpPr>
          <p:cNvPr id="7" name="Rectangle 6"/>
          <p:cNvSpPr/>
          <p:nvPr/>
        </p:nvSpPr>
        <p:spPr>
          <a:xfrm>
            <a:off x="57240" y="6500880"/>
            <a:ext cx="51408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F4661395-6A64-47A6-9BC0-7BC0421DBB2D}" type="slidenum">
              <a:rPr b="0" lang="pt-B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lique para editar o estilo do título mestr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A68159-C2CF-42CE-994B-C873D422003B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4671720" cy="5490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50" name="Object 7"/>
          <p:cNvGraphicFramePr/>
          <p:nvPr/>
        </p:nvGraphicFramePr>
        <p:xfrm>
          <a:off x="4643280" y="0"/>
          <a:ext cx="450036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0"/>
                    <a:ext cx="45003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1"/>
          <p:cNvSpPr/>
          <p:nvPr/>
        </p:nvSpPr>
        <p:spPr>
          <a:xfrm>
            <a:off x="0" y="549360"/>
            <a:ext cx="9143640" cy="70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6381720"/>
            <a:ext cx="9144000" cy="360"/>
          </a:xfrm>
          <a:prstGeom prst="line">
            <a:avLst/>
          </a:prstGeom>
          <a:ln w="952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pt-B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5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6"/>
          <a:stretch/>
        </p:blipFill>
        <p:spPr>
          <a:xfrm>
            <a:off x="2057400" y="6215040"/>
            <a:ext cx="1871280" cy="447480"/>
          </a:xfrm>
          <a:prstGeom prst="rect">
            <a:avLst/>
          </a:prstGeom>
          <a:ln w="9525">
            <a:noFill/>
          </a:ln>
        </p:spPr>
      </p:pic>
      <p:sp>
        <p:nvSpPr>
          <p:cNvPr id="56" name="Rectangle 6"/>
          <p:cNvSpPr/>
          <p:nvPr/>
        </p:nvSpPr>
        <p:spPr>
          <a:xfrm>
            <a:off x="57240" y="6500880"/>
            <a:ext cx="51408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83D30FD2-480B-4667-8CE1-3ED6FFB41D1B}" type="slidenum">
              <a:rPr b="0" lang="pt-B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lique para editar o estilo do título mestr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D07DE8-924A-4199-96AF-96EBAA435C3B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0682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5" name="Object 10"/>
          <p:cNvGraphicFramePr/>
          <p:nvPr/>
        </p:nvGraphicFramePr>
        <p:xfrm>
          <a:off x="0" y="2205000"/>
          <a:ext cx="9143640" cy="85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5000"/>
                    <a:ext cx="9143640" cy="8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5"/>
          <p:cNvGraphicFramePr/>
          <p:nvPr/>
        </p:nvGraphicFramePr>
        <p:xfrm>
          <a:off x="304920" y="714240"/>
          <a:ext cx="2592000" cy="54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714240"/>
                    <a:ext cx="259200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533520" y="2334240"/>
            <a:ext cx="86101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GT Contábil – Novembro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3068640"/>
            <a:ext cx="9143640" cy="144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0" y="5612040"/>
            <a:ext cx="9143640" cy="750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Coordenação Geral de Normas de Contabilidade Aplicadas à Fed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STN/C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878880" y="6453360"/>
            <a:ext cx="22291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alibri"/>
              </a:rPr>
              <a:t>Última Atualização: Nov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32"/>
          <p:cNvSpPr/>
          <p:nvPr/>
        </p:nvSpPr>
        <p:spPr>
          <a:xfrm>
            <a:off x="251640" y="3915000"/>
            <a:ext cx="87847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17375e"/>
                </a:solidFill>
                <a:latin typeface="Verdana"/>
              </a:rPr>
              <a:t>TRANSFERÊNCIAS E DELEGAÇÕES DE EXECUÇÃO ORÇAMEN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aixaDeTexto 4"/>
          <p:cNvSpPr/>
          <p:nvPr/>
        </p:nvSpPr>
        <p:spPr>
          <a:xfrm>
            <a:off x="179640" y="692640"/>
            <a:ext cx="8784720" cy="4478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IBUIÇÕES (ED 41) x AUXÍLIOS (ED 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RT. 12 DA LEI 4.320/19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§ 2º Classificam-se com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Transferências Corrent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s dotações par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spesas as quais não corresponda contraprestação direta em bens ou serviç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inclusive para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alibri"/>
              </a:rPr>
              <a:t>contribuições e subvençõ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stinadas a atender à manifestação de outras entidades de direito público ou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TRANSFERÊNCIAS DECORRENTES DE CONTRIBUIÇÕ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PODEM TER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ATEGORIA ECONÔMIC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DESPESA 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CaixaDeTexto 5"/>
          <p:cNvSpPr/>
          <p:nvPr/>
        </p:nvSpPr>
        <p:spPr>
          <a:xfrm>
            <a:off x="107640" y="400500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APLICAM-SE A ENTIDADES PRIV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ixaDeTexto 6"/>
          <p:cNvSpPr/>
          <p:nvPr/>
        </p:nvSpPr>
        <p:spPr>
          <a:xfrm>
            <a:off x="107640" y="450900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N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7"/>
          <p:cNvSpPr/>
          <p:nvPr/>
        </p:nvSpPr>
        <p:spPr>
          <a:xfrm>
            <a:off x="3852000" y="2277000"/>
            <a:ext cx="3456000" cy="359640"/>
          </a:xfrm>
          <a:prstGeom prst="rect">
            <a:avLst/>
          </a:prstGeom>
          <a:solidFill>
            <a:schemeClr val="accent1">
              <a:alpha val="65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CaixaDeTexto 23"/>
          <p:cNvSpPr/>
          <p:nvPr/>
        </p:nvSpPr>
        <p:spPr>
          <a:xfrm>
            <a:off x="179640" y="836640"/>
            <a:ext cx="87847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FERÊNCIAS VOLUNTÁ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OBSERVAR ART. 25 DA LR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entende-se por transferência voluntária a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entrega de recurs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correntes ou de capital a outro ente da Federaçã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a título de cooperação, auxílio ou assistência financeira,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que não decorra de determinação constitucional, legal ou os destinados ao Sistema Único de Saúde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8"/>
          <p:cNvSpPr/>
          <p:nvPr/>
        </p:nvSpPr>
        <p:spPr>
          <a:xfrm>
            <a:off x="107640" y="508536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QUAIS ELEMENTOS DE DESPESA PODEM SER US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9"/>
          <p:cNvSpPr/>
          <p:nvPr/>
        </p:nvSpPr>
        <p:spPr>
          <a:xfrm>
            <a:off x="107640" y="5589360"/>
            <a:ext cx="201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81?    41?    4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ixaDeTexto 11"/>
          <p:cNvSpPr/>
          <p:nvPr/>
        </p:nvSpPr>
        <p:spPr>
          <a:xfrm>
            <a:off x="107640" y="5910480"/>
            <a:ext cx="223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NÃO. SIM. S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Tabela 5"/>
          <p:cNvGraphicFramePr/>
          <p:nvPr/>
        </p:nvGraphicFramePr>
        <p:xfrm>
          <a:off x="299880" y="836640"/>
          <a:ext cx="8448120" cy="4357080"/>
        </p:xfrm>
        <a:graphic>
          <a:graphicData uri="http://schemas.openxmlformats.org/drawingml/2006/table">
            <a:tbl>
              <a:tblPr/>
              <a:tblGrid>
                <a:gridCol w="4542120"/>
                <a:gridCol w="1962000"/>
                <a:gridCol w="1944000"/>
              </a:tblGrid>
              <a:tr h="3916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LEMENTO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DESPE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TEGORIA ECONÔM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PESA COR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PESA DE 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NTRIBUIÇÕ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UXÍ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BVENÇÕE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BVENÇÕES ECONÔMIC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9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ISTRIBUIÇÃO CONSTITUCIONAL OU LEGAL DE RECE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8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pt-BR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181" name="CaixaDeTexto 6"/>
          <p:cNvSpPr/>
          <p:nvPr/>
        </p:nvSpPr>
        <p:spPr>
          <a:xfrm>
            <a:off x="5580000" y="2229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ixaDeTexto 9"/>
          <p:cNvSpPr/>
          <p:nvPr/>
        </p:nvSpPr>
        <p:spPr>
          <a:xfrm>
            <a:off x="5580000" y="5181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ixaDeTexto 10"/>
          <p:cNvSpPr/>
          <p:nvPr/>
        </p:nvSpPr>
        <p:spPr>
          <a:xfrm>
            <a:off x="5580000" y="2949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ixaDeTexto 11"/>
          <p:cNvSpPr/>
          <p:nvPr/>
        </p:nvSpPr>
        <p:spPr>
          <a:xfrm>
            <a:off x="7524360" y="2229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12"/>
          <p:cNvSpPr/>
          <p:nvPr/>
        </p:nvSpPr>
        <p:spPr>
          <a:xfrm>
            <a:off x="5580000" y="359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ixaDeTexto 13"/>
          <p:cNvSpPr/>
          <p:nvPr/>
        </p:nvSpPr>
        <p:spPr>
          <a:xfrm>
            <a:off x="5580000" y="432684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ixaDeTexto 14"/>
          <p:cNvSpPr/>
          <p:nvPr/>
        </p:nvSpPr>
        <p:spPr>
          <a:xfrm>
            <a:off x="7524360" y="287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ixaDeTexto 15"/>
          <p:cNvSpPr/>
          <p:nvPr/>
        </p:nvSpPr>
        <p:spPr>
          <a:xfrm>
            <a:off x="7524360" y="359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16"/>
          <p:cNvSpPr/>
          <p:nvPr/>
        </p:nvSpPr>
        <p:spPr>
          <a:xfrm>
            <a:off x="7524360" y="4317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ixaDeTexto 18"/>
          <p:cNvSpPr/>
          <p:nvPr/>
        </p:nvSpPr>
        <p:spPr>
          <a:xfrm>
            <a:off x="7524360" y="5181480"/>
            <a:ext cx="46152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DELEGAÇÃO – CONCEIT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CaixaDeTexto 8"/>
          <p:cNvSpPr/>
          <p:nvPr/>
        </p:nvSpPr>
        <p:spPr>
          <a:xfrm>
            <a:off x="179640" y="836640"/>
            <a:ext cx="8784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EG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entrega de recursos financeiro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 outro ente da Federação ou a consórcio público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para execução de ações de responsabilidade ou competência do ente delegante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9"/>
          <p:cNvSpPr/>
          <p:nvPr/>
        </p:nvSpPr>
        <p:spPr>
          <a:xfrm>
            <a:off x="107640" y="3069000"/>
            <a:ext cx="8964000" cy="8211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BENS E SERVIÇOS ADQUIRIDOS COM APLICAÇÃO DESSES RECUR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ERTENCEM AO TRANSFERIDOR OU AO RECEBE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ixaDeTexto 10"/>
          <p:cNvSpPr/>
          <p:nvPr/>
        </p:nvSpPr>
        <p:spPr>
          <a:xfrm>
            <a:off x="107640" y="400500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I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ixaDeTexto 6"/>
          <p:cNvSpPr/>
          <p:nvPr/>
        </p:nvSpPr>
        <p:spPr>
          <a:xfrm>
            <a:off x="107640" y="458100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ODEM SER REALIZADAS DELEGAÇÕES A INSTITUIÇÕES PRIV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7"/>
          <p:cNvSpPr/>
          <p:nvPr/>
        </p:nvSpPr>
        <p:spPr>
          <a:xfrm>
            <a:off x="107640" y="522936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VERIFICAR ENTENDIMENTO DO SEU TRIBUNAL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DELEGAÇÃO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aixaDeTexto 23"/>
          <p:cNvSpPr/>
          <p:nvPr/>
        </p:nvSpPr>
        <p:spPr>
          <a:xfrm>
            <a:off x="179640" y="620640"/>
            <a:ext cx="878472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ODALIDADES DE APLICAÇÃO PARA DELEG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22 - Execução Orçamentária Delegada à Un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32 - Execução Orçamentária Delegada a Estados e a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42 - Execução Orçamentária Delegada a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50 -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Transferênc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a Instituições Privadas sem Fins Luc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60 -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Transferência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a Instituições Privadas com Fins Luc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17375e"/>
                </a:solidFill>
                <a:latin typeface="Calibri"/>
              </a:rPr>
              <a:t>72 - Execução Orçamentária Delegada a 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aixaDeTexto 5"/>
          <p:cNvSpPr/>
          <p:nvPr/>
        </p:nvSpPr>
        <p:spPr>
          <a:xfrm>
            <a:off x="107640" y="2925000"/>
            <a:ext cx="8964000" cy="3945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COM QUAIS ED DEVEM SER ASSOCIADAS ESTAS MODALIDADES DE APLIC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ixaDeTexto 6"/>
          <p:cNvSpPr/>
          <p:nvPr/>
        </p:nvSpPr>
        <p:spPr>
          <a:xfrm>
            <a:off x="179640" y="3357000"/>
            <a:ext cx="8784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LEMENTOS ESPECÍFICOS (EE) QUE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REPRESENTEM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TRAPRESTAÇÃO DIRETA EM BENS OU 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Tabela 7"/>
          <p:cNvGraphicFramePr/>
          <p:nvPr/>
        </p:nvGraphicFramePr>
        <p:xfrm>
          <a:off x="179640" y="4077000"/>
          <a:ext cx="8712720" cy="2123640"/>
        </p:xfrm>
        <a:graphic>
          <a:graphicData uri="http://schemas.openxmlformats.org/drawingml/2006/table">
            <a:tbl>
              <a:tblPr/>
              <a:tblGrid>
                <a:gridCol w="4356360"/>
                <a:gridCol w="4356360"/>
              </a:tblGrid>
              <a:tr h="3708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MPLOS (NÃO EXAUSTIV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– MATERIAL DE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– SERVIÇOS DE TERCEIROS – 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PASSAGENS E DESPESAS COM LOCOMO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– ARRENDAMENTO MERCAN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– SERVIÇOS DE CONSUL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– OUTROS SERVIÇOS DE TERCEIROS - P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– OBRAS E INSTALA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 – EQUIPAMENTOS E MAT. PERMAN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02" name="CaixaDeTexto 10"/>
          <p:cNvSpPr/>
          <p:nvPr/>
        </p:nvSpPr>
        <p:spPr>
          <a:xfrm>
            <a:off x="7236360" y="1774440"/>
            <a:ext cx="1728000" cy="638280"/>
          </a:xfrm>
          <a:prstGeom prst="rect">
            <a:avLst/>
          </a:prstGeom>
          <a:solidFill>
            <a:schemeClr val="tx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ortaria SOF-STN nº 2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DELEGAÇÃO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aixaDeTexto 9"/>
          <p:cNvSpPr/>
          <p:nvPr/>
        </p:nvSpPr>
        <p:spPr>
          <a:xfrm>
            <a:off x="107640" y="692640"/>
            <a:ext cx="8964000" cy="26499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ODE-SE UTILIZAR ELEMENTOS DE DESPES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1 – CONTRIBU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2 – AUXÍ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3 – SUBVENÇÕES SO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45 – SUBVENÇÕES ECONÔ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ARA AS MOVIMENTAÇÕES FINANCEIRAS POR MEIO DE DELEGAÇÕES? PORQ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ixaDeTexto 10"/>
          <p:cNvSpPr/>
          <p:nvPr/>
        </p:nvSpPr>
        <p:spPr>
          <a:xfrm>
            <a:off x="107640" y="3441240"/>
            <a:ext cx="8856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NÃO, POIS DELEGAÇÕES NECESSITAM DE CLASSIFICAÇÕES ORÇAMENTÁRIAS QUE EVIDENCIEM O OBJETO DO GA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aixaDeTexto 5"/>
          <p:cNvSpPr/>
          <p:nvPr/>
        </p:nvSpPr>
        <p:spPr>
          <a:xfrm>
            <a:off x="107640" y="4532760"/>
            <a:ext cx="878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S NATUREZAS DE DESPESAS FORMADAS COM TAIS MODALIDADES DEVERÃO CONTE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LEMENTOS DE DESPESA ESPECÍFICOS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(EE) REPRESENTATIVOS DE “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GASTOS EFETIVOS”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STÁGIOS PARA CLASSIFICAÇÃO DAS MOVIMENTAÇÕES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aixaDeTexto 7"/>
          <p:cNvSpPr/>
          <p:nvPr/>
        </p:nvSpPr>
        <p:spPr>
          <a:xfrm>
            <a:off x="720360" y="1918440"/>
            <a:ext cx="7379640" cy="6382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2º IDENTIFICAR A COMPETÊNCIA,  RESPONSABILIDADE  OU PROPRIEDADE DOS BENS OU SERVIÇOS G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ixaDeTexto 11"/>
          <p:cNvSpPr/>
          <p:nvPr/>
        </p:nvSpPr>
        <p:spPr>
          <a:xfrm>
            <a:off x="1260000" y="2987640"/>
            <a:ext cx="525600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3º IDENTIFICAR SE É TRANSFERÊNCIA OU 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ixaDeTexto 13"/>
          <p:cNvSpPr/>
          <p:nvPr/>
        </p:nvSpPr>
        <p:spPr>
          <a:xfrm>
            <a:off x="2340000" y="5157360"/>
            <a:ext cx="478728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5º MONTAR A CLASSIFICAÇÃO ORÇAM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ta dobrada 15"/>
          <p:cNvSpPr/>
          <p:nvPr/>
        </p:nvSpPr>
        <p:spPr>
          <a:xfrm flipH="1" rot="10800000">
            <a:off x="178920" y="1269360"/>
            <a:ext cx="503640" cy="122364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aixaDeTexto 6"/>
          <p:cNvSpPr/>
          <p:nvPr/>
        </p:nvSpPr>
        <p:spPr>
          <a:xfrm>
            <a:off x="179640" y="908640"/>
            <a:ext cx="604836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1º IDENTIFICAR O RECEBEDOR DOS RECURSOS FINANC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ixaDeTexto 16"/>
          <p:cNvSpPr/>
          <p:nvPr/>
        </p:nvSpPr>
        <p:spPr>
          <a:xfrm>
            <a:off x="395640" y="1268640"/>
            <a:ext cx="73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S DA FEDERAÇÃO | ENTIDADE PRIVADA COM FINS LUCRATIVOS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S PRIVADAS SEM FINS LUCRATIVOS | CONSÓRCI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eta dobrada 17"/>
          <p:cNvSpPr/>
          <p:nvPr/>
        </p:nvSpPr>
        <p:spPr>
          <a:xfrm flipH="1" rot="10800000">
            <a:off x="719280" y="2565360"/>
            <a:ext cx="503640" cy="86364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ta dobrada 18"/>
          <p:cNvSpPr/>
          <p:nvPr/>
        </p:nvSpPr>
        <p:spPr>
          <a:xfrm flipH="1" rot="10800000">
            <a:off x="1259280" y="3357360"/>
            <a:ext cx="503640" cy="86364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aixaDeTexto 19"/>
          <p:cNvSpPr/>
          <p:nvPr/>
        </p:nvSpPr>
        <p:spPr>
          <a:xfrm>
            <a:off x="907920" y="256680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 | 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20"/>
          <p:cNvSpPr/>
          <p:nvPr/>
        </p:nvSpPr>
        <p:spPr>
          <a:xfrm>
            <a:off x="1403640" y="335700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ÊNCIA | 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ixaDeTexto 21"/>
          <p:cNvSpPr/>
          <p:nvPr/>
        </p:nvSpPr>
        <p:spPr>
          <a:xfrm>
            <a:off x="1979640" y="4233960"/>
            <a:ext cx="734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 | ESTADOS E DF | MUNICÍPIOS | UNIÃO, ESTADOS, DF E MUNICÍPIOS | CONSÓRCIOS QUE O ENTE NÃO INTEGRA | CONSÓRCIOS QUE O ENTE INTEGRA | TODOS OS CONSÓR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eta dobrada 22"/>
          <p:cNvSpPr/>
          <p:nvPr/>
        </p:nvSpPr>
        <p:spPr>
          <a:xfrm flipH="1" rot="10800000">
            <a:off x="1799640" y="4140360"/>
            <a:ext cx="503640" cy="1449000"/>
          </a:xfrm>
          <a:prstGeom prst="bentArrow">
            <a:avLst>
              <a:gd name="adj1" fmla="val 25000"/>
              <a:gd name="adj2" fmla="val 50000"/>
              <a:gd name="adj3" fmla="val 33123"/>
              <a:gd name="adj4" fmla="val 22089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aixaDeTexto 12"/>
          <p:cNvSpPr/>
          <p:nvPr/>
        </p:nvSpPr>
        <p:spPr>
          <a:xfrm>
            <a:off x="1800360" y="3789000"/>
            <a:ext cx="5795640" cy="3639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chemeClr val="lt1"/>
                </a:solidFill>
                <a:latin typeface="Calibri"/>
              </a:rPr>
              <a:t>4º IDENTIFICAR DETALHADAMENTE QUEM É O 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ixaDeTexto 23"/>
          <p:cNvSpPr/>
          <p:nvPr/>
        </p:nvSpPr>
        <p:spPr>
          <a:xfrm>
            <a:off x="2339640" y="5562360"/>
            <a:ext cx="547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x: 3.3.30.81, 3.3.60.45, 4.5.50.41, 4.4.72.EE, etc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tângulo 2"/>
          <p:cNvSpPr/>
          <p:nvPr/>
        </p:nvSpPr>
        <p:spPr>
          <a:xfrm>
            <a:off x="18000" y="0"/>
            <a:ext cx="9107640" cy="75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Retângulo 3"/>
          <p:cNvSpPr/>
          <p:nvPr/>
        </p:nvSpPr>
        <p:spPr>
          <a:xfrm>
            <a:off x="36360" y="6057360"/>
            <a:ext cx="8927640" cy="75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6623640" y="108000"/>
            <a:ext cx="252000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CLASSIFICAÇÃO POR NATUREZA DE DESPESA  NO ENTE TRANSFERIDOR  DOS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-1080" y="108000"/>
            <a:ext cx="1151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TO PRATI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" y="2811960"/>
            <a:ext cx="1069560" cy="26330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 DE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REGA DE RECURSOS 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PASSE DE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187640" y="108000"/>
            <a:ext cx="1079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RECEBEDOR DOS RECURSOS FINANCEI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303280" y="108000"/>
            <a:ext cx="1655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COMPETÊNCIA,  RESPONSABILIDADE  OU PROPRIEDADE DOS BENS OU SERVIÇOS G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995640" y="108000"/>
            <a:ext cx="1331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TRANSFERÊNCIA, DELEGAÇÃO OU DESCENTRALIZ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5363640" y="108000"/>
            <a:ext cx="1241640" cy="6695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DETALHAMENTO OU ESPECIFICI. DO 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have esquerda 12"/>
          <p:cNvSpPr/>
          <p:nvPr/>
        </p:nvSpPr>
        <p:spPr>
          <a:xfrm>
            <a:off x="3779640" y="5805360"/>
            <a:ext cx="179280" cy="25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2" name="Conector reto 13"/>
          <p:cNvCxnSpPr/>
          <p:nvPr/>
        </p:nvCxnSpPr>
        <p:spPr>
          <a:xfrm>
            <a:off x="0" y="105264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233" name="Text Box 3"/>
          <p:cNvSpPr/>
          <p:nvPr/>
        </p:nvSpPr>
        <p:spPr>
          <a:xfrm>
            <a:off x="2447280" y="173700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447280" y="306900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94920" y="1160640"/>
            <a:ext cx="1115640" cy="472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 POR REPART.DE RECE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994920" y="170604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UNDO A FUNDO (EX: PD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994920" y="2313000"/>
            <a:ext cx="1115640" cy="184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6696000" y="116964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0.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6696000" y="137664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0.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have esquerda 21"/>
          <p:cNvSpPr/>
          <p:nvPr/>
        </p:nvSpPr>
        <p:spPr>
          <a:xfrm>
            <a:off x="5146920" y="1152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have esquerda 22"/>
          <p:cNvSpPr/>
          <p:nvPr/>
        </p:nvSpPr>
        <p:spPr>
          <a:xfrm>
            <a:off x="5146920" y="2097000"/>
            <a:ext cx="215640" cy="68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6696000" y="16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1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have esquerda 24"/>
          <p:cNvSpPr/>
          <p:nvPr/>
        </p:nvSpPr>
        <p:spPr>
          <a:xfrm>
            <a:off x="5146920" y="1593000"/>
            <a:ext cx="215640" cy="46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38"/>
          <p:cNvSpPr/>
          <p:nvPr/>
        </p:nvSpPr>
        <p:spPr>
          <a:xfrm>
            <a:off x="8242560" y="162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3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8"/>
          <p:cNvSpPr/>
          <p:nvPr/>
        </p:nvSpPr>
        <p:spPr>
          <a:xfrm>
            <a:off x="7380000" y="162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3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Conector de seta reta 27"/>
          <p:cNvCxnSpPr/>
          <p:nvPr/>
        </p:nvCxnSpPr>
        <p:spPr>
          <a:xfrm>
            <a:off x="6479280" y="124128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7" name="Conector de seta reta 28"/>
          <p:cNvCxnSpPr/>
          <p:nvPr/>
        </p:nvCxnSpPr>
        <p:spPr>
          <a:xfrm>
            <a:off x="6479280" y="145728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8" name="Text Box 38"/>
          <p:cNvSpPr/>
          <p:nvPr/>
        </p:nvSpPr>
        <p:spPr>
          <a:xfrm>
            <a:off x="6696000" y="184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1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8242560" y="18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4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7380000" y="18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4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have esquerda 32"/>
          <p:cNvSpPr/>
          <p:nvPr/>
        </p:nvSpPr>
        <p:spPr>
          <a:xfrm>
            <a:off x="3778920" y="1116000"/>
            <a:ext cx="215640" cy="1439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Conector de seta reta 33"/>
          <p:cNvCxnSpPr/>
          <p:nvPr/>
        </p:nvCxnSpPr>
        <p:spPr>
          <a:xfrm>
            <a:off x="6479280" y="223164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3" name="Conector de seta reta 34"/>
          <p:cNvCxnSpPr/>
          <p:nvPr/>
        </p:nvCxnSpPr>
        <p:spPr>
          <a:xfrm>
            <a:off x="6479280" y="244764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4" name="Conector de seta reta 35"/>
          <p:cNvCxnSpPr/>
          <p:nvPr/>
        </p:nvCxnSpPr>
        <p:spPr>
          <a:xfrm>
            <a:off x="6479280" y="2635200"/>
            <a:ext cx="21672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5" name="Chave esquerda 36"/>
          <p:cNvSpPr/>
          <p:nvPr/>
        </p:nvSpPr>
        <p:spPr>
          <a:xfrm>
            <a:off x="1114920" y="1628640"/>
            <a:ext cx="180000" cy="504036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have esquerda 37"/>
          <p:cNvSpPr/>
          <p:nvPr/>
        </p:nvSpPr>
        <p:spPr>
          <a:xfrm>
            <a:off x="2231280" y="1593000"/>
            <a:ext cx="252000" cy="172800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Conector de seta reta 38"/>
          <p:cNvCxnSpPr/>
          <p:nvPr/>
        </p:nvCxnSpPr>
        <p:spPr>
          <a:xfrm>
            <a:off x="6479280" y="1735200"/>
            <a:ext cx="21672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58" name="Conector de seta reta 39"/>
          <p:cNvCxnSpPr/>
          <p:nvPr/>
        </p:nvCxnSpPr>
        <p:spPr>
          <a:xfrm>
            <a:off x="6479280" y="191664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9" name="Text Box 38"/>
          <p:cNvSpPr/>
          <p:nvPr/>
        </p:nvSpPr>
        <p:spPr>
          <a:xfrm>
            <a:off x="6696720" y="213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2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8"/>
          <p:cNvSpPr/>
          <p:nvPr/>
        </p:nvSpPr>
        <p:spPr>
          <a:xfrm>
            <a:off x="6696720" y="234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6696720" y="256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7380720" y="21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2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7380720" y="234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3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8"/>
          <p:cNvSpPr/>
          <p:nvPr/>
        </p:nvSpPr>
        <p:spPr>
          <a:xfrm>
            <a:off x="7380720" y="256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4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8242560" y="21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2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8242560" y="2349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3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8242560" y="256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4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994920" y="296100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have esquerda 50"/>
          <p:cNvSpPr/>
          <p:nvPr/>
        </p:nvSpPr>
        <p:spPr>
          <a:xfrm>
            <a:off x="5146920" y="2817000"/>
            <a:ext cx="215640" cy="68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6696000" y="285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2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8"/>
          <p:cNvSpPr/>
          <p:nvPr/>
        </p:nvSpPr>
        <p:spPr>
          <a:xfrm>
            <a:off x="7380000" y="285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2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8064000" y="285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2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6696000" y="306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3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7380000" y="306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3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8064000" y="306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3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8"/>
          <p:cNvSpPr/>
          <p:nvPr/>
        </p:nvSpPr>
        <p:spPr>
          <a:xfrm>
            <a:off x="6696000" y="328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4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8"/>
          <p:cNvSpPr/>
          <p:nvPr/>
        </p:nvSpPr>
        <p:spPr>
          <a:xfrm>
            <a:off x="7380000" y="328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4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8064000" y="328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4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have esquerda 60"/>
          <p:cNvSpPr/>
          <p:nvPr/>
        </p:nvSpPr>
        <p:spPr>
          <a:xfrm>
            <a:off x="3778920" y="2934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2447280" y="5850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447280" y="6489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994920" y="638136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have esquerda 64"/>
          <p:cNvSpPr/>
          <p:nvPr/>
        </p:nvSpPr>
        <p:spPr>
          <a:xfrm>
            <a:off x="3778920" y="6354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Chave esquerda 65"/>
          <p:cNvSpPr/>
          <p:nvPr/>
        </p:nvSpPr>
        <p:spPr>
          <a:xfrm>
            <a:off x="2266560" y="5796000"/>
            <a:ext cx="215640" cy="899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Chave esquerda 66"/>
          <p:cNvSpPr/>
          <p:nvPr/>
        </p:nvSpPr>
        <p:spPr>
          <a:xfrm>
            <a:off x="5146920" y="5517360"/>
            <a:ext cx="215640" cy="82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94920" y="5835960"/>
            <a:ext cx="1115640" cy="184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have esquerda 68"/>
          <p:cNvSpPr/>
          <p:nvPr/>
        </p:nvSpPr>
        <p:spPr>
          <a:xfrm>
            <a:off x="5146920" y="6354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Conector de seta reta 69"/>
          <p:cNvCxnSpPr/>
          <p:nvPr/>
        </p:nvCxnSpPr>
        <p:spPr>
          <a:xfrm>
            <a:off x="6478920" y="576756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" name="Text Box 38"/>
          <p:cNvSpPr/>
          <p:nvPr/>
        </p:nvSpPr>
        <p:spPr>
          <a:xfrm>
            <a:off x="6696720" y="6057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71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8"/>
          <p:cNvSpPr/>
          <p:nvPr/>
        </p:nvSpPr>
        <p:spPr>
          <a:xfrm>
            <a:off x="7380720" y="6057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7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8"/>
          <p:cNvSpPr/>
          <p:nvPr/>
        </p:nvSpPr>
        <p:spPr>
          <a:xfrm>
            <a:off x="8242560" y="6057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71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362920" y="5562360"/>
            <a:ext cx="1151640" cy="431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CONSÓRCIOS QUE O ENTE NÃO INTEG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Conector de seta reta 74"/>
          <p:cNvCxnSpPr/>
          <p:nvPr/>
        </p:nvCxnSpPr>
        <p:spPr>
          <a:xfrm>
            <a:off x="6479280" y="296100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4" name="Conector de seta reta 75"/>
          <p:cNvCxnSpPr/>
          <p:nvPr/>
        </p:nvCxnSpPr>
        <p:spPr>
          <a:xfrm>
            <a:off x="6479280" y="317700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5" name="Conector de seta reta 76"/>
          <p:cNvCxnSpPr/>
          <p:nvPr/>
        </p:nvCxnSpPr>
        <p:spPr>
          <a:xfrm>
            <a:off x="6479280" y="336420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6" name="Text Box 38"/>
          <p:cNvSpPr/>
          <p:nvPr/>
        </p:nvSpPr>
        <p:spPr>
          <a:xfrm>
            <a:off x="6696000" y="5661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7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e seta reta 78"/>
          <p:cNvCxnSpPr/>
          <p:nvPr/>
        </p:nvCxnSpPr>
        <p:spPr>
          <a:xfrm>
            <a:off x="6478920" y="613692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8" name="Text Box 38"/>
          <p:cNvSpPr/>
          <p:nvPr/>
        </p:nvSpPr>
        <p:spPr>
          <a:xfrm>
            <a:off x="7380000" y="5661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7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8"/>
          <p:cNvSpPr/>
          <p:nvPr/>
        </p:nvSpPr>
        <p:spPr>
          <a:xfrm>
            <a:off x="8242560" y="566136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7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362920" y="6025320"/>
            <a:ext cx="1151640" cy="28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ATEIO PELA PARTE DO 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Conector de seta reta 82"/>
          <p:cNvCxnSpPr/>
          <p:nvPr/>
        </p:nvCxnSpPr>
        <p:spPr>
          <a:xfrm>
            <a:off x="6478920" y="6568920"/>
            <a:ext cx="21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2" name="Text Box 38"/>
          <p:cNvSpPr/>
          <p:nvPr/>
        </p:nvSpPr>
        <p:spPr>
          <a:xfrm>
            <a:off x="6695640" y="6489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7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379640" y="6489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7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8"/>
          <p:cNvSpPr/>
          <p:nvPr/>
        </p:nvSpPr>
        <p:spPr>
          <a:xfrm>
            <a:off x="8063640" y="6489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72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362920" y="6408000"/>
            <a:ext cx="1151640" cy="28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OS OS CONSÓR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994920" y="424800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447280" y="3708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2447280" y="432900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447280" y="4716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447280" y="5130360"/>
            <a:ext cx="129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994920" y="5058360"/>
            <a:ext cx="1115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DELEGAÇÃO OU DESCENTRA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994920" y="4725000"/>
            <a:ext cx="1115640" cy="184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have esquerda 94"/>
          <p:cNvSpPr/>
          <p:nvPr/>
        </p:nvSpPr>
        <p:spPr>
          <a:xfrm>
            <a:off x="2266560" y="3681000"/>
            <a:ext cx="251640" cy="86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have esquerda 95"/>
          <p:cNvSpPr/>
          <p:nvPr/>
        </p:nvSpPr>
        <p:spPr>
          <a:xfrm>
            <a:off x="2266560" y="4644000"/>
            <a:ext cx="251640" cy="719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38"/>
          <p:cNvSpPr/>
          <p:nvPr/>
        </p:nvSpPr>
        <p:spPr>
          <a:xfrm>
            <a:off x="6696000" y="364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50.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7380000" y="36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8244000" y="3645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Conector de seta reta 99"/>
          <p:cNvCxnSpPr/>
          <p:nvPr/>
        </p:nvCxnSpPr>
        <p:spPr>
          <a:xfrm>
            <a:off x="6479280" y="3724200"/>
            <a:ext cx="2163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19" name="Text Box 38"/>
          <p:cNvSpPr/>
          <p:nvPr/>
        </p:nvSpPr>
        <p:spPr>
          <a:xfrm>
            <a:off x="6696000" y="3933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50.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7380000" y="39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8244000" y="3933000"/>
            <a:ext cx="86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50.41|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Conector de seta reta 103"/>
          <p:cNvCxnSpPr/>
          <p:nvPr/>
        </p:nvCxnSpPr>
        <p:spPr>
          <a:xfrm>
            <a:off x="6479280" y="4012200"/>
            <a:ext cx="2163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Chave esquerda 104"/>
          <p:cNvSpPr/>
          <p:nvPr/>
        </p:nvSpPr>
        <p:spPr>
          <a:xfrm>
            <a:off x="3778920" y="3681000"/>
            <a:ext cx="215640" cy="28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have esquerda 105"/>
          <p:cNvSpPr/>
          <p:nvPr/>
        </p:nvSpPr>
        <p:spPr>
          <a:xfrm>
            <a:off x="5146920" y="3537000"/>
            <a:ext cx="215640" cy="61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994920" y="3726000"/>
            <a:ext cx="1115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RANSFERÊ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have esquerda 107"/>
          <p:cNvSpPr/>
          <p:nvPr/>
        </p:nvSpPr>
        <p:spPr>
          <a:xfrm>
            <a:off x="5146920" y="4185000"/>
            <a:ext cx="215640" cy="46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8"/>
          <p:cNvSpPr/>
          <p:nvPr/>
        </p:nvSpPr>
        <p:spPr>
          <a:xfrm>
            <a:off x="6696000" y="43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5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8"/>
          <p:cNvSpPr/>
          <p:nvPr/>
        </p:nvSpPr>
        <p:spPr>
          <a:xfrm>
            <a:off x="7380000" y="43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5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8"/>
          <p:cNvSpPr/>
          <p:nvPr/>
        </p:nvSpPr>
        <p:spPr>
          <a:xfrm>
            <a:off x="8064000" y="4329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5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Conector de seta reta 111"/>
          <p:cNvCxnSpPr/>
          <p:nvPr/>
        </p:nvCxnSpPr>
        <p:spPr>
          <a:xfrm>
            <a:off x="6479280" y="4408200"/>
            <a:ext cx="2163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31" name="Chave esquerda 112"/>
          <p:cNvSpPr/>
          <p:nvPr/>
        </p:nvSpPr>
        <p:spPr>
          <a:xfrm>
            <a:off x="3778920" y="4221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Chave esquerda 113"/>
          <p:cNvSpPr/>
          <p:nvPr/>
        </p:nvSpPr>
        <p:spPr>
          <a:xfrm>
            <a:off x="5146920" y="4680000"/>
            <a:ext cx="216720" cy="32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have esquerda 114"/>
          <p:cNvSpPr/>
          <p:nvPr/>
        </p:nvSpPr>
        <p:spPr>
          <a:xfrm>
            <a:off x="5146920" y="5022360"/>
            <a:ext cx="215640" cy="46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have esquerda 115"/>
          <p:cNvSpPr/>
          <p:nvPr/>
        </p:nvSpPr>
        <p:spPr>
          <a:xfrm>
            <a:off x="3778920" y="4680000"/>
            <a:ext cx="215640" cy="287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have esquerda 116"/>
          <p:cNvSpPr/>
          <p:nvPr/>
        </p:nvSpPr>
        <p:spPr>
          <a:xfrm>
            <a:off x="3778920" y="5013000"/>
            <a:ext cx="215640" cy="431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295640" y="6048000"/>
            <a:ext cx="899640" cy="400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CONSÓR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295640" y="4626000"/>
            <a:ext cx="899640" cy="64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IDADES PRIVADAS </a:t>
            </a: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COM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FINS LUCRATI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295640" y="2313000"/>
            <a:ext cx="899640" cy="40068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ES DA FEDER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295640" y="3780000"/>
            <a:ext cx="899640" cy="647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NTIDADES PRIVADAS </a:t>
            </a: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SEM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INS LUCRATI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5362920" y="116064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5362920" y="137664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5363280" y="2349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5363280" y="2565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5363280" y="2133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5363280" y="1629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5363280" y="1845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62920" y="3069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ESTADOS / 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5362920" y="3285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MUNICÍP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362920" y="2853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5362920" y="3573000"/>
            <a:ext cx="1151640" cy="323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SAÚDE, ASS. SOC., E EDUC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5362920" y="3933000"/>
            <a:ext cx="1151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OUTR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5362920" y="4248000"/>
            <a:ext cx="1151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AS 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6696000" y="472500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60.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e seta reta 135"/>
          <p:cNvCxnSpPr/>
          <p:nvPr/>
        </p:nvCxnSpPr>
        <p:spPr>
          <a:xfrm>
            <a:off x="6479280" y="482400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5" name="Text Box 3"/>
          <p:cNvSpPr/>
          <p:nvPr/>
        </p:nvSpPr>
        <p:spPr>
          <a:xfrm>
            <a:off x="5362920" y="4725360"/>
            <a:ext cx="1151640" cy="215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AS 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8"/>
          <p:cNvSpPr/>
          <p:nvPr/>
        </p:nvSpPr>
        <p:spPr>
          <a:xfrm>
            <a:off x="6696360" y="5130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3.3.6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7380360" y="5130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4.6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8064360" y="5130360"/>
            <a:ext cx="683640" cy="17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4.5.60.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Conector de seta reta 140"/>
          <p:cNvCxnSpPr/>
          <p:nvPr/>
        </p:nvCxnSpPr>
        <p:spPr>
          <a:xfrm>
            <a:off x="6479280" y="5238000"/>
            <a:ext cx="2167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60" name="Text Box 3"/>
          <p:cNvSpPr/>
          <p:nvPr/>
        </p:nvSpPr>
        <p:spPr>
          <a:xfrm>
            <a:off x="5362920" y="5058360"/>
            <a:ext cx="1151640" cy="3596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TODAS AS Á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ixaDeTexto 142"/>
          <p:cNvSpPr/>
          <p:nvPr/>
        </p:nvSpPr>
        <p:spPr>
          <a:xfrm>
            <a:off x="-360" y="18000"/>
            <a:ext cx="9144000" cy="287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300" spc="-1" strike="noStrike">
                <a:solidFill>
                  <a:srgbClr val="000000"/>
                </a:solidFill>
                <a:latin typeface="Calibri"/>
              </a:rPr>
              <a:t>PROCEDIMENTOS PARA A CLASSIFICAÇÃO ORÇAMENTÁRIA DAS TRANSFERÊNCIAS E DELEGAÇÕES DE EXECUÇÃO ORÇAMENTÁ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ector reto 143"/>
          <p:cNvCxnSpPr/>
          <p:nvPr/>
        </p:nvCxnSpPr>
        <p:spPr>
          <a:xfrm>
            <a:off x="0" y="33264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1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4" name="Conector reto 5"/>
          <p:cNvCxnSpPr/>
          <p:nvPr/>
        </p:nvCxnSpPr>
        <p:spPr>
          <a:xfrm>
            <a:off x="161964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65" name="CaixaDeTexto 6"/>
          <p:cNvSpPr/>
          <p:nvPr/>
        </p:nvSpPr>
        <p:spPr>
          <a:xfrm>
            <a:off x="144000" y="119664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7"/>
          <p:cNvSpPr/>
          <p:nvPr/>
        </p:nvSpPr>
        <p:spPr>
          <a:xfrm>
            <a:off x="144000" y="23616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10"/>
          <p:cNvSpPr/>
          <p:nvPr/>
        </p:nvSpPr>
        <p:spPr>
          <a:xfrm>
            <a:off x="144000" y="31647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11"/>
          <p:cNvSpPr/>
          <p:nvPr/>
        </p:nvSpPr>
        <p:spPr>
          <a:xfrm>
            <a:off x="144000" y="44388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12"/>
          <p:cNvSpPr/>
          <p:nvPr/>
        </p:nvSpPr>
        <p:spPr>
          <a:xfrm>
            <a:off x="107640" y="57351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13"/>
          <p:cNvSpPr/>
          <p:nvPr/>
        </p:nvSpPr>
        <p:spPr>
          <a:xfrm>
            <a:off x="1691640" y="119664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ector reto 15"/>
          <p:cNvCxnSpPr/>
          <p:nvPr/>
        </p:nvCxnSpPr>
        <p:spPr>
          <a:xfrm>
            <a:off x="439200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72" name="CaixaDeTexto 16"/>
          <p:cNvSpPr/>
          <p:nvPr/>
        </p:nvSpPr>
        <p:spPr>
          <a:xfrm>
            <a:off x="2304360" y="23616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aixaDeTexto 17"/>
          <p:cNvSpPr/>
          <p:nvPr/>
        </p:nvSpPr>
        <p:spPr>
          <a:xfrm>
            <a:off x="2051640" y="315360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ixaDeTexto 18"/>
          <p:cNvSpPr/>
          <p:nvPr/>
        </p:nvSpPr>
        <p:spPr>
          <a:xfrm>
            <a:off x="4464000" y="119664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Conector reto 19"/>
          <p:cNvCxnSpPr/>
          <p:nvPr/>
        </p:nvCxnSpPr>
        <p:spPr>
          <a:xfrm>
            <a:off x="612000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76" name="CaixaDeTexto 20"/>
          <p:cNvSpPr/>
          <p:nvPr/>
        </p:nvSpPr>
        <p:spPr>
          <a:xfrm>
            <a:off x="4572000" y="221760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aixaDeTexto 21"/>
          <p:cNvSpPr/>
          <p:nvPr/>
        </p:nvSpPr>
        <p:spPr>
          <a:xfrm>
            <a:off x="4572000" y="322560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aixaDeTexto 22"/>
          <p:cNvSpPr/>
          <p:nvPr/>
        </p:nvSpPr>
        <p:spPr>
          <a:xfrm>
            <a:off x="4572000" y="428364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aixaDeTexto 23"/>
          <p:cNvSpPr/>
          <p:nvPr/>
        </p:nvSpPr>
        <p:spPr>
          <a:xfrm>
            <a:off x="4572000" y="5148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aixaDeTexto 24"/>
          <p:cNvSpPr/>
          <p:nvPr/>
        </p:nvSpPr>
        <p:spPr>
          <a:xfrm>
            <a:off x="6192000" y="119664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Conector reto 25"/>
          <p:cNvCxnSpPr/>
          <p:nvPr/>
        </p:nvCxnSpPr>
        <p:spPr>
          <a:xfrm>
            <a:off x="7740000" y="1242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382" name="Conector reto 27"/>
          <p:cNvCxnSpPr/>
          <p:nvPr/>
        </p:nvCxnSpPr>
        <p:spPr>
          <a:xfrm>
            <a:off x="0" y="220464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83" name="CaixaDeTexto 29"/>
          <p:cNvSpPr/>
          <p:nvPr/>
        </p:nvSpPr>
        <p:spPr>
          <a:xfrm>
            <a:off x="6192720" y="22896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 E 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aixaDeTexto 30"/>
          <p:cNvSpPr/>
          <p:nvPr/>
        </p:nvSpPr>
        <p:spPr>
          <a:xfrm>
            <a:off x="6192720" y="29469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aixaDeTexto 31"/>
          <p:cNvSpPr/>
          <p:nvPr/>
        </p:nvSpPr>
        <p:spPr>
          <a:xfrm>
            <a:off x="6408720" y="43059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aixaDeTexto 32"/>
          <p:cNvSpPr/>
          <p:nvPr/>
        </p:nvSpPr>
        <p:spPr>
          <a:xfrm>
            <a:off x="6192720" y="48006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ixaDeTexto 33"/>
          <p:cNvSpPr/>
          <p:nvPr/>
        </p:nvSpPr>
        <p:spPr>
          <a:xfrm>
            <a:off x="6192720" y="53139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aixaDeTexto 34"/>
          <p:cNvSpPr/>
          <p:nvPr/>
        </p:nvSpPr>
        <p:spPr>
          <a:xfrm>
            <a:off x="7812360" y="1196640"/>
            <a:ext cx="1259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 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aixaDeTexto 47"/>
          <p:cNvSpPr/>
          <p:nvPr/>
        </p:nvSpPr>
        <p:spPr>
          <a:xfrm>
            <a:off x="0" y="692640"/>
            <a:ext cx="9143640" cy="36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TRANSFERÊNCIA PARA MUNICÍPIOS SEM CONTRAPRESTAÇÃO (EX. FP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Conector angulado 49"/>
          <p:cNvCxnSpPr>
            <a:stCxn id="366" idx="3"/>
          </p:cNvCxnSpPr>
          <p:nvPr/>
        </p:nvCxnSpPr>
        <p:spPr>
          <a:xfrm flipV="1">
            <a:off x="1547640" y="2564640"/>
            <a:ext cx="648360" cy="12024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91" name="Conector angulado 51"/>
          <p:cNvCxnSpPr>
            <a:stCxn id="372" idx="3"/>
            <a:endCxn id="376" idx="1"/>
          </p:cNvCxnSpPr>
          <p:nvPr/>
        </p:nvCxnSpPr>
        <p:spPr>
          <a:xfrm>
            <a:off x="3707640" y="2546280"/>
            <a:ext cx="864720" cy="1332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92" name="Conector angulado 53"/>
          <p:cNvCxnSpPr>
            <a:stCxn id="376" idx="3"/>
            <a:endCxn id="385" idx="1"/>
          </p:cNvCxnSpPr>
          <p:nvPr/>
        </p:nvCxnSpPr>
        <p:spPr>
          <a:xfrm>
            <a:off x="5975640" y="2679120"/>
            <a:ext cx="433080" cy="18115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93" name="CaixaDeTexto 35"/>
          <p:cNvSpPr/>
          <p:nvPr/>
        </p:nvSpPr>
        <p:spPr>
          <a:xfrm>
            <a:off x="7992720" y="3213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3.3.40.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Conector angulado 37"/>
          <p:cNvCxnSpPr>
            <a:stCxn id="385" idx="3"/>
            <a:endCxn id="393" idx="1"/>
          </p:cNvCxnSpPr>
          <p:nvPr/>
        </p:nvCxnSpPr>
        <p:spPr>
          <a:xfrm flipV="1">
            <a:off x="7596000" y="3397320"/>
            <a:ext cx="397080" cy="10933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fc12"/>
                                      </p:to>
                                    </p:animClr>
                                    <p:set>
                                      <p:cBhvr>
                                        <p:cTn id="37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2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6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397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04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08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aixaDeTexto 22"/>
          <p:cNvSpPr/>
          <p:nvPr/>
        </p:nvSpPr>
        <p:spPr>
          <a:xfrm>
            <a:off x="4572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14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15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aixaDeTexto 33"/>
          <p:cNvSpPr/>
          <p:nvPr/>
        </p:nvSpPr>
        <p:spPr>
          <a:xfrm>
            <a:off x="6192720" y="5301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CaixaDeTexto 34"/>
          <p:cNvSpPr/>
          <p:nvPr/>
        </p:nvSpPr>
        <p:spPr>
          <a:xfrm>
            <a:off x="7812360" y="1404000"/>
            <a:ext cx="1259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 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ENTIDADE PRIVADA SEM FINS LUCRATIVOS PARA CONSTRUÇÃO DE IMÓVEL QUE SERÁ INCORPORADO PELO TRANSFERI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Conector angulado 49"/>
          <p:cNvCxnSpPr>
            <a:stCxn id="399" idx="3"/>
            <a:endCxn id="405" idx="1"/>
          </p:cNvCxnSpPr>
          <p:nvPr/>
        </p:nvCxnSpPr>
        <p:spPr>
          <a:xfrm flipV="1">
            <a:off x="1547640" y="3545640"/>
            <a:ext cx="504360" cy="42696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23" name="Conector angulado 51"/>
          <p:cNvCxnSpPr>
            <a:stCxn id="405" idx="3"/>
            <a:endCxn id="411" idx="1"/>
          </p:cNvCxnSpPr>
          <p:nvPr/>
        </p:nvCxnSpPr>
        <p:spPr>
          <a:xfrm>
            <a:off x="3959280" y="3545640"/>
            <a:ext cx="613080" cy="19944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24" name="Conector angulado 53"/>
          <p:cNvCxnSpPr>
            <a:stCxn id="411" idx="3"/>
            <a:endCxn id="425" idx="1"/>
          </p:cNvCxnSpPr>
          <p:nvPr/>
        </p:nvCxnSpPr>
        <p:spPr>
          <a:xfrm flipV="1">
            <a:off x="5975640" y="4399920"/>
            <a:ext cx="396720" cy="11401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26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4.4.50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angulado 37"/>
          <p:cNvCxnSpPr>
            <a:stCxn id="425" idx="3"/>
            <a:endCxn id="426" idx="1"/>
          </p:cNvCxnSpPr>
          <p:nvPr/>
        </p:nvCxnSpPr>
        <p:spPr>
          <a:xfrm flipV="1">
            <a:off x="7596000" y="3604680"/>
            <a:ext cx="397080" cy="7956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25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FORMAS DE MOVIMENTAÇÃO DE RECURSOS FINANCEIROS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ângulo de cantos arredondados 10"/>
          <p:cNvSpPr/>
          <p:nvPr/>
        </p:nvSpPr>
        <p:spPr>
          <a:xfrm>
            <a:off x="3492000" y="1845000"/>
            <a:ext cx="1944000" cy="93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E DA FED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de cantos arredondados 11"/>
          <p:cNvSpPr/>
          <p:nvPr/>
        </p:nvSpPr>
        <p:spPr>
          <a:xfrm>
            <a:off x="4572000" y="4221000"/>
            <a:ext cx="2159640" cy="93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E DA FED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de cantos arredondados 12"/>
          <p:cNvSpPr/>
          <p:nvPr/>
        </p:nvSpPr>
        <p:spPr>
          <a:xfrm>
            <a:off x="323640" y="3933000"/>
            <a:ext cx="194400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IDADE PRIVADA SEM FINS LUC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ângulo de cantos arredondados 13"/>
          <p:cNvSpPr/>
          <p:nvPr/>
        </p:nvSpPr>
        <p:spPr>
          <a:xfrm>
            <a:off x="2339640" y="4221000"/>
            <a:ext cx="2160000" cy="93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CONSÓRCI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ângulo de cantos arredondados 14"/>
          <p:cNvSpPr/>
          <p:nvPr/>
        </p:nvSpPr>
        <p:spPr>
          <a:xfrm>
            <a:off x="6804360" y="3933000"/>
            <a:ext cx="194400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chemeClr val="lt1"/>
                </a:solidFill>
                <a:latin typeface="Calibri"/>
              </a:rPr>
              <a:t>ENTIDADE PRIVADA COM FINS LUC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o 24"/>
          <p:cNvGrpSpPr/>
          <p:nvPr/>
        </p:nvGrpSpPr>
        <p:grpSpPr>
          <a:xfrm>
            <a:off x="1295280" y="2780640"/>
            <a:ext cx="6480720" cy="1440360"/>
            <a:chOff x="1295280" y="2780640"/>
            <a:chExt cx="6480720" cy="1440360"/>
          </a:xfrm>
        </p:grpSpPr>
        <p:cxnSp>
          <p:nvCxnSpPr>
            <p:cNvPr id="121" name="Conector angulado 16"/>
            <p:cNvCxnSpPr>
              <a:stCxn id="117" idx="0"/>
              <a:endCxn id="115" idx="2"/>
            </p:cNvCxnSpPr>
            <p:nvPr/>
          </p:nvCxnSpPr>
          <p:spPr>
            <a:xfrm flipV="1">
              <a:off x="1295280" y="2780640"/>
              <a:ext cx="3168720" cy="1152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  <p:cxnSp>
          <p:nvCxnSpPr>
            <p:cNvPr id="122" name="Conector angulado 18"/>
            <p:cNvCxnSpPr>
              <a:stCxn id="118" idx="0"/>
              <a:endCxn id="115" idx="2"/>
            </p:cNvCxnSpPr>
            <p:nvPr/>
          </p:nvCxnSpPr>
          <p:spPr>
            <a:xfrm flipV="1">
              <a:off x="3419640" y="2780640"/>
              <a:ext cx="1044360" cy="1440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  <p:cxnSp>
          <p:nvCxnSpPr>
            <p:cNvPr id="123" name="Conector angulado 20"/>
            <p:cNvCxnSpPr>
              <a:stCxn id="116" idx="0"/>
              <a:endCxn id="115" idx="2"/>
            </p:cNvCxnSpPr>
            <p:nvPr/>
          </p:nvCxnSpPr>
          <p:spPr>
            <a:xfrm rot="10800000">
              <a:off x="4463280" y="2780280"/>
              <a:ext cx="1188720" cy="1440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  <p:cxnSp>
          <p:nvCxnSpPr>
            <p:cNvPr id="124" name="Conector angulado 22"/>
            <p:cNvCxnSpPr>
              <a:stCxn id="119" idx="0"/>
              <a:endCxn id="115" idx="2"/>
            </p:cNvCxnSpPr>
            <p:nvPr/>
          </p:nvCxnSpPr>
          <p:spPr>
            <a:xfrm rot="10800000">
              <a:off x="4463280" y="2780280"/>
              <a:ext cx="3312720" cy="1152720"/>
            </a:xfrm>
            <a:prstGeom prst="bentConnector2">
              <a:avLst/>
            </a:prstGeom>
            <a:ln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</p:cxnSp>
      </p:grpSp>
      <p:sp>
        <p:nvSpPr>
          <p:cNvPr id="125" name="CaixaDeTexto 23"/>
          <p:cNvSpPr/>
          <p:nvPr/>
        </p:nvSpPr>
        <p:spPr>
          <a:xfrm>
            <a:off x="179640" y="757080"/>
            <a:ext cx="8784720" cy="8820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QUAIS SÃO AS PARTES ENVOLVIDAS NA MOVIMENTAÇÃO DE RECURS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QUAIS SÃO AS FORMAS DE MOVIMENTAÇÃO DE RECURSOS FINANCEIR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25"/>
          <p:cNvSpPr/>
          <p:nvPr/>
        </p:nvSpPr>
        <p:spPr>
          <a:xfrm>
            <a:off x="1043640" y="2997000"/>
            <a:ext cx="324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ÊNCIAS/DELEG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26"/>
          <p:cNvSpPr/>
          <p:nvPr/>
        </p:nvSpPr>
        <p:spPr>
          <a:xfrm>
            <a:off x="4644000" y="2997000"/>
            <a:ext cx="33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ÊNCIAS/DELEG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ixaDeTexto 27"/>
          <p:cNvSpPr/>
          <p:nvPr/>
        </p:nvSpPr>
        <p:spPr>
          <a:xfrm>
            <a:off x="179640" y="5517360"/>
            <a:ext cx="8748000" cy="63828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ff0000"/>
                </a:solidFill>
                <a:latin typeface="Calibri"/>
              </a:rPr>
              <a:t>PROBLEMA:</a:t>
            </a: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 COMO CLASSIFICAR ORÇAMENTARIAMENTE AS TRANSFERÊNCIAS E DELEGAÇÕ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3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9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0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7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1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aixaDeTexto 22"/>
          <p:cNvSpPr/>
          <p:nvPr/>
        </p:nvSpPr>
        <p:spPr>
          <a:xfrm>
            <a:off x="4572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47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8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aixaDeTexto 33"/>
          <p:cNvSpPr/>
          <p:nvPr/>
        </p:nvSpPr>
        <p:spPr>
          <a:xfrm>
            <a:off x="6192720" y="5373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aixaDeTexto 34"/>
          <p:cNvSpPr/>
          <p:nvPr/>
        </p:nvSpPr>
        <p:spPr>
          <a:xfrm>
            <a:off x="7812360" y="1404000"/>
            <a:ext cx="1259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 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UMA PREFEITURA PARA CONSTRUÇÃO DE ESCOLA PÚBLICA QUE SERÁ INCORPORADA AO PATRIM. DO TRANSFERI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Conector angulado 49"/>
          <p:cNvCxnSpPr>
            <a:stCxn id="431" idx="3"/>
            <a:endCxn id="438" idx="1"/>
          </p:cNvCxnSpPr>
          <p:nvPr/>
        </p:nvCxnSpPr>
        <p:spPr>
          <a:xfrm>
            <a:off x="1547640" y="2891880"/>
            <a:ext cx="504360" cy="6541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56" name="Conector angulado 51"/>
          <p:cNvCxnSpPr>
            <a:stCxn id="438" idx="3"/>
            <a:endCxn id="444" idx="1"/>
          </p:cNvCxnSpPr>
          <p:nvPr/>
        </p:nvCxnSpPr>
        <p:spPr>
          <a:xfrm>
            <a:off x="3959280" y="3545640"/>
            <a:ext cx="613080" cy="19944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57" name="Conector angulado 53"/>
          <p:cNvCxnSpPr>
            <a:stCxn id="444" idx="3"/>
            <a:endCxn id="450" idx="1"/>
          </p:cNvCxnSpPr>
          <p:nvPr/>
        </p:nvCxnSpPr>
        <p:spPr>
          <a:xfrm flipV="1">
            <a:off x="5975640" y="4900320"/>
            <a:ext cx="433080" cy="6397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58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4.4.42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Conector angulado 37"/>
          <p:cNvCxnSpPr>
            <a:stCxn id="450" idx="3"/>
            <a:endCxn id="458" idx="1"/>
          </p:cNvCxnSpPr>
          <p:nvPr/>
        </p:nvCxnSpPr>
        <p:spPr>
          <a:xfrm flipV="1">
            <a:off x="7596000" y="3604680"/>
            <a:ext cx="397080" cy="1296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60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31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6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4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2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63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70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74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CaixaDeTexto 22"/>
          <p:cNvSpPr/>
          <p:nvPr/>
        </p:nvSpPr>
        <p:spPr>
          <a:xfrm>
            <a:off x="4572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480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81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aixaDeTexto 33"/>
          <p:cNvSpPr/>
          <p:nvPr/>
        </p:nvSpPr>
        <p:spPr>
          <a:xfrm>
            <a:off x="6192720" y="5301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aixaDeTexto 34"/>
          <p:cNvSpPr/>
          <p:nvPr/>
        </p:nvSpPr>
        <p:spPr>
          <a:xfrm>
            <a:off x="7812360" y="1409400"/>
            <a:ext cx="1259640" cy="9122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UMA ENTIDADE PRIVADA COM FINS LUCRATIVOS PARA SUBSÍDIO À PRODUÇÃO DE PRODUTOS AGRÍCOL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Conector angulado 49"/>
          <p:cNvCxnSpPr>
            <a:stCxn id="466" idx="3"/>
            <a:endCxn id="470" idx="1"/>
          </p:cNvCxnSpPr>
          <p:nvPr/>
        </p:nvCxnSpPr>
        <p:spPr>
          <a:xfrm flipV="1">
            <a:off x="1547640" y="2753640"/>
            <a:ext cx="756720" cy="2493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89" name="Conector angulado 51"/>
          <p:cNvCxnSpPr>
            <a:stCxn id="470" idx="3"/>
            <a:endCxn id="476" idx="1"/>
          </p:cNvCxnSpPr>
          <p:nvPr/>
        </p:nvCxnSpPr>
        <p:spPr>
          <a:xfrm>
            <a:off x="3707640" y="2753640"/>
            <a:ext cx="864720" cy="2061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90" name="Conector angulado 53"/>
          <p:cNvCxnSpPr>
            <a:stCxn id="476" idx="3"/>
            <a:endCxn id="491" idx="1"/>
          </p:cNvCxnSpPr>
          <p:nvPr/>
        </p:nvCxnSpPr>
        <p:spPr>
          <a:xfrm flipV="1">
            <a:off x="5975640" y="4399920"/>
            <a:ext cx="396720" cy="41472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92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3.3.60.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Conector angulado 37"/>
          <p:cNvCxnSpPr>
            <a:stCxn id="491" idx="3"/>
            <a:endCxn id="492" idx="1"/>
          </p:cNvCxnSpPr>
          <p:nvPr/>
        </p:nvCxnSpPr>
        <p:spPr>
          <a:xfrm flipV="1">
            <a:off x="7596000" y="3604680"/>
            <a:ext cx="397080" cy="7956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91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8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03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EXEMPLO DE CLASSIFICAÇÃO - 5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5" name="Conector reto 5"/>
          <p:cNvCxnSpPr/>
          <p:nvPr/>
        </p:nvCxnSpPr>
        <p:spPr>
          <a:xfrm>
            <a:off x="161964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96" name="CaixaDeTexto 6"/>
          <p:cNvSpPr/>
          <p:nvPr/>
        </p:nvSpPr>
        <p:spPr>
          <a:xfrm>
            <a:off x="144000" y="1404000"/>
            <a:ext cx="1403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RECEBE O RE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7"/>
          <p:cNvSpPr/>
          <p:nvPr/>
        </p:nvSpPr>
        <p:spPr>
          <a:xfrm>
            <a:off x="144000" y="256896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 DA FED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aixaDeTexto 10"/>
          <p:cNvSpPr/>
          <p:nvPr/>
        </p:nvSpPr>
        <p:spPr>
          <a:xfrm>
            <a:off x="144000" y="337212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SE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144000" y="46461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IDADE PRIVADA COM FINS LUC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107640" y="594252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3"/>
          <p:cNvSpPr/>
          <p:nvPr/>
        </p:nvSpPr>
        <p:spPr>
          <a:xfrm>
            <a:off x="1691640" y="1404000"/>
            <a:ext cx="262728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A QUEM COMPETE A RESPON. OU PROPR. DOS BENS E SERV. GERAD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Conector reto 15"/>
          <p:cNvCxnSpPr/>
          <p:nvPr/>
        </p:nvCxnSpPr>
        <p:spPr>
          <a:xfrm>
            <a:off x="4392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03" name="CaixaDeTexto 16"/>
          <p:cNvSpPr/>
          <p:nvPr/>
        </p:nvSpPr>
        <p:spPr>
          <a:xfrm>
            <a:off x="2304360" y="2568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CEB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7"/>
          <p:cNvSpPr/>
          <p:nvPr/>
        </p:nvSpPr>
        <p:spPr>
          <a:xfrm>
            <a:off x="2051640" y="3360960"/>
            <a:ext cx="190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E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8"/>
          <p:cNvSpPr/>
          <p:nvPr/>
        </p:nvSpPr>
        <p:spPr>
          <a:xfrm>
            <a:off x="4464000" y="1404000"/>
            <a:ext cx="158364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TRANS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U DELEG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Conector reto 19"/>
          <p:cNvCxnSpPr/>
          <p:nvPr/>
        </p:nvCxnSpPr>
        <p:spPr>
          <a:xfrm>
            <a:off x="612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07" name="CaixaDeTexto 20"/>
          <p:cNvSpPr/>
          <p:nvPr/>
        </p:nvSpPr>
        <p:spPr>
          <a:xfrm>
            <a:off x="4572000" y="2424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REPARTIÇÃO DE RECE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21"/>
          <p:cNvSpPr/>
          <p:nvPr/>
        </p:nvSpPr>
        <p:spPr>
          <a:xfrm>
            <a:off x="4572000" y="3432960"/>
            <a:ext cx="1403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F. FUNDO A 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22"/>
          <p:cNvSpPr/>
          <p:nvPr/>
        </p:nvSpPr>
        <p:spPr>
          <a:xfrm>
            <a:off x="4428000" y="4491000"/>
            <a:ext cx="14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UTRAS TRANS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23"/>
          <p:cNvSpPr/>
          <p:nvPr/>
        </p:nvSpPr>
        <p:spPr>
          <a:xfrm>
            <a:off x="4572000" y="53553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LEG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24"/>
          <p:cNvSpPr/>
          <p:nvPr/>
        </p:nvSpPr>
        <p:spPr>
          <a:xfrm>
            <a:off x="6192000" y="1404000"/>
            <a:ext cx="1476000" cy="9126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QUEM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RECEBE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Conector reto 25"/>
          <p:cNvCxnSpPr/>
          <p:nvPr/>
        </p:nvCxnSpPr>
        <p:spPr>
          <a:xfrm>
            <a:off x="7740000" y="1449000"/>
            <a:ext cx="360" cy="51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513" name="Conector reto 27"/>
          <p:cNvCxnSpPr/>
          <p:nvPr/>
        </p:nvCxnSpPr>
        <p:spPr>
          <a:xfrm>
            <a:off x="0" y="2412000"/>
            <a:ext cx="9144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14" name="CaixaDeTexto 29"/>
          <p:cNvSpPr/>
          <p:nvPr/>
        </p:nvSpPr>
        <p:spPr>
          <a:xfrm>
            <a:off x="6192720" y="249696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STADO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30"/>
          <p:cNvSpPr/>
          <p:nvPr/>
        </p:nvSpPr>
        <p:spPr>
          <a:xfrm>
            <a:off x="6192720" y="285300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NÃO INT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aixaDeTexto 31"/>
          <p:cNvSpPr/>
          <p:nvPr/>
        </p:nvSpPr>
        <p:spPr>
          <a:xfrm>
            <a:off x="6408720" y="471600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UNICÍ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aixaDeTexto 32"/>
          <p:cNvSpPr/>
          <p:nvPr/>
        </p:nvSpPr>
        <p:spPr>
          <a:xfrm>
            <a:off x="6192720" y="5013000"/>
            <a:ext cx="140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33"/>
          <p:cNvSpPr/>
          <p:nvPr/>
        </p:nvSpPr>
        <p:spPr>
          <a:xfrm>
            <a:off x="6228360" y="5301360"/>
            <a:ext cx="1403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SÓRC. QUE O ENTE INTEGRA -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aixaDeTexto 34"/>
          <p:cNvSpPr/>
          <p:nvPr/>
        </p:nvSpPr>
        <p:spPr>
          <a:xfrm>
            <a:off x="7812360" y="1409400"/>
            <a:ext cx="1259640" cy="9122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CLASSI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chemeClr val="dk1"/>
                </a:solidFill>
                <a:latin typeface="Calibri"/>
              </a:rPr>
              <a:t>ORÇ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47"/>
          <p:cNvSpPr/>
          <p:nvPr/>
        </p:nvSpPr>
        <p:spPr>
          <a:xfrm>
            <a:off x="0" y="692640"/>
            <a:ext cx="9143640" cy="6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O CLASSIFICAR MOVIMENTAÇÃO DE RECURSOS PARA UM CONSÓRCIO DO QUAL O ENTE FAZ PARTE NA PARCELA DE SEU RATEIO PARA USO COM DESPESA DE PESSO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Conector angulado 49"/>
          <p:cNvCxnSpPr>
            <a:stCxn id="500" idx="3"/>
            <a:endCxn id="503" idx="1"/>
          </p:cNvCxnSpPr>
          <p:nvPr/>
        </p:nvCxnSpPr>
        <p:spPr>
          <a:xfrm flipV="1">
            <a:off x="1510920" y="2753640"/>
            <a:ext cx="793440" cy="351216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22" name="Conector angulado 51"/>
          <p:cNvCxnSpPr>
            <a:stCxn id="503" idx="3"/>
            <a:endCxn id="509" idx="1"/>
          </p:cNvCxnSpPr>
          <p:nvPr/>
        </p:nvCxnSpPr>
        <p:spPr>
          <a:xfrm>
            <a:off x="3707640" y="2753640"/>
            <a:ext cx="720360" cy="20610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23" name="Conector angulado 53"/>
          <p:cNvCxnSpPr>
            <a:stCxn id="509" idx="3"/>
            <a:endCxn id="518" idx="1"/>
          </p:cNvCxnSpPr>
          <p:nvPr/>
        </p:nvCxnSpPr>
        <p:spPr>
          <a:xfrm>
            <a:off x="5831280" y="4814280"/>
            <a:ext cx="397080" cy="10872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24" name="CaixaDeTexto 35"/>
          <p:cNvSpPr/>
          <p:nvPr/>
        </p:nvSpPr>
        <p:spPr>
          <a:xfrm>
            <a:off x="7992720" y="3420360"/>
            <a:ext cx="11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3.3.71.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angulado 37"/>
          <p:cNvCxnSpPr>
            <a:stCxn id="518" idx="3"/>
            <a:endCxn id="524" idx="1"/>
          </p:cNvCxnSpPr>
          <p:nvPr/>
        </p:nvCxnSpPr>
        <p:spPr>
          <a:xfrm flipV="1">
            <a:off x="7631640" y="3604680"/>
            <a:ext cx="361440" cy="2296800"/>
          </a:xfrm>
          <a:prstGeom prst="bent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26" name="CaixaDeTexto 41"/>
          <p:cNvSpPr/>
          <p:nvPr/>
        </p:nvSpPr>
        <p:spPr>
          <a:xfrm>
            <a:off x="6372360" y="4077000"/>
            <a:ext cx="122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QUALQ.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95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96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71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1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73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74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tângulo 11"/>
          <p:cNvSpPr/>
          <p:nvPr/>
        </p:nvSpPr>
        <p:spPr>
          <a:xfrm>
            <a:off x="3276000" y="2133000"/>
            <a:ext cx="561636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etângulo 12"/>
          <p:cNvSpPr/>
          <p:nvPr/>
        </p:nvSpPr>
        <p:spPr>
          <a:xfrm>
            <a:off x="179640" y="2484000"/>
            <a:ext cx="252000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Retângulo 13"/>
          <p:cNvSpPr/>
          <p:nvPr/>
        </p:nvSpPr>
        <p:spPr>
          <a:xfrm>
            <a:off x="3492000" y="4509000"/>
            <a:ext cx="546372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Retângulo 14"/>
          <p:cNvSpPr/>
          <p:nvPr/>
        </p:nvSpPr>
        <p:spPr>
          <a:xfrm>
            <a:off x="179640" y="4869000"/>
            <a:ext cx="4248000" cy="359640"/>
          </a:xfrm>
          <a:prstGeom prst="rect">
            <a:avLst/>
          </a:prstGeom>
          <a:solidFill>
            <a:srgbClr val="ffff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5076000" y="2493000"/>
            <a:ext cx="1728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7236360" y="2493000"/>
            <a:ext cx="1728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Retângulo 9"/>
          <p:cNvSpPr/>
          <p:nvPr/>
        </p:nvSpPr>
        <p:spPr>
          <a:xfrm>
            <a:off x="179640" y="5229360"/>
            <a:ext cx="115164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Retângulo 10"/>
          <p:cNvSpPr/>
          <p:nvPr/>
        </p:nvSpPr>
        <p:spPr>
          <a:xfrm>
            <a:off x="1763640" y="5229360"/>
            <a:ext cx="1800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ONCEIT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16"/>
          <p:cNvSpPr/>
          <p:nvPr/>
        </p:nvSpPr>
        <p:spPr>
          <a:xfrm>
            <a:off x="179640" y="3285000"/>
            <a:ext cx="2376000" cy="359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Retângulo 17"/>
          <p:cNvSpPr/>
          <p:nvPr/>
        </p:nvSpPr>
        <p:spPr>
          <a:xfrm>
            <a:off x="6516360" y="4149000"/>
            <a:ext cx="2376000" cy="359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Retângulo 18"/>
          <p:cNvSpPr/>
          <p:nvPr/>
        </p:nvSpPr>
        <p:spPr>
          <a:xfrm>
            <a:off x="179640" y="4509000"/>
            <a:ext cx="1151640" cy="287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Retângulo 20"/>
          <p:cNvSpPr/>
          <p:nvPr/>
        </p:nvSpPr>
        <p:spPr>
          <a:xfrm>
            <a:off x="7956360" y="2925000"/>
            <a:ext cx="935640" cy="359640"/>
          </a:xfrm>
          <a:prstGeom prst="rect">
            <a:avLst/>
          </a:prstGeom>
          <a:solidFill>
            <a:srgbClr val="ff0000">
              <a:alpha val="6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CaixaDeTexto 23"/>
          <p:cNvSpPr/>
          <p:nvPr/>
        </p:nvSpPr>
        <p:spPr>
          <a:xfrm>
            <a:off x="179640" y="836640"/>
            <a:ext cx="8784720" cy="54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FERÊNCIA – CONCEITO DO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§ 2º e 6º  do Art. 12 DA Lei 4.320/19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§ 2º - Classificam-se como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Transferências Corrente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as dotações para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despesas as quais não corresponda contraprestação direta em bens ou serviç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inclusive para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contribuições e subvenções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estinadas a atender à manifestação de outras entidades de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direito público ou privado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§ 6º - São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Transferências de Capital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1" i="1" lang="pt-BR" sz="2400" spc="-1" strike="noStrike" u="sng">
                <a:solidFill>
                  <a:srgbClr val="ff0000"/>
                </a:solidFill>
                <a:uFillTx/>
                <a:latin typeface="Calibri"/>
              </a:rPr>
              <a:t>dotações para investimentos ou inversões financeira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que outras pessoas de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direito público ou privado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evam realizar,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independentemente de contraprestação direta em bens ou serviço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constituindo essas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transferências auxílios ou contribuições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, segundo derivem diretamente da Lei de Orçamento ou de lei especialmente anterior, bem como as dotações para amortização da dívida públic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ONCEIT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aixaDeTexto 15"/>
          <p:cNvSpPr/>
          <p:nvPr/>
        </p:nvSpPr>
        <p:spPr>
          <a:xfrm>
            <a:off x="107640" y="2051640"/>
            <a:ext cx="8964000" cy="8211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BENS E SERVIÇOS ADQUIRIDOS COM APLICAÇÃO DESSES RECUR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PERTENCEM AO TRANSFERIDOR OU AO RECEBE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19"/>
          <p:cNvSpPr/>
          <p:nvPr/>
        </p:nvSpPr>
        <p:spPr>
          <a:xfrm>
            <a:off x="107640" y="98064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HÁ CONTRAPRESTAÇÃO DIRETA EM BENS E/OU SERVIÇ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21"/>
          <p:cNvSpPr/>
          <p:nvPr/>
        </p:nvSpPr>
        <p:spPr>
          <a:xfrm>
            <a:off x="107640" y="151452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24"/>
          <p:cNvSpPr/>
          <p:nvPr/>
        </p:nvSpPr>
        <p:spPr>
          <a:xfrm>
            <a:off x="107640" y="295452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RECEB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7"/>
          <p:cNvSpPr/>
          <p:nvPr/>
        </p:nvSpPr>
        <p:spPr>
          <a:xfrm>
            <a:off x="107640" y="353412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SÃO CORRENTES OU DE CAP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8"/>
          <p:cNvSpPr/>
          <p:nvPr/>
        </p:nvSpPr>
        <p:spPr>
          <a:xfrm>
            <a:off x="107640" y="41090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PODEM SER CORRENTES OU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9"/>
          <p:cNvSpPr/>
          <p:nvPr/>
        </p:nvSpPr>
        <p:spPr>
          <a:xfrm>
            <a:off x="107640" y="468612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APLICAM-SE A ENTIDADES PÚBLICAS OU PRIV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10"/>
          <p:cNvSpPr/>
          <p:nvPr/>
        </p:nvSpPr>
        <p:spPr>
          <a:xfrm>
            <a:off x="107640" y="52610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PÚBLICAS E PRI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aixaDeTexto 23"/>
          <p:cNvSpPr/>
          <p:nvPr/>
        </p:nvSpPr>
        <p:spPr>
          <a:xfrm>
            <a:off x="179640" y="620640"/>
            <a:ext cx="8784720" cy="31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ODALIDADES DE APLICAÇÃO PARA TRANSFERÊ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0 - Transferências à Un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0 - Transferências a Estados e a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31 - Transferências a Estados e ao Distrito Federal - Fundo a F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40 - Transferências a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41 - Transferências a Municípios - Fundo a F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50 - Transferências a Instituições Privadas sem Fins Luc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60 - Transferências a Instituições Privadas com Fins Lucra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70 - Transferências a Instituições Multigovernam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71 - Transferências a 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aixaDeTexto 5"/>
          <p:cNvSpPr/>
          <p:nvPr/>
        </p:nvSpPr>
        <p:spPr>
          <a:xfrm>
            <a:off x="107640" y="3894120"/>
            <a:ext cx="8964000" cy="39456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chemeClr val="dk1"/>
                </a:solidFill>
                <a:latin typeface="Calibri"/>
              </a:rPr>
              <a:t>COM QUAIS ED DEVEM SER ASSOCIADAS ESTAS MODALIDADES DE APLIC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ixaDeTexto 6"/>
          <p:cNvSpPr/>
          <p:nvPr/>
        </p:nvSpPr>
        <p:spPr>
          <a:xfrm>
            <a:off x="179640" y="4365000"/>
            <a:ext cx="8784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LEMENTOS QUE NÃO REPRESENTEM CONTRAPRESTAÇÃO DIRETA EM BENS OU SERVIÇOS,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Tabela 7"/>
          <p:cNvGraphicFramePr/>
          <p:nvPr/>
        </p:nvGraphicFramePr>
        <p:xfrm>
          <a:off x="827640" y="5085360"/>
          <a:ext cx="7488360" cy="1112400"/>
        </p:xfrm>
        <a:graphic>
          <a:graphicData uri="http://schemas.openxmlformats.org/drawingml/2006/table">
            <a:tbl>
              <a:tblPr/>
              <a:tblGrid>
                <a:gridCol w="3744360"/>
                <a:gridCol w="37443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– CONTRIB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– SUBVENÇÕES ECONÔM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– AUXÍ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– DISTRIBUIÇÃO CONSTITUCIONAL OU LEGAL DE RECE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– SUBVENÇÕES SOC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CaixaDeTexto 8"/>
          <p:cNvSpPr/>
          <p:nvPr/>
        </p:nvSpPr>
        <p:spPr>
          <a:xfrm>
            <a:off x="7092360" y="2061000"/>
            <a:ext cx="1728000" cy="63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ortaria SOF-STN nº 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TRANSFERÊNCIA – CLASSIFICAÇÃO ORÇAMENTÁRIA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aixaDeTexto 23"/>
          <p:cNvSpPr/>
          <p:nvPr/>
        </p:nvSpPr>
        <p:spPr>
          <a:xfrm>
            <a:off x="179640" y="692640"/>
            <a:ext cx="878472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LEMENTOS DE DESPESA ASSOCIADOS ÀS TRANSFERÊ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1 - Contribuiçõe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correntes e de capital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(neste caso, quando deriva de lei especialmente anterior)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aos entes da Federação e a entidades privadas se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exceto para os serviços essenciais de assistência social, médica e educ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2 - Auxíli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de capital aos entes da Federação e a entidades privadas se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derivadas diretamente da lei orçamentá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3 - Subvenções Socia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às entidades privadas se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para os serviços essenciais de assistência social, médica e educ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45 - Subvenções Econômic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, exclusivamente, a entidades privadas com fins lucra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81 - Distribuição Constitucional ou Legal de Receit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utilizado para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transferências aos entes da Federaçã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em decorrência de </a:t>
            </a: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determinação da Constituição ou estabelecida em lei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tângulo 5"/>
          <p:cNvSpPr/>
          <p:nvPr/>
        </p:nvSpPr>
        <p:spPr>
          <a:xfrm>
            <a:off x="1691640" y="1845000"/>
            <a:ext cx="2808000" cy="359640"/>
          </a:xfrm>
          <a:prstGeom prst="rect">
            <a:avLst/>
          </a:prstGeom>
          <a:solidFill>
            <a:schemeClr val="bg1">
              <a:lumMod val="50000"/>
              <a:alpha val="5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aixaDeTexto 4"/>
          <p:cNvSpPr/>
          <p:nvPr/>
        </p:nvSpPr>
        <p:spPr>
          <a:xfrm>
            <a:off x="179640" y="745560"/>
            <a:ext cx="878472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TINAÇÕES DE RECURSOS PARA O SETOR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ERVAR ART. 26 DA LR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Art. 26. 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destinação de recurs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para, direta ou indiretamente, </a:t>
            </a:r>
            <a:r>
              <a:rPr b="1" i="1" lang="pt-BR" sz="2000" spc="-1" strike="noStrike">
                <a:solidFill>
                  <a:srgbClr val="ff0000"/>
                </a:solidFill>
                <a:latin typeface="Calibri"/>
              </a:rPr>
              <a:t>cobrir necessidades de pessoas físicas ou déficits de pessoas jurídica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deverá ser autorizada por lei específica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atender às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ndições estabelecidas na lei de diretrizes orçamentária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e estar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prevista no orçamento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u em seus créditos adicionai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§ 1º O disposto no caput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plica-se a toda a administração indireta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inclusive fundações públicas e empresas estatai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exceto, no exercício de suas atribuições precípuas, as instituições financeiras e o Banco Central do Bras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§ 2º Compreende-se incluída a concessão de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empréstim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financiament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refinanciamento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, inclusive as respectivas prorrogações e a composição de dívidas, a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ncessão de subvenções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 e a participação em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nstituição ou aumento de capital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CaixaDeTexto 23"/>
          <p:cNvSpPr/>
          <p:nvPr/>
        </p:nvSpPr>
        <p:spPr>
          <a:xfrm>
            <a:off x="179640" y="764640"/>
            <a:ext cx="8784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VEN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OBSERVAR ART. 12 DA 4.320/196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§ 3º Consideram-se subvenções, para os efeitos desta lei, as transferências destinadas a cobrir despesas de custeio das entidades beneficiadas, distinguindo-se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subvenções socia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as que se destinem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instituições públicas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ivad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e caráter assistencial ou cultural, sem finalidade lucr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I - 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subvenções econômic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as que se destinem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mprêsas públicas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ivada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caráter industrial, comercial, agrícola ou pastoril.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ixaDeTexto 4"/>
          <p:cNvSpPr/>
          <p:nvPr/>
        </p:nvSpPr>
        <p:spPr>
          <a:xfrm>
            <a:off x="107640" y="5301360"/>
            <a:ext cx="8964000" cy="45540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chemeClr val="dk1"/>
                </a:solidFill>
                <a:latin typeface="Calibri"/>
              </a:rPr>
              <a:t>SUBVENÇÕES ECON. APLICAM-SE A ENTIDADES DE DIREITO PÚBL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ixaDeTexto 5"/>
          <p:cNvSpPr/>
          <p:nvPr/>
        </p:nvSpPr>
        <p:spPr>
          <a:xfrm>
            <a:off x="107640" y="587628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000" spc="-1" strike="noStrike">
                <a:solidFill>
                  <a:srgbClr val="ff0000"/>
                </a:solidFill>
                <a:latin typeface="Calibri"/>
              </a:rPr>
              <a:t>SOMENTE A ENTIDADES DE DIREITO PRI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11160"/>
            <a:ext cx="91436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pt-BR" sz="2900" spc="-1" strike="noStrike">
                <a:solidFill>
                  <a:srgbClr val="ffffff"/>
                </a:solidFill>
                <a:latin typeface="Calibri"/>
              </a:rPr>
              <a:t>PONTOS DE ATENÇÃO</a:t>
            </a:r>
            <a:endParaRPr b="0" lang="pt-BR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aixaDeTexto 4"/>
          <p:cNvSpPr/>
          <p:nvPr/>
        </p:nvSpPr>
        <p:spPr>
          <a:xfrm>
            <a:off x="179640" y="908640"/>
            <a:ext cx="8784720" cy="47833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IBUIÇÕES (ED 41) x AUXÍLIOS (ED 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RT. 12 DA LEI 4.320/19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§ 6º São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Transferências de Capit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s dotações para investimentos ou inversões financeiras que outras pessoas de direito público ou privado devam realizar, 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independentemente de contraprestação direta em bens ou serviç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constituindo essas transferências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alibri"/>
              </a:rPr>
              <a:t>auxílios ou contribuiçõ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segundo derivem diretamente da Lei de Orçamento ou de lei especialmente anterior, bem como as dotações para amortização da dívid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CONTRIBUIÇÕES e AUXÍLI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PODEM TER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ATEGORIA ECONÔMIC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DESPESA DE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  <Words>2285</Words>
  <Paragraphs>436</Paragraphs>
  <Company>Secretaria do Tesouro Nacion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46:43Z</dcterms:created>
  <dc:creator>flaviafm</dc:creator>
  <dc:description/>
  <dc:language>en-US</dc:language>
  <cp:lastModifiedBy>Mangualde</cp:lastModifiedBy>
  <dcterms:modified xsi:type="dcterms:W3CDTF">2010-11-08T20:03:02Z</dcterms:modified>
  <cp:revision>2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Apresentação na tela (4:3)</vt:lpwstr>
  </property>
  <property fmtid="{D5CDD505-2E9C-101B-9397-08002B2CF9AE}" pid="4" name="Slides">
    <vt:r8>22</vt:r8>
  </property>
</Properties>
</file>