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80513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ACB5D-8D95-4B6A-AE46-5FAA6E1CC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86407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0000" y="3790080"/>
            <a:ext cx="86407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3A530-07AA-4E9D-AC8A-FDCD79247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0000" y="37900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7640" y="37900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0ABBD-DAEA-48F2-BA36-0F1198FC2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2682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3160" y="12682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0000" y="37900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37900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3160" y="37900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E90FF-7858-4D33-9F8D-265123423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A4B3E-A7FF-48B0-B0CC-DFA6E3DB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AABD8-F473-407B-BB39-E274BD50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01FB6-4228-41F6-8E44-76959D17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A103C-4201-4774-BB34-D2C37E4C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BF547-98DC-47AE-942B-A8F5153E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69640" y="189000"/>
            <a:ext cx="684036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03817-F5E9-40CB-A6F6-D6D07F21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0000" y="37900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61C97-0E90-4B46-AC13-E235593A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285B0-D317-4223-A3BA-76AF834F7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7640" y="37900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77EA5-9AD7-4C1C-88E3-890EDA6D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0000" y="3790080"/>
            <a:ext cx="86407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55272-0D93-415B-93C9-D3D74F52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86407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0000" y="3790080"/>
            <a:ext cx="86407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9B40A-0BC3-4BB4-A6A4-DBC30A73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0000" y="37900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7640" y="37900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2E515-92F9-42AD-BAE6-21A1AB8C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1400" y="12682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3160" y="12682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0000" y="37900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1400" y="37900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3160" y="37900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B493B-AEED-4944-86C7-A26724CE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84C1-AF01-4479-81A8-07DF33FCA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C7A7B-0A22-4D65-85DF-CD83D0B5F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EBDC9-325C-42B3-9D0B-59D21641C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9640" y="189000"/>
            <a:ext cx="684036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BA26-CF49-4073-BABC-FB0885E46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0000" y="37900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F19D0-CD7A-499E-AA26-5614C15CE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7640" y="37900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3255-BAA9-4AC5-8A20-62F252470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0000" y="3790080"/>
            <a:ext cx="86407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C64A8-2607-4B38-9C31-E3439E8BF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37360"/>
            <a:ext cx="9180360" cy="620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7792" t="32441" r="8616" b="34766"/>
          <a:stretch/>
        </p:blipFill>
        <p:spPr>
          <a:xfrm>
            <a:off x="8005680" y="6499080"/>
            <a:ext cx="1079640" cy="29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70000" y="6381720"/>
            <a:ext cx="6264000" cy="324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99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607080" y="6381720"/>
            <a:ext cx="5032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7BF0-1E7B-4C96-BADB-C9B4003F18D2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40360" cy="444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0" t="0" r="0" b="18228"/>
          <a:stretch/>
        </p:blipFill>
        <p:spPr>
          <a:xfrm>
            <a:off x="19080" y="1246320"/>
            <a:ext cx="9180360" cy="5611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76440" y="3428640"/>
            <a:ext cx="47782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198000" y="6381720"/>
            <a:ext cx="647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509640" y="6381720"/>
            <a:ext cx="4824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99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78720" y="6381720"/>
            <a:ext cx="503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C445-9135-46C2-B386-3DE792D7FD8F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73280" y="6313320"/>
            <a:ext cx="1871640" cy="409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9000" y="1604520"/>
            <a:ext cx="8261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00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0000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65640" y="3500280"/>
            <a:ext cx="5760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67000" y="3933720"/>
            <a:ext cx="5832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16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716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773280" y="3860640"/>
            <a:ext cx="8353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ERINTENDÊNCIA REGIONAL VALE DO ITAJAÍ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26200" y="510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04920" y="5084640"/>
            <a:ext cx="7634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97840" y="5897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256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360" y="333360"/>
            <a:ext cx="8982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PERÍODO PRÉ-ELEITORAL -TRANSFERÊNCIAS DE RECURSOS DA  UNIÃO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964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 2008, é vedada a realização de operações de crédito no período de 120 dias que antecedem a troca do Chefe do Poder Executivo, ou seja, de 03 de setembro a 31 de dezembro de 2008, com o governo municipal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ei eleitoral proíbe desembolsar recursos no período de três meses que antecedem a realização do pleito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 desembolso dentro do período de três meses que antecedem ao dia da eleição só é possível em contratos firmados em data anterior ao início deste período cujo objeto contratual tenha sido caracterizado como “em andamento” em data também anterior ao início deste período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09640" y="333000"/>
            <a:ext cx="6840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PERÍODO PRÉ-ELEITORAL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comprovação do início do objeto contratual para operações de obras e serviços deve atender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utorização de início do objeto expedida pela CAIXA até 04/07/2008, devidamente registrada no SIAPF;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resentação, até 08/07/2008, de declaração do tomador, informando a data de início das obras/serviços ocorrida até 04/07/2008, que deverá ser encaminhada anexando-se a respectiva ordem de serviço;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resentação, até 18/07/2008, de pedido de medição da etapa de obra/serviço, cujo ateste da execução pela CAIXA deve ocorrer até 01/08/2008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9640" y="188640"/>
            <a:ext cx="734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PERÍODO PRÉ-ELEITORAL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É vedada a liberação e a autorização de saque dos recursos no período pré-eleitoral para operações exclusivas para aquisição de  bens, máquinas e equipamentos.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É vedada a antecipação de recursos de parcelas, nos casos de obras/serviços executados sob o regime de administração direta, cujo início do objeto contratual não esteja comprovado até a data limite estipulada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6360" y="333000"/>
            <a:ext cx="6840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PERÍODO PRÉ-ELEITORAL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As operações que, embora tenham autorização para início de obra expedida pela CAIXA, possuam medição que se refira exclusivamente a atos preparatórios, tais como elaboração de projeto, aquisição de terreno e execução do trabalho social, além dos serviços preliminares para início de obra (implantação de canteiro de obra, instalação de placas, cercamento de área, dentre outros) não estão aptas a receber recursos no período pré-eleitora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33280" y="62028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PERÍODO PRÉ-ELEITORAL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 caso de Contratos de Repasse firmados no âmbito do MDA, do MDS, do MCT e do MI, considerando que a autorização para início do empreendimento se condiciona ao crédito dos recursos na conta corrente vinculada ao contrato, no período pré-eleitoral, não são emitidas Ordens Bancárias.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33280" y="62028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TOTAL DE CONTRATOS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epasses e Financiamento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Quantidade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Val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297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Contratados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R$ 113.018.350,00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80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Em contratação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R$          20.000,00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62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360" y="5733720"/>
            <a:ext cx="6840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Obrigado!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20:55:03Z</dcterms:created>
  <dc:creator>CEF</dc:creator>
  <dc:description/>
  <dc:language>en-US</dc:language>
  <cp:lastModifiedBy>Michele</cp:lastModifiedBy>
  <dcterms:modified xsi:type="dcterms:W3CDTF">2008-06-19T17:30:29Z</dcterms:modified>
  <cp:revision>457</cp:revision>
  <dc:subject/>
  <dc:title>Slide sem título </dc:title>
</cp:coreProperties>
</file>