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6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D560-2ED1-4E81-A2FA-A70A0A0E5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0920" y="-1800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33080" y="1628640"/>
            <a:ext cx="75596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33080" y="3923280"/>
            <a:ext cx="75596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F03F-0E64-46D0-8665-468BFB1F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0920" y="-1800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33080" y="1628640"/>
            <a:ext cx="36889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06680" y="1628640"/>
            <a:ext cx="36889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33080" y="3923280"/>
            <a:ext cx="36889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06680" y="3923280"/>
            <a:ext cx="36889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62D6-21F4-49B7-991E-EB472ED90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0920" y="-1800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33080" y="1628640"/>
            <a:ext cx="24339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89080" y="1628640"/>
            <a:ext cx="24339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5080" y="1628640"/>
            <a:ext cx="24339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33080" y="3923280"/>
            <a:ext cx="24339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89080" y="3923280"/>
            <a:ext cx="24339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5080" y="3923280"/>
            <a:ext cx="24339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F18F-BC5C-4ACE-802A-6552D57CD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0920" y="-1800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33080" y="1628640"/>
            <a:ext cx="75596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0920" y="-1800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33080" y="1628640"/>
            <a:ext cx="75596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-1800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33080" y="1628640"/>
            <a:ext cx="36889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206680" y="1628640"/>
            <a:ext cx="36889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0920" y="-1800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10920" y="-18000"/>
            <a:ext cx="8243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-1800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33080" y="1628640"/>
            <a:ext cx="36889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06680" y="1628640"/>
            <a:ext cx="36889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333080" y="3923280"/>
            <a:ext cx="36889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0920" y="-1800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33080" y="1628640"/>
            <a:ext cx="75596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6F62-0275-4273-9CC7-979FE000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0920" y="-1800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33080" y="1628640"/>
            <a:ext cx="36889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6680" y="1628640"/>
            <a:ext cx="36889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206680" y="3923280"/>
            <a:ext cx="36889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0920" y="-1800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33080" y="1628640"/>
            <a:ext cx="36889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06680" y="1628640"/>
            <a:ext cx="36889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33080" y="3923280"/>
            <a:ext cx="75596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0920" y="-1800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33080" y="1628640"/>
            <a:ext cx="75596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333080" y="3923280"/>
            <a:ext cx="75596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0920" y="-1800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33080" y="1628640"/>
            <a:ext cx="36889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06680" y="1628640"/>
            <a:ext cx="36889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33080" y="3923280"/>
            <a:ext cx="36889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206680" y="3923280"/>
            <a:ext cx="36889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-1800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33080" y="1628640"/>
            <a:ext cx="24339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89080" y="1628640"/>
            <a:ext cx="24339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45080" y="1628640"/>
            <a:ext cx="24339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333080" y="3923280"/>
            <a:ext cx="24339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889080" y="3923280"/>
            <a:ext cx="24339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445080" y="3923280"/>
            <a:ext cx="24339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0920" y="-1800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33080" y="1628640"/>
            <a:ext cx="75596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EA05-7DE1-43F2-BD67-8C5A7169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0920" y="-1800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33080" y="1628640"/>
            <a:ext cx="36889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06680" y="1628640"/>
            <a:ext cx="36889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3662-262D-42A5-8FDC-49CABA97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-1800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0FAD-0F88-497D-A9A9-E4B095BC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0920" y="-18000"/>
            <a:ext cx="8243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11C5-218A-413C-8F3F-148EFBC1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0920" y="-1800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33080" y="1628640"/>
            <a:ext cx="36889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06680" y="1628640"/>
            <a:ext cx="36889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33080" y="3923280"/>
            <a:ext cx="36889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30F4-EC0F-4102-95DB-CCDF40B5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0920" y="-1800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33080" y="1628640"/>
            <a:ext cx="36889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06680" y="1628640"/>
            <a:ext cx="36889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06680" y="3923280"/>
            <a:ext cx="36889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D78C-8F6F-4484-BB18-2F39F8CA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0920" y="-1800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33080" y="1628640"/>
            <a:ext cx="36889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06680" y="1628640"/>
            <a:ext cx="36889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33080" y="3923280"/>
            <a:ext cx="75596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92F2-F581-4EEB-818B-26755A9D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-1800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3080" y="1628640"/>
            <a:ext cx="75596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8640" y="6389280"/>
            <a:ext cx="213336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20880" y="6389280"/>
            <a:ext cx="289548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01920" y="6389280"/>
            <a:ext cx="213372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960D-48C5-4124-98B4-C93B570AFE4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Logo_SESC_novo"/>
          <p:cNvPicPr/>
          <p:nvPr/>
        </p:nvPicPr>
        <p:blipFill>
          <a:blip r:embed="rId3"/>
          <a:stretch/>
        </p:blipFill>
        <p:spPr>
          <a:xfrm>
            <a:off x="250920" y="115920"/>
            <a:ext cx="2089080" cy="80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0920" y="-1800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33080" y="1628640"/>
            <a:ext cx="75596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09120" y="2286000"/>
            <a:ext cx="5295960" cy="29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500" spc="-1" strike="noStrike">
                <a:solidFill>
                  <a:srgbClr val="ff3300"/>
                </a:solidFill>
                <a:latin typeface="Times New Roman"/>
              </a:rPr>
              <a:t>CULTURA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3300"/>
                </a:solidFill>
                <a:latin typeface="Times New Roman"/>
              </a:rPr>
              <a:t>Reunião AMMV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10/03/2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2411280" y="189000"/>
            <a:ext cx="6264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3300"/>
                </a:solidFill>
                <a:latin typeface="Times New Roman"/>
              </a:rPr>
              <a:t>Circuito Catarinense de M</a:t>
            </a:r>
            <a:r>
              <a:rPr b="0" lang="de-DE" sz="3600" spc="-1" strike="noStrike">
                <a:solidFill>
                  <a:srgbClr val="ff3300"/>
                </a:solidFill>
                <a:latin typeface="Arial"/>
              </a:rPr>
              <a:t>ú</a:t>
            </a:r>
            <a:r>
              <a:rPr b="0" lang="de-DE" sz="3600" spc="-1" strike="noStrike">
                <a:solidFill>
                  <a:srgbClr val="ff3300"/>
                </a:solidFill>
                <a:latin typeface="Times New Roman"/>
              </a:rPr>
              <a:t>s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987640" y="2421000"/>
            <a:ext cx="4248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Em 2011 serão realizadas trê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etapas do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Circuito Catarinense 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úsica”com o objetivo de </a:t>
            </a: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circ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recitais de música criados 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executados por artist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catarinens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gentil_do_orocongo"/>
          <p:cNvPicPr/>
          <p:nvPr/>
        </p:nvPicPr>
        <p:blipFill>
          <a:blip r:embed="rId1"/>
          <a:stretch/>
        </p:blipFill>
        <p:spPr>
          <a:xfrm>
            <a:off x="5940360" y="4448160"/>
            <a:ext cx="3203640" cy="2409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"/>
          <p:cNvPicPr/>
          <p:nvPr/>
        </p:nvPicPr>
        <p:blipFill>
          <a:blip r:embed="rId2"/>
          <a:stretch/>
        </p:blipFill>
        <p:spPr>
          <a:xfrm>
            <a:off x="900000" y="1125360"/>
            <a:ext cx="208944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611280" y="2637000"/>
            <a:ext cx="8532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500" spc="-1" strike="noStrike">
                <a:solidFill>
                  <a:srgbClr val="ff3300"/>
                </a:solidFill>
                <a:latin typeface="Times New Roman"/>
              </a:rPr>
              <a:t>ARTES CÊNICAS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684360" y="1916280"/>
            <a:ext cx="48243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 projeto continuará com quatro etapas, trazendo para Santa Catarina montagens teatrais, criadas em vários estados brasileiros, que primem pela pesquisa de novas linguagens cênic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Nos dez anos de realização deste projeto, seis grupos de Santa Catarina foram convidados a mostrar seus trabalhos no Bras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1979640" y="189000"/>
            <a:ext cx="572436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ff3300"/>
                </a:solidFill>
                <a:latin typeface="Times New Roman"/>
              </a:rPr>
              <a:t>Palco Giratóri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"/>
          <p:cNvPicPr/>
          <p:nvPr/>
        </p:nvPicPr>
        <p:blipFill>
          <a:blip r:embed="rId1"/>
          <a:stretch/>
        </p:blipFill>
        <p:spPr>
          <a:xfrm>
            <a:off x="5796000" y="3510000"/>
            <a:ext cx="3348000" cy="334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"/>
          <p:cNvPicPr/>
          <p:nvPr/>
        </p:nvPicPr>
        <p:blipFill>
          <a:blip r:embed="rId2"/>
          <a:stretch/>
        </p:blipFill>
        <p:spPr>
          <a:xfrm>
            <a:off x="5435640" y="981000"/>
            <a:ext cx="251928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2843280" y="1484280"/>
            <a:ext cx="4392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s montagens de teatro e danç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atarinenses que se distanciem do sen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mum e do mercantilismo tem espaco n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ircuito de inclusão cultural cujo princi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objetivo é o de articular a criação art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ocal com o maior público possível.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619280" y="333360"/>
            <a:ext cx="6481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ff3300"/>
                </a:solidFill>
                <a:latin typeface="Times New Roman"/>
              </a:rPr>
              <a:t>EmCenaCatarin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492360" cy="3500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"/>
          <p:cNvPicPr/>
          <p:nvPr/>
        </p:nvPicPr>
        <p:blipFill>
          <a:blip r:embed="rId2"/>
          <a:stretch/>
        </p:blipFill>
        <p:spPr>
          <a:xfrm>
            <a:off x="2771640" y="3860640"/>
            <a:ext cx="2325960" cy="2541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/>
          <p:cNvPicPr/>
          <p:nvPr/>
        </p:nvPicPr>
        <p:blipFill>
          <a:blip r:embed="rId3"/>
          <a:stretch/>
        </p:blipFill>
        <p:spPr>
          <a:xfrm>
            <a:off x="755640" y="2060640"/>
            <a:ext cx="200808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179280" y="2924280"/>
            <a:ext cx="77058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500" spc="-1" strike="noStrike">
                <a:solidFill>
                  <a:srgbClr val="ff3300"/>
                </a:solidFill>
                <a:latin typeface="Times New Roman"/>
              </a:rPr>
              <a:t>LITERATURA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116000" y="1267920"/>
            <a:ext cx="71280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 projeto faz circular espetáculos de contação de histórias por tod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s Unidades do SESC, reavivando o interesse pelas narrativa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radição oral e histórias literári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m 2011 estão previstos 05 circuitos, com a apresentação de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spetáculos diferentes para um público direto de 100 mil crianças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dolesc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cc33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urso de Formação de Contadores de Histó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cc33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Temporada Sesc de Novos Contadores de Histó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2555640" y="549360"/>
            <a:ext cx="500364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ff3300"/>
                </a:solidFill>
                <a:latin typeface="Times New Roman"/>
              </a:rPr>
              <a:t>Baú de Histórias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" descr="0351-16A"/>
          <p:cNvPicPr/>
          <p:nvPr/>
        </p:nvPicPr>
        <p:blipFill>
          <a:blip r:embed="rId1"/>
          <a:stretch/>
        </p:blipFill>
        <p:spPr>
          <a:xfrm>
            <a:off x="4427640" y="4221000"/>
            <a:ext cx="2448000" cy="1839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"/>
          <p:cNvPicPr/>
          <p:nvPr/>
        </p:nvPicPr>
        <p:blipFill>
          <a:blip r:embed="rId2"/>
          <a:stretch/>
        </p:blipFill>
        <p:spPr>
          <a:xfrm>
            <a:off x="0" y="4149720"/>
            <a:ext cx="2176560" cy="2708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"/>
          <p:cNvPicPr/>
          <p:nvPr/>
        </p:nvPicPr>
        <p:blipFill>
          <a:blip r:embed="rId3"/>
          <a:stretch/>
        </p:blipFill>
        <p:spPr>
          <a:xfrm>
            <a:off x="2050920" y="5248440"/>
            <a:ext cx="2449800" cy="1609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3" descr="0348-25"/>
          <p:cNvPicPr/>
          <p:nvPr/>
        </p:nvPicPr>
        <p:blipFill>
          <a:blip r:embed="rId4"/>
          <a:srcRect l="26862" t="0" r="0" b="0"/>
          <a:stretch/>
        </p:blipFill>
        <p:spPr>
          <a:xfrm>
            <a:off x="6804000" y="4768920"/>
            <a:ext cx="2340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2340000" y="260280"/>
            <a:ext cx="552780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ff3300"/>
                </a:solidFill>
                <a:latin typeface="Times New Roman"/>
              </a:rPr>
              <a:t>Maratona de Conto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755640" y="1341360"/>
            <a:ext cx="74167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A Maratona de Contos é um evento que se consolid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como um espaço de intercâmbio cultural, de contato com 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arte da narração oral e, ao mesmo tempo, de incentivo a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hábito de leitura, além de colaborar na profissionaliz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das pessoas como contadoras de histórias.</a:t>
            </a: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Em cada maratona participam aproximadamente 5.000 crianç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0351-24A"/>
          <p:cNvPicPr/>
          <p:nvPr/>
        </p:nvPicPr>
        <p:blipFill>
          <a:blip r:embed="rId1"/>
          <a:stretch/>
        </p:blipFill>
        <p:spPr>
          <a:xfrm>
            <a:off x="1908000" y="3789360"/>
            <a:ext cx="2953080" cy="1974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0349-01"/>
          <p:cNvPicPr/>
          <p:nvPr/>
        </p:nvPicPr>
        <p:blipFill>
          <a:blip r:embed="rId2"/>
          <a:stretch/>
        </p:blipFill>
        <p:spPr>
          <a:xfrm>
            <a:off x="5219640" y="4508640"/>
            <a:ext cx="305928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Marco Aurélio Cremasco &#9;&#9;  Santo Reis da Luz Divina"/>
          <p:cNvPicPr/>
          <p:nvPr/>
        </p:nvPicPr>
        <p:blipFill>
          <a:blip r:embed="rId1"/>
          <a:stretch/>
        </p:blipFill>
        <p:spPr>
          <a:xfrm>
            <a:off x="1835280" y="4292640"/>
            <a:ext cx="1225440" cy="1915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netas_ema"/>
          <p:cNvPicPr/>
          <p:nvPr/>
        </p:nvPicPr>
        <p:blipFill>
          <a:blip r:embed="rId2"/>
          <a:stretch/>
        </p:blipFill>
        <p:spPr>
          <a:xfrm>
            <a:off x="3276720" y="4653000"/>
            <a:ext cx="1247760" cy="1917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Clique aqui para ver Hoje Está um Dia Morto, de ANDRE DE LEONES no Submarino.com.br"/>
          <p:cNvPicPr/>
          <p:nvPr/>
        </p:nvPicPr>
        <p:blipFill>
          <a:blip r:embed="rId3"/>
          <a:stretch/>
        </p:blipFill>
        <p:spPr>
          <a:xfrm>
            <a:off x="4716360" y="4941720"/>
            <a:ext cx="1263600" cy="1916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Secretária de Borges, A, de LUCIA BETTENCOURT"/>
          <p:cNvPicPr/>
          <p:nvPr/>
        </p:nvPicPr>
        <p:blipFill>
          <a:blip r:embed="rId4"/>
          <a:stretch/>
        </p:blipFill>
        <p:spPr>
          <a:xfrm>
            <a:off x="6227640" y="4508640"/>
            <a:ext cx="1246320" cy="19159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6"/>
          <p:cNvSpPr/>
          <p:nvPr/>
        </p:nvSpPr>
        <p:spPr>
          <a:xfrm>
            <a:off x="2700360" y="333360"/>
            <a:ext cx="586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3300"/>
                </a:solidFill>
                <a:latin typeface="Times New Roman"/>
              </a:rPr>
              <a:t>Prêmio SESC de Literatura (D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684360" y="1052640"/>
            <a:ext cx="66243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O projeto é uma parceria SESC e Editora Reco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(RJ). Na edição de 2009 do prêmio foram 756 inscri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de todo o país. O SESC distribui mil exemplares de c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livro para as 160 bibliotecas, 31 salas de leituras e 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Bibliotecas itinerantes do projeto "BiblioSesc“. Em San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Catarina todas as Unidades estão envolvidas 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descoberta de novos auto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5"/>
          <a:stretch/>
        </p:blipFill>
        <p:spPr>
          <a:xfrm>
            <a:off x="7596360" y="3141720"/>
            <a:ext cx="1163520" cy="1727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"/>
          <p:cNvPicPr/>
          <p:nvPr/>
        </p:nvPicPr>
        <p:blipFill>
          <a:blip r:embed="rId6"/>
          <a:stretch/>
        </p:blipFill>
        <p:spPr>
          <a:xfrm>
            <a:off x="7988400" y="1125360"/>
            <a:ext cx="1155600" cy="16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3"/>
          <p:cNvSpPr/>
          <p:nvPr/>
        </p:nvSpPr>
        <p:spPr>
          <a:xfrm>
            <a:off x="2700360" y="351000"/>
            <a:ext cx="578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3300"/>
                </a:solidFill>
                <a:latin typeface="Times New Roman"/>
              </a:rPr>
              <a:t>ARTE DA PALAV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684360" y="765000"/>
            <a:ext cx="7632720" cy="58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Programa SESC de Forma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ão de Escritores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programa que pretende dar suporte aos escritores e futuros escritores de Santa Catarina com o intuito de potencializar o trabalho de Literatura feito em nosso Estado. Os alunos passam por todo o processo do livro: exerc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io da escrita, lapid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ão do texto, organiz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ão do Caderno de Autoria, divulg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ão e la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mento do resultado das ofici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Maratonas de Leitur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ensar a cidade como leitora, reavivar a trad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ão da leitura em voz alta. Conduzida por dois assessores com profundo conhecimento de literatura, a maratona se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um esp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o onde a literatura te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um enfoque de instrumento de interpret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ão da realid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3300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Mostras Liter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ria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renov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ão das mostras, utiliz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ão de um novo suporte e tamanho, assim como outras possibilidades de program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ão conjugada: performances, gibis, palestr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Tem Muito Mais"/>
          <p:cNvPicPr/>
          <p:nvPr/>
        </p:nvPicPr>
        <p:blipFill>
          <a:blip r:embed="rId1"/>
          <a:stretch/>
        </p:blipFill>
        <p:spPr>
          <a:xfrm>
            <a:off x="684360" y="1989000"/>
            <a:ext cx="8459640" cy="22068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050920" y="4437000"/>
            <a:ext cx="5904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SC BLUMENAU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332252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ua Dr. Amadeu da Luz, 181 - Centro - Blumenau Idelfonso@sesc-sc.com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jamildias@sesc-sc.com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www.sesc-sc.com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0" y="2781360"/>
            <a:ext cx="58323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500" spc="-1" strike="noStrike">
                <a:solidFill>
                  <a:srgbClr val="ff3300"/>
                </a:solidFill>
                <a:latin typeface="Times New Roman"/>
              </a:rPr>
              <a:t>Cinema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10920" y="333360"/>
            <a:ext cx="626436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4400" spc="-1" strike="noStrike">
                <a:solidFill>
                  <a:srgbClr val="ff3300"/>
                </a:solidFill>
                <a:latin typeface="Times New Roman"/>
              </a:rPr>
              <a:t>A Escola Vai ao Cinem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58920" y="1125000"/>
            <a:ext cx="5689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RINCIPAIS OBJETIVO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cc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ossibilitar o acesso ao cinema, promovendo a form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ão de plat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cc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Trabalhar a questão da inclusão social através do cinema, ao mesmo tempo em que provoca um deslocamento do aluno para esp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os de cultu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cc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ducar pela arte e para a arte atrav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 de dois campos fundamentais na form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ão do ser humano: cultura e educ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ão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interligando o cinema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 mat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rias curriculares para potencializar o aprendizado espec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fico destas disciplinas, e o desenvolvimento cultural dos alu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 2011, o projeto possibilitou a 201.444 espectadores  o acesso ao cinema. E promoveu 32 oficinas em 200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2" descr=""/>
          <p:cNvPicPr/>
          <p:nvPr/>
        </p:nvPicPr>
        <p:blipFill>
          <a:blip r:embed="rId1"/>
          <a:srcRect l="39753" t="0" r="15331" b="0"/>
          <a:stretch/>
        </p:blipFill>
        <p:spPr>
          <a:xfrm>
            <a:off x="7020000" y="1325520"/>
            <a:ext cx="2124000" cy="1781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"/>
          <p:cNvPicPr/>
          <p:nvPr/>
        </p:nvPicPr>
        <p:blipFill>
          <a:blip r:embed="rId2"/>
          <a:srcRect l="0" t="0" r="55170" b="0"/>
          <a:stretch/>
        </p:blipFill>
        <p:spPr>
          <a:xfrm>
            <a:off x="6983280" y="3068640"/>
            <a:ext cx="2160720" cy="1812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4" descr=""/>
          <p:cNvPicPr/>
          <p:nvPr/>
        </p:nvPicPr>
        <p:blipFill>
          <a:blip r:embed="rId3"/>
          <a:srcRect l="39753" t="0" r="15331" b="0"/>
          <a:stretch/>
        </p:blipFill>
        <p:spPr>
          <a:xfrm>
            <a:off x="6983280" y="4797360"/>
            <a:ext cx="21607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187280" y="1268280"/>
            <a:ext cx="5545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Times New Roman"/>
              </a:rPr>
              <a:t>Mostras licenciad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Mostra Cinema Francês Contemporâneo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 07 filmes da atual produ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ão frances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Mostra 1959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 mostra dos cineastas da Novelle Vagu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stra 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Jodorowsky do cineasta e dramaturgo chileno Alejandro Jodorowsk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Times New Roman"/>
              </a:rPr>
              <a:t>Mostras em processo de licenciament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Cinema Italia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2627280" y="339480"/>
            <a:ext cx="651024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ff3300"/>
                </a:solidFill>
                <a:latin typeface="Times New Roman"/>
              </a:rPr>
              <a:t>Mostras de Cinema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38" descr="anima"/>
          <p:cNvPicPr/>
          <p:nvPr/>
        </p:nvPicPr>
        <p:blipFill>
          <a:blip r:embed="rId1"/>
          <a:srcRect l="0" t="0" r="30984" b="10100"/>
          <a:stretch/>
        </p:blipFill>
        <p:spPr>
          <a:xfrm>
            <a:off x="7020000" y="5516640"/>
            <a:ext cx="1584360" cy="963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41" descr="affiche_festival"/>
          <p:cNvPicPr/>
          <p:nvPr/>
        </p:nvPicPr>
        <p:blipFill>
          <a:blip r:embed="rId2"/>
          <a:srcRect l="5807" t="32597" r="0" b="4416"/>
          <a:stretch/>
        </p:blipFill>
        <p:spPr>
          <a:xfrm>
            <a:off x="7020000" y="1197000"/>
            <a:ext cx="1593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028"/>
          <p:cNvSpPr/>
          <p:nvPr/>
        </p:nvSpPr>
        <p:spPr>
          <a:xfrm>
            <a:off x="324000" y="2852640"/>
            <a:ext cx="8532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500" spc="-1" strike="noStrike">
                <a:solidFill>
                  <a:srgbClr val="ff3300"/>
                </a:solidFill>
                <a:latin typeface="Times New Roman"/>
              </a:rPr>
              <a:t>ARTES VISUAIS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56000" y="188640"/>
            <a:ext cx="64800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pt-BR" sz="3200" spc="-1" strike="noStrike">
                <a:solidFill>
                  <a:srgbClr val="ff3300"/>
                </a:solidFill>
                <a:latin typeface="Times New Roman"/>
              </a:rPr>
              <a:t>Circuito Blumenau de Artes Plástic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31640" y="1052640"/>
            <a:ext cx="4608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51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artografia do Av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51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 Complexa Simplicidade da Fo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51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pois do Jard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51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Novos Colo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51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s_loca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51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rete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51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anteiro de Obr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51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rte na 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51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iclo de Ar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51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Imagem 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51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O fantástico no desenho de Meyer Fil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51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ves de Pap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51"/>
              </a:spcBef>
              <a:buClr>
                <a:srgbClr val="cc33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060" descr="7"/>
          <p:cNvPicPr/>
          <p:nvPr/>
        </p:nvPicPr>
        <p:blipFill>
          <a:blip r:embed="rId1"/>
          <a:stretch/>
        </p:blipFill>
        <p:spPr>
          <a:xfrm>
            <a:off x="6300720" y="4840200"/>
            <a:ext cx="2374920" cy="1897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065" descr="língua"/>
          <p:cNvPicPr/>
          <p:nvPr/>
        </p:nvPicPr>
        <p:blipFill>
          <a:blip r:embed="rId2"/>
          <a:srcRect l="0" t="8993" r="7646" b="40617"/>
          <a:stretch/>
        </p:blipFill>
        <p:spPr>
          <a:xfrm>
            <a:off x="6372360" y="2755800"/>
            <a:ext cx="2305080" cy="1911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066" descr="pretexto079"/>
          <p:cNvPicPr/>
          <p:nvPr/>
        </p:nvPicPr>
        <p:blipFill>
          <a:blip r:embed="rId3"/>
          <a:stretch/>
        </p:blipFill>
        <p:spPr>
          <a:xfrm>
            <a:off x="6443640" y="1125360"/>
            <a:ext cx="223200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900000" y="1628640"/>
            <a:ext cx="5112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O projeto "Pretexto" com o propósito de potencializar, através de  oficinas e discussões, o trabalho dos artistas de Santa Catarina e montar um panorama,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in progress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, da produção de artes plásticas no Es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eu objetivo maior é trazer conhecimento qualificado sobre o processo criativo, mercadológico e artístico em todas as cidades onde o SESC atua, culminando com uma exposição aberta ao públ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29"/>
          <p:cNvSpPr/>
          <p:nvPr/>
        </p:nvSpPr>
        <p:spPr>
          <a:xfrm>
            <a:off x="2843280" y="260280"/>
            <a:ext cx="42847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ff3300"/>
                </a:solidFill>
                <a:latin typeface="Times New Roman"/>
              </a:rPr>
              <a:t>Pretext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31" descr=""/>
          <p:cNvPicPr/>
          <p:nvPr/>
        </p:nvPicPr>
        <p:blipFill>
          <a:blip r:embed="rId1"/>
          <a:stretch/>
        </p:blipFill>
        <p:spPr>
          <a:xfrm>
            <a:off x="6227640" y="1052640"/>
            <a:ext cx="291636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0" y="2924280"/>
            <a:ext cx="630072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500" spc="-1" strike="noStrike">
                <a:solidFill>
                  <a:srgbClr val="ff3300"/>
                </a:solidFill>
                <a:latin typeface="Times New Roman"/>
              </a:rPr>
              <a:t>MÚSICA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028"/>
          <p:cNvSpPr/>
          <p:nvPr/>
        </p:nvSpPr>
        <p:spPr>
          <a:xfrm>
            <a:off x="2411280" y="333360"/>
            <a:ext cx="4067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ff3300"/>
                </a:solidFill>
                <a:latin typeface="Garamond"/>
              </a:rPr>
              <a:t>Sonora Brasi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029"/>
          <p:cNvSpPr/>
          <p:nvPr/>
        </p:nvSpPr>
        <p:spPr>
          <a:xfrm>
            <a:off x="468360" y="1773360"/>
            <a:ext cx="53276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eali</a:t>
            </a: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zado em quatro etapas em 2011, trazendo para Santa Catarina g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rupos de diferentes regiões do país, identificados como parte importante do desenvolvimento da música no Bras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30" descr="sonora"/>
          <p:cNvPicPr/>
          <p:nvPr/>
        </p:nvPicPr>
        <p:blipFill>
          <a:blip r:embed="rId1"/>
          <a:stretch/>
        </p:blipFill>
        <p:spPr>
          <a:xfrm>
            <a:off x="6032520" y="1197000"/>
            <a:ext cx="31114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2:57:38Z</dcterms:created>
  <dc:creator>Horacio Mello</dc:creator>
  <dc:description/>
  <dc:language>en-US</dc:language>
  <cp:lastModifiedBy>michele</cp:lastModifiedBy>
  <dcterms:modified xsi:type="dcterms:W3CDTF">2011-03-14T17:43:56Z</dcterms:modified>
  <cp:revision>16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828981046</vt:lpwstr>
  </property>
</Properties>
</file>