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626-6192-4F38-BFDC-2BDE8607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DE7-5BA9-4316-8176-F04B2E65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87F9-3277-4357-93AF-0FB36E9C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D55-53BE-42A5-97A5-4D617A36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F17-4B9A-497C-924A-FAC9B26C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C3A-FE58-4643-9A4C-77C6719E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C8E-76AA-4248-808C-A4A2F3CE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070-2048-4E8D-8987-FCA0828C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C316-E5F0-41A7-A0D4-2E244E36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67AF-FBF3-45E0-8087-F8DDD8A2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ABB-3AB2-49AE-B04C-6FC38E1F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1F9C-91EC-4172-A22F-97720C7F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435F-E20F-4B33-92DA-5A0E0B1634C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0" y="692280"/>
            <a:ext cx="9144000" cy="5545080"/>
          </a:xfrm>
          <a:prstGeom prst="rect">
            <a:avLst/>
          </a:prstGeom>
          <a:solidFill>
            <a:srgbClr val="00923f"/>
          </a:solidFill>
          <a:ln w="1908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0" y="907920"/>
            <a:ext cx="9144000" cy="5113440"/>
          </a:xfrm>
          <a:prstGeom prst="rect">
            <a:avLst/>
          </a:prstGeom>
          <a:solidFill>
            <a:srgbClr val="d2e8d7"/>
          </a:solidFill>
          <a:ln w="9360">
            <a:solidFill>
              <a:srgbClr val="d2e8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40676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SÓRCI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28400" y="5572080"/>
            <a:ext cx="714348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Blumenau – 07 de dezembro de 2012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5"/>
          <p:cNvGraphicFramePr/>
          <p:nvPr/>
        </p:nvGraphicFramePr>
        <p:xfrm>
          <a:off x="468360" y="1268280"/>
          <a:ext cx="4319640" cy="32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431964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0" y="692280"/>
            <a:ext cx="9180360" cy="5545080"/>
          </a:xfrm>
          <a:prstGeom prst="rect">
            <a:avLst/>
          </a:prstGeom>
          <a:solidFill>
            <a:srgbClr val="00923f"/>
          </a:solidFill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28440" y="1123920"/>
            <a:ext cx="9178920" cy="5113440"/>
          </a:xfrm>
          <a:prstGeom prst="rect">
            <a:avLst/>
          </a:prstGeom>
          <a:solidFill>
            <a:srgbClr val="d2e8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21"/>
          <p:cNvGraphicFramePr/>
          <p:nvPr/>
        </p:nvGraphicFramePr>
        <p:xfrm>
          <a:off x="108000" y="98280"/>
          <a:ext cx="6840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8280"/>
                    <a:ext cx="68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840" y="1000080"/>
            <a:ext cx="70945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ÓRC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2"/>
          <p:cNvSpPr/>
          <p:nvPr/>
        </p:nvSpPr>
        <p:spPr>
          <a:xfrm>
            <a:off x="3929040" y="6357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Consórcio Intermunicipal do Médio Vale do Itaja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24000" y="1903320"/>
            <a:ext cx="8424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◘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direito público ou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◘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os de direito privado devem obedecer às normas de dire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público no que concerne à realização de licitação, celebraçã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contratos, admissão de pessoal e prestação de co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◘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integram a administração indireta dos entes consorciad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quando de direito público – autarquia interfede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◘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execução de políticas e serviços públicos de forma conju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◘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solução de problemas comuns com ganho de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0" y="692280"/>
            <a:ext cx="9180360" cy="5545080"/>
          </a:xfrm>
          <a:prstGeom prst="rect">
            <a:avLst/>
          </a:prstGeom>
          <a:solidFill>
            <a:srgbClr val="00923f"/>
          </a:solidFill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28440" y="1123920"/>
            <a:ext cx="9178920" cy="5113440"/>
          </a:xfrm>
          <a:prstGeom prst="rect">
            <a:avLst/>
          </a:prstGeom>
          <a:solidFill>
            <a:srgbClr val="d2e8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21"/>
          <p:cNvGraphicFramePr/>
          <p:nvPr/>
        </p:nvGraphicFramePr>
        <p:xfrm>
          <a:off x="108000" y="98280"/>
          <a:ext cx="6840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8280"/>
                    <a:ext cx="68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840" y="1000080"/>
            <a:ext cx="70945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ÓRC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2"/>
          <p:cNvSpPr/>
          <p:nvPr/>
        </p:nvSpPr>
        <p:spPr>
          <a:xfrm>
            <a:off x="3929040" y="6357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Consórcio Intermunicipal do Médio Vale do Itaja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24000" y="1989000"/>
            <a:ext cx="8424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◘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gestão associada de serviços públicos ou de interesse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◘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atuação em gestão, regulação, fiscalização e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◘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Assembléia é o órgão máximo do consó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◘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Assembléia é formada pelos prefe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◘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constituição por contrato com prévia subscriçã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protocolo de inten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◘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o contrato é celebrado com a ratificação, por le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do protocolo de inten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0" y="692280"/>
            <a:ext cx="9180360" cy="5545080"/>
          </a:xfrm>
          <a:prstGeom prst="rect">
            <a:avLst/>
          </a:prstGeom>
          <a:solidFill>
            <a:srgbClr val="00923f"/>
          </a:solidFill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28440" y="1123920"/>
            <a:ext cx="9178920" cy="5113440"/>
          </a:xfrm>
          <a:prstGeom prst="rect">
            <a:avLst/>
          </a:prstGeom>
          <a:solidFill>
            <a:srgbClr val="d2e8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1"/>
          <p:cNvGraphicFramePr/>
          <p:nvPr/>
        </p:nvGraphicFramePr>
        <p:xfrm>
          <a:off x="108000" y="98280"/>
          <a:ext cx="6840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8280"/>
                    <a:ext cx="68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840" y="1000080"/>
            <a:ext cx="70945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ÓRC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3929040" y="6357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Consórcio Intermunicipal do Médio Vale do Itaja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58920" y="1765440"/>
            <a:ext cx="84261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◘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servidores são empregados públicos, sem est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◘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consorciados somente entregam recursos ao consó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mediante contrato de rate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◘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podem atuar em múltiplas áreas:  saúde, educação, cultu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meio ambiente, transporte, turismo, saneamento, espor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compras, informática, regulação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◘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fiscalização contábil, operacional e patrimonial pelo T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S: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compras conjuntas, compartilhamento de equipamentos e pessoal técnico, unidades de saúde, serviços conjuntos de saneamento básico, informática, regulação, meio ambiente, etc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0" y="692280"/>
            <a:ext cx="9180360" cy="5545080"/>
          </a:xfrm>
          <a:prstGeom prst="rect">
            <a:avLst/>
          </a:prstGeom>
          <a:solidFill>
            <a:srgbClr val="00923f"/>
          </a:solidFill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28440" y="1123920"/>
            <a:ext cx="9178920" cy="5113440"/>
          </a:xfrm>
          <a:prstGeom prst="rect">
            <a:avLst/>
          </a:prstGeom>
          <a:solidFill>
            <a:srgbClr val="d2e8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1"/>
          <p:cNvGraphicFramePr/>
          <p:nvPr/>
        </p:nvGraphicFramePr>
        <p:xfrm>
          <a:off x="108000" y="98280"/>
          <a:ext cx="6840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8280"/>
                    <a:ext cx="68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3840" y="1000080"/>
            <a:ext cx="70945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ÓRC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3929040" y="6357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Consórcio Intermunicipal do Médio Vale do Itaja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78000" y="1916280"/>
            <a:ext cx="8424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NTES D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◘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tes Consorc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- Contratos de rate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- Contratos de prestação de serviços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◘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u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- Cobrança de tarif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◘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tras fo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- Convênios com entes não consorc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- Do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0" y="692280"/>
            <a:ext cx="9180360" cy="5545080"/>
          </a:xfrm>
          <a:prstGeom prst="rect">
            <a:avLst/>
          </a:prstGeom>
          <a:solidFill>
            <a:srgbClr val="00923f"/>
          </a:solidFill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28440" y="1123920"/>
            <a:ext cx="9178920" cy="5113440"/>
          </a:xfrm>
          <a:prstGeom prst="rect">
            <a:avLst/>
          </a:prstGeom>
          <a:solidFill>
            <a:srgbClr val="d2e8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21"/>
          <p:cNvGraphicFramePr/>
          <p:nvPr/>
        </p:nvGraphicFramePr>
        <p:xfrm>
          <a:off x="108000" y="98280"/>
          <a:ext cx="6840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8280"/>
                    <a:ext cx="68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1123920"/>
            <a:ext cx="75992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ÓRCIO INTERMUNICIPAL DO MÉDIO VALE DO ITAJA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929040" y="6357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Consórcio Intermunicipal do Médio Vale do Itaja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78000" y="1916280"/>
            <a:ext cx="842472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Arial"/>
              </a:rPr>
              <a:t>Agosto 1998 – Constit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◘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</a:rPr>
              <a:t>Associação Civil sem fins lucra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◘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</a:rPr>
              <a:t>Consórcio Intermunicipal de Bacia Hidrográ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Base Legal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</a:rPr>
              <a:t>- Inciso I, do art. 47, da Lei nº 9.433/97 - Política Nacional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tembro 2007 - Adap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◘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</a:rPr>
              <a:t>Associação Pública - Consórcio Públ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Base Legal -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</a:rPr>
              <a:t> Lei nº 11.107/05 – Lei dos Consórcio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</a:rPr>
              <a:t>                        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</a:rPr>
              <a:t>Decreto 6.017/07 – Regulamentação da Lei 11.107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0" y="692280"/>
            <a:ext cx="9180360" cy="5545080"/>
          </a:xfrm>
          <a:prstGeom prst="rect">
            <a:avLst/>
          </a:prstGeom>
          <a:solidFill>
            <a:srgbClr val="00923f"/>
          </a:solidFill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28440" y="1123920"/>
            <a:ext cx="9178920" cy="5113440"/>
          </a:xfrm>
          <a:prstGeom prst="rect">
            <a:avLst/>
          </a:prstGeom>
          <a:solidFill>
            <a:srgbClr val="d2e8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1"/>
          <p:cNvGraphicFramePr/>
          <p:nvPr/>
        </p:nvGraphicFramePr>
        <p:xfrm>
          <a:off x="108000" y="98280"/>
          <a:ext cx="6840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8280"/>
                    <a:ext cx="68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1123920"/>
            <a:ext cx="75992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ÓRCIO INTERMUNICIPAL DO MÉDIO VALE DO ITAJA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3929040" y="6357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Consórcio Intermunicipal do Médio Vale do Itaja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78000" y="1916280"/>
            <a:ext cx="842472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Arial"/>
              </a:rPr>
              <a:t>Compos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◘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Apiúna, Ascurra, Benedito Novo, Doutor Pedrinho, Indai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Pomerode, Rio dos Cedros, Rodeio e Timb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Área de atu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◘</a:t>
            </a:r>
            <a:r>
              <a:rPr b="0" lang="pt-BR" sz="1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Unidade territorial única - 2.826,66 km² - IB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pul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◘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171.536 habitantes – IBG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0" y="692280"/>
            <a:ext cx="9180360" cy="5545080"/>
          </a:xfrm>
          <a:prstGeom prst="rect">
            <a:avLst/>
          </a:prstGeom>
          <a:solidFill>
            <a:srgbClr val="00923f"/>
          </a:solidFill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28440" y="1123920"/>
            <a:ext cx="9178920" cy="5113440"/>
          </a:xfrm>
          <a:prstGeom prst="rect">
            <a:avLst/>
          </a:prstGeom>
          <a:solidFill>
            <a:srgbClr val="d2e8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21"/>
          <p:cNvGraphicFramePr/>
          <p:nvPr/>
        </p:nvGraphicFramePr>
        <p:xfrm>
          <a:off x="108000" y="98280"/>
          <a:ext cx="6840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8280"/>
                    <a:ext cx="68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1123920"/>
            <a:ext cx="75992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OVA ESTRU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3929040" y="6357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Consórcio Intermunicipal do Médio Vale do Itaja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45960" y="1916280"/>
            <a:ext cx="842508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d2e8d7"/>
                </a:solidFill>
                <a:latin typeface="Arial"/>
              </a:rPr>
              <a:t>G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d2e8d7"/>
                </a:solidFill>
                <a:latin typeface="Arial"/>
              </a:rPr>
              <a:t>Assembléia G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2e8d7"/>
                </a:solidFill>
                <a:latin typeface="Arial"/>
              </a:rPr>
              <a:t>Prefei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d2e8d7"/>
                </a:solidFill>
                <a:latin typeface="Arial"/>
              </a:rPr>
              <a:t>Assembléia G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2e8d7"/>
                </a:solidFill>
                <a:latin typeface="Arial"/>
              </a:rPr>
              <a:t>Prefei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d2e8d7"/>
                </a:solidFill>
                <a:latin typeface="Arial"/>
              </a:rPr>
              <a:t>Assembléia G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2e8d7"/>
                </a:solidFill>
                <a:latin typeface="Arial"/>
              </a:rPr>
              <a:t>Prefei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d2e8d7"/>
                </a:solidFill>
                <a:latin typeface="Arial"/>
              </a:rPr>
              <a:t>Assembléia G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2e8d7"/>
                </a:solidFill>
                <a:latin typeface="Arial"/>
              </a:rPr>
              <a:t>Prefei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d2e8d7"/>
                </a:solidFill>
                <a:latin typeface="Arial"/>
              </a:rPr>
              <a:t>Assembléia G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2e8d7"/>
                </a:solidFill>
                <a:latin typeface="Arial"/>
              </a:rPr>
              <a:t>Prefei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d2e8d7"/>
                </a:solidFill>
                <a:latin typeface="Arial"/>
              </a:rPr>
              <a:t>Assembléia G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2e8d7"/>
                </a:solidFill>
                <a:latin typeface="Arial"/>
              </a:rPr>
              <a:t>Prefei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d2e8d7"/>
                </a:solidFill>
                <a:latin typeface="Arial"/>
              </a:rPr>
              <a:t>Assembléia G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2e8d7"/>
                </a:solidFill>
                <a:latin typeface="Arial"/>
              </a:rPr>
              <a:t>Prefei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d2e8d7"/>
                </a:solidFill>
                <a:latin typeface="Arial"/>
              </a:rPr>
              <a:t>Assembléia G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2e8d7"/>
                </a:solidFill>
                <a:latin typeface="Arial"/>
              </a:rPr>
              <a:t>Prefei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tângulo 2"/>
          <p:cNvSpPr/>
          <p:nvPr/>
        </p:nvSpPr>
        <p:spPr>
          <a:xfrm>
            <a:off x="3533760" y="1773360"/>
            <a:ext cx="1866960" cy="653760"/>
          </a:xfrm>
          <a:prstGeom prst="rect">
            <a:avLst/>
          </a:prstGeom>
          <a:solidFill>
            <a:srgbClr val="00923f"/>
          </a:solidFill>
          <a:ln w="255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SSEMBLÉIA G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tângulo 20"/>
          <p:cNvSpPr/>
          <p:nvPr/>
        </p:nvSpPr>
        <p:spPr>
          <a:xfrm>
            <a:off x="971640" y="2558880"/>
            <a:ext cx="1805040" cy="576360"/>
          </a:xfrm>
          <a:prstGeom prst="rect">
            <a:avLst/>
          </a:prstGeom>
          <a:solidFill>
            <a:srgbClr val="00923f"/>
          </a:solidFill>
          <a:ln w="255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ONSELHOS INTERMUNICIP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ângulo 21"/>
          <p:cNvSpPr/>
          <p:nvPr/>
        </p:nvSpPr>
        <p:spPr>
          <a:xfrm>
            <a:off x="6215040" y="2558880"/>
            <a:ext cx="1657440" cy="576360"/>
          </a:xfrm>
          <a:prstGeom prst="rect">
            <a:avLst/>
          </a:prstGeom>
          <a:solidFill>
            <a:srgbClr val="00923f"/>
          </a:solidFill>
          <a:ln w="255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ONSELHO FIS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tângulo 22"/>
          <p:cNvSpPr/>
          <p:nvPr/>
        </p:nvSpPr>
        <p:spPr>
          <a:xfrm>
            <a:off x="3666960" y="2900520"/>
            <a:ext cx="1657440" cy="576000"/>
          </a:xfrm>
          <a:prstGeom prst="rect">
            <a:avLst/>
          </a:prstGeom>
          <a:solidFill>
            <a:srgbClr val="00923f"/>
          </a:solidFill>
          <a:ln w="255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DIRE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EXECU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tângulo 23"/>
          <p:cNvSpPr/>
          <p:nvPr/>
        </p:nvSpPr>
        <p:spPr>
          <a:xfrm>
            <a:off x="539640" y="3970440"/>
            <a:ext cx="1657440" cy="731880"/>
          </a:xfrm>
          <a:prstGeom prst="rect">
            <a:avLst/>
          </a:prstGeom>
          <a:solidFill>
            <a:srgbClr val="00923f"/>
          </a:solidFill>
          <a:ln w="255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SANE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BÁS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tângulo 24"/>
          <p:cNvSpPr/>
          <p:nvPr/>
        </p:nvSpPr>
        <p:spPr>
          <a:xfrm>
            <a:off x="2705040" y="3995640"/>
            <a:ext cx="1657440" cy="747720"/>
          </a:xfrm>
          <a:prstGeom prst="rect">
            <a:avLst/>
          </a:prstGeom>
          <a:solidFill>
            <a:srgbClr val="00923f"/>
          </a:solidFill>
          <a:ln w="255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ULTURA, E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tângulo 25"/>
          <p:cNvSpPr/>
          <p:nvPr/>
        </p:nvSpPr>
        <p:spPr>
          <a:xfrm>
            <a:off x="4819680" y="4027320"/>
            <a:ext cx="1657440" cy="719280"/>
          </a:xfrm>
          <a:prstGeom prst="rect">
            <a:avLst/>
          </a:prstGeom>
          <a:solidFill>
            <a:srgbClr val="00923f"/>
          </a:solidFill>
          <a:ln w="255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GESTÃ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tângulo 26"/>
          <p:cNvSpPr/>
          <p:nvPr/>
        </p:nvSpPr>
        <p:spPr>
          <a:xfrm>
            <a:off x="7004160" y="4037040"/>
            <a:ext cx="1657080" cy="720720"/>
          </a:xfrm>
          <a:prstGeom prst="rect">
            <a:avLst/>
          </a:prstGeom>
          <a:solidFill>
            <a:srgbClr val="00923f"/>
          </a:solidFill>
          <a:ln w="255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POIO A INFRA-ESTRU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ângulo 27"/>
          <p:cNvSpPr/>
          <p:nvPr/>
        </p:nvSpPr>
        <p:spPr>
          <a:xfrm>
            <a:off x="539640" y="5229360"/>
            <a:ext cx="1657440" cy="731880"/>
          </a:xfrm>
          <a:prstGeom prst="rect">
            <a:avLst/>
          </a:prstGeom>
          <a:solidFill>
            <a:srgbClr val="00923f"/>
          </a:solidFill>
          <a:ln w="255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DESENVOLVI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INSTITU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tângulo 28"/>
          <p:cNvSpPr/>
          <p:nvPr/>
        </p:nvSpPr>
        <p:spPr>
          <a:xfrm>
            <a:off x="2744640" y="5229360"/>
            <a:ext cx="1657440" cy="742680"/>
          </a:xfrm>
          <a:prstGeom prst="rect">
            <a:avLst/>
          </a:prstGeom>
          <a:solidFill>
            <a:srgbClr val="00923f"/>
          </a:solidFill>
          <a:ln w="255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OLE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tângulo 29"/>
          <p:cNvSpPr/>
          <p:nvPr/>
        </p:nvSpPr>
        <p:spPr>
          <a:xfrm>
            <a:off x="4878360" y="5229360"/>
            <a:ext cx="1657440" cy="741240"/>
          </a:xfrm>
          <a:prstGeom prst="rect">
            <a:avLst/>
          </a:prstGeom>
          <a:solidFill>
            <a:srgbClr val="00923f"/>
          </a:solidFill>
          <a:ln w="255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IDAD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tângulo 30"/>
          <p:cNvSpPr/>
          <p:nvPr/>
        </p:nvSpPr>
        <p:spPr>
          <a:xfrm>
            <a:off x="7020000" y="5229360"/>
            <a:ext cx="1657440" cy="720720"/>
          </a:xfrm>
          <a:prstGeom prst="rect">
            <a:avLst/>
          </a:prstGeom>
          <a:solidFill>
            <a:srgbClr val="00923f"/>
          </a:solidFill>
          <a:ln w="255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SANID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GRO-PECUÁ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onector reto 18431"/>
          <p:cNvSpPr/>
          <p:nvPr/>
        </p:nvSpPr>
        <p:spPr>
          <a:xfrm>
            <a:off x="2776680" y="2746440"/>
            <a:ext cx="3438360" cy="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ector reto 18441"/>
          <p:cNvSpPr/>
          <p:nvPr/>
        </p:nvSpPr>
        <p:spPr>
          <a:xfrm>
            <a:off x="345960" y="3681360"/>
            <a:ext cx="7486920" cy="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onector reto 18443"/>
          <p:cNvSpPr/>
          <p:nvPr/>
        </p:nvSpPr>
        <p:spPr>
          <a:xfrm>
            <a:off x="345960" y="3681360"/>
            <a:ext cx="0" cy="133200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onector reto 18445"/>
          <p:cNvSpPr/>
          <p:nvPr/>
        </p:nvSpPr>
        <p:spPr>
          <a:xfrm>
            <a:off x="345960" y="5013360"/>
            <a:ext cx="7526520" cy="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onector reto 18447"/>
          <p:cNvSpPr/>
          <p:nvPr/>
        </p:nvSpPr>
        <p:spPr>
          <a:xfrm>
            <a:off x="4495680" y="3476520"/>
            <a:ext cx="0" cy="21276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ector reto 18449"/>
          <p:cNvSpPr/>
          <p:nvPr/>
        </p:nvSpPr>
        <p:spPr>
          <a:xfrm>
            <a:off x="1368360" y="3681360"/>
            <a:ext cx="0" cy="28908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ector reto 18451"/>
          <p:cNvSpPr/>
          <p:nvPr/>
        </p:nvSpPr>
        <p:spPr>
          <a:xfrm>
            <a:off x="3533760" y="3681360"/>
            <a:ext cx="0" cy="31428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onector reto 18453"/>
          <p:cNvSpPr/>
          <p:nvPr/>
        </p:nvSpPr>
        <p:spPr>
          <a:xfrm>
            <a:off x="5648400" y="3681360"/>
            <a:ext cx="0" cy="34596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onector reto 18455"/>
          <p:cNvSpPr/>
          <p:nvPr/>
        </p:nvSpPr>
        <p:spPr>
          <a:xfrm>
            <a:off x="7832880" y="3681360"/>
            <a:ext cx="0" cy="35568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nector reto 18457"/>
          <p:cNvSpPr/>
          <p:nvPr/>
        </p:nvSpPr>
        <p:spPr>
          <a:xfrm>
            <a:off x="7848720" y="5013360"/>
            <a:ext cx="0" cy="21600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nector reto 18459"/>
          <p:cNvSpPr/>
          <p:nvPr/>
        </p:nvSpPr>
        <p:spPr>
          <a:xfrm flipV="1">
            <a:off x="5648400" y="4746240"/>
            <a:ext cx="0" cy="11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onector reto 35"/>
          <p:cNvSpPr/>
          <p:nvPr/>
        </p:nvSpPr>
        <p:spPr>
          <a:xfrm flipV="1">
            <a:off x="5707080" y="5013360"/>
            <a:ext cx="0" cy="21600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onector reto 37"/>
          <p:cNvSpPr/>
          <p:nvPr/>
        </p:nvSpPr>
        <p:spPr>
          <a:xfrm flipV="1">
            <a:off x="3573360" y="5013360"/>
            <a:ext cx="0" cy="21600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onector reto 39"/>
          <p:cNvSpPr/>
          <p:nvPr/>
        </p:nvSpPr>
        <p:spPr>
          <a:xfrm flipV="1">
            <a:off x="1368360" y="5013360"/>
            <a:ext cx="0" cy="21600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onector reto 56"/>
          <p:cNvSpPr/>
          <p:nvPr/>
        </p:nvSpPr>
        <p:spPr>
          <a:xfrm>
            <a:off x="4495680" y="2427120"/>
            <a:ext cx="0" cy="47340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0" y="692280"/>
            <a:ext cx="9180360" cy="5545080"/>
          </a:xfrm>
          <a:prstGeom prst="rect">
            <a:avLst/>
          </a:prstGeom>
          <a:solidFill>
            <a:srgbClr val="00923f"/>
          </a:solidFill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9"/>
          <p:cNvSpPr/>
          <p:nvPr/>
        </p:nvSpPr>
        <p:spPr>
          <a:xfrm>
            <a:off x="28440" y="1123920"/>
            <a:ext cx="9178920" cy="5113440"/>
          </a:xfrm>
          <a:prstGeom prst="rect">
            <a:avLst/>
          </a:prstGeom>
          <a:solidFill>
            <a:srgbClr val="d2e8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21"/>
          <p:cNvGraphicFramePr/>
          <p:nvPr/>
        </p:nvGraphicFramePr>
        <p:xfrm>
          <a:off x="108000" y="98280"/>
          <a:ext cx="6840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8280"/>
                    <a:ext cx="68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560" y="1123920"/>
            <a:ext cx="75992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POSIÇÃO FINAL  -  AVALIAÇÃO ECONÔ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3929040" y="6357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Consórcio Intermunicipal do Médio Vale do Itaja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78000" y="2111400"/>
            <a:ext cx="842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Arial"/>
              </a:rPr>
              <a:t>Altern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7f7f7f"/>
                </a:solidFill>
                <a:latin typeface="Arial"/>
              </a:rPr>
              <a:t>1ª - Um aterro sanitário em Timbó - 7 Municí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7f7f7f"/>
                </a:solidFill>
                <a:latin typeface="Arial"/>
              </a:rPr>
              <a:t>2ª - Dois aterros – Timbó - 4 Municípios / Ascurra - 3 Municí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7f7f7f"/>
                </a:solidFill>
                <a:latin typeface="Arial"/>
              </a:rPr>
              <a:t>3ª - Um aterro em cada Municí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7f7f7f"/>
                </a:solidFill>
                <a:latin typeface="Arial"/>
              </a:rPr>
              <a:t>4ª - Encaminhamento de resíduos para Aterro 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692280"/>
            <a:ext cx="9180360" cy="5545080"/>
          </a:xfrm>
          <a:prstGeom prst="rect">
            <a:avLst/>
          </a:prstGeom>
          <a:solidFill>
            <a:srgbClr val="00923f"/>
          </a:solidFill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28440" y="1123920"/>
            <a:ext cx="9178920" cy="5113440"/>
          </a:xfrm>
          <a:prstGeom prst="rect">
            <a:avLst/>
          </a:prstGeom>
          <a:solidFill>
            <a:srgbClr val="d2e8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21"/>
          <p:cNvGraphicFramePr/>
          <p:nvPr/>
        </p:nvGraphicFramePr>
        <p:xfrm>
          <a:off x="108000" y="98280"/>
          <a:ext cx="6840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8280"/>
                    <a:ext cx="68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560" y="1123920"/>
            <a:ext cx="75992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USTO DE IMPLA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2"/>
          <p:cNvSpPr/>
          <p:nvPr/>
        </p:nvSpPr>
        <p:spPr>
          <a:xfrm>
            <a:off x="3929040" y="6357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Consórcio Intermunicipal do Médio Vale do Itaja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78000" y="2111400"/>
            <a:ext cx="842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Arial"/>
              </a:rPr>
              <a:t>Altern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f7f7f"/>
                </a:solidFill>
                <a:latin typeface="Arial"/>
              </a:rPr>
              <a:t>1 - Custo de 1 aterro sanitário - Timbó - R$ 1.628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f7f7f"/>
                </a:solidFill>
                <a:latin typeface="Arial"/>
              </a:rPr>
              <a:t>2 - Custo de 2 aterros - Ascurra e Timbó - R$ 1.924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f7f7f"/>
                </a:solidFill>
                <a:latin typeface="Arial"/>
              </a:rPr>
              <a:t>3 - Custo de 7 aterros – 1 em cada Município - R$ 3.161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4"/>
          <p:cNvGrpSpPr/>
          <p:nvPr/>
        </p:nvGrpSpPr>
        <p:grpSpPr>
          <a:xfrm>
            <a:off x="0" y="0"/>
            <a:ext cx="9180360" cy="6858000"/>
            <a:chOff x="0" y="0"/>
            <a:chExt cx="9180360" cy="6858000"/>
          </a:xfrm>
        </p:grpSpPr>
        <p:sp>
          <p:nvSpPr>
            <p:cNvPr id="213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6"/>
            <p:cNvSpPr/>
            <p:nvPr/>
          </p:nvSpPr>
          <p:spPr>
            <a:xfrm>
              <a:off x="0" y="692280"/>
              <a:ext cx="9180360" cy="5545080"/>
            </a:xfrm>
            <a:prstGeom prst="rect">
              <a:avLst/>
            </a:prstGeom>
            <a:solidFill>
              <a:srgbClr val="00923f"/>
            </a:solidFill>
            <a:ln w="9360">
              <a:solidFill>
                <a:srgbClr val="0092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1440" y="907920"/>
              <a:ext cx="9178920" cy="5113440"/>
            </a:xfrm>
            <a:prstGeom prst="rect">
              <a:avLst/>
            </a:prstGeom>
            <a:solidFill>
              <a:srgbClr val="d2e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6" name="Object 9"/>
            <p:cNvGraphicFramePr/>
            <p:nvPr/>
          </p:nvGraphicFramePr>
          <p:xfrm>
            <a:off x="108000" y="98280"/>
            <a:ext cx="684000" cy="52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7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8000" y="98280"/>
                      <a:ext cx="684000" cy="52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9288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USTOS DE DISPOSIÇÃO  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250920" y="1428840"/>
            <a:ext cx="8713800" cy="408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2e8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1692360" y="1628640"/>
            <a:ext cx="0" cy="417672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324000" y="2276640"/>
            <a:ext cx="8496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318960" y="178272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23f"/>
                </a:solidFill>
                <a:latin typeface="Arial"/>
              </a:rPr>
              <a:t>MUNICÍP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1714680" y="1714680"/>
            <a:ext cx="1643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23f"/>
                </a:solidFill>
                <a:latin typeface="Arial"/>
              </a:rPr>
              <a:t>Aterro em Timb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23f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00923f"/>
                </a:solidFill>
                <a:latin typeface="Arial"/>
              </a:rPr>
              <a:t>7 Municípios</a:t>
            </a: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6143760" y="171468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23f"/>
                </a:solidFill>
                <a:latin typeface="Arial"/>
              </a:rPr>
              <a:t>Aterro em c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23f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923f"/>
                </a:solidFill>
                <a:latin typeface="Arial"/>
              </a:rPr>
              <a:t>Municíp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8"/>
          <p:cNvSpPr/>
          <p:nvPr/>
        </p:nvSpPr>
        <p:spPr>
          <a:xfrm>
            <a:off x="7572240" y="1857240"/>
            <a:ext cx="132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23f"/>
                </a:solidFill>
                <a:latin typeface="Arial"/>
              </a:rPr>
              <a:t>Aterro Pri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9"/>
          <p:cNvSpPr/>
          <p:nvPr/>
        </p:nvSpPr>
        <p:spPr>
          <a:xfrm>
            <a:off x="3132000" y="1628640"/>
            <a:ext cx="0" cy="417672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0"/>
          <p:cNvSpPr/>
          <p:nvPr/>
        </p:nvSpPr>
        <p:spPr>
          <a:xfrm>
            <a:off x="4716360" y="1628640"/>
            <a:ext cx="0" cy="417672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1"/>
          <p:cNvSpPr/>
          <p:nvPr/>
        </p:nvSpPr>
        <p:spPr>
          <a:xfrm>
            <a:off x="6156360" y="1628640"/>
            <a:ext cx="0" cy="417672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2"/>
          <p:cNvSpPr/>
          <p:nvPr/>
        </p:nvSpPr>
        <p:spPr>
          <a:xfrm>
            <a:off x="7524720" y="1628640"/>
            <a:ext cx="0" cy="417672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3"/>
          <p:cNvSpPr/>
          <p:nvPr/>
        </p:nvSpPr>
        <p:spPr>
          <a:xfrm>
            <a:off x="289800" y="2433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923f"/>
                </a:solidFill>
                <a:latin typeface="Arial"/>
              </a:rPr>
              <a:t>Apiú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289440" y="286560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923f"/>
                </a:solidFill>
                <a:latin typeface="Arial"/>
              </a:rPr>
              <a:t>Ascu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5"/>
          <p:cNvSpPr/>
          <p:nvPr/>
        </p:nvSpPr>
        <p:spPr>
          <a:xfrm>
            <a:off x="291240" y="329724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923f"/>
                </a:solidFill>
                <a:latin typeface="Arial"/>
              </a:rPr>
              <a:t>Benedito No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6"/>
          <p:cNvSpPr/>
          <p:nvPr/>
        </p:nvSpPr>
        <p:spPr>
          <a:xfrm>
            <a:off x="285840" y="372888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923f"/>
                </a:solidFill>
                <a:latin typeface="Arial"/>
              </a:rPr>
              <a:t>Dr. Pedrin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7"/>
          <p:cNvSpPr/>
          <p:nvPr/>
        </p:nvSpPr>
        <p:spPr>
          <a:xfrm>
            <a:off x="284760" y="4214880"/>
            <a:ext cx="149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923f"/>
                </a:solidFill>
                <a:latin typeface="Arial"/>
              </a:rPr>
              <a:t>Rio dos Ced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8"/>
          <p:cNvSpPr/>
          <p:nvPr/>
        </p:nvSpPr>
        <p:spPr>
          <a:xfrm>
            <a:off x="289800" y="464328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923f"/>
                </a:solidFill>
                <a:latin typeface="Arial"/>
              </a:rPr>
              <a:t>Rode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9"/>
          <p:cNvSpPr/>
          <p:nvPr/>
        </p:nvSpPr>
        <p:spPr>
          <a:xfrm>
            <a:off x="288000" y="50259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923f"/>
                </a:solidFill>
                <a:latin typeface="Arial"/>
              </a:rPr>
              <a:t>Timb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0"/>
          <p:cNvSpPr/>
          <p:nvPr/>
        </p:nvSpPr>
        <p:spPr>
          <a:xfrm>
            <a:off x="1838520" y="2433600"/>
            <a:ext cx="102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2.213,3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7"/>
          <p:cNvSpPr/>
          <p:nvPr/>
        </p:nvSpPr>
        <p:spPr>
          <a:xfrm>
            <a:off x="1835280" y="2852640"/>
            <a:ext cx="10731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1.845,8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8"/>
          <p:cNvSpPr/>
          <p:nvPr/>
        </p:nvSpPr>
        <p:spPr>
          <a:xfrm>
            <a:off x="1838520" y="3297240"/>
            <a:ext cx="102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2.142,5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9"/>
          <p:cNvSpPr/>
          <p:nvPr/>
        </p:nvSpPr>
        <p:spPr>
          <a:xfrm>
            <a:off x="2053800" y="3728880"/>
            <a:ext cx="8420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506,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0"/>
          <p:cNvSpPr/>
          <p:nvPr/>
        </p:nvSpPr>
        <p:spPr>
          <a:xfrm>
            <a:off x="1911240" y="4162320"/>
            <a:ext cx="102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4.199,4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1"/>
          <p:cNvSpPr/>
          <p:nvPr/>
        </p:nvSpPr>
        <p:spPr>
          <a:xfrm>
            <a:off x="1911240" y="4594320"/>
            <a:ext cx="10220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5.319,3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2"/>
          <p:cNvSpPr/>
          <p:nvPr/>
        </p:nvSpPr>
        <p:spPr>
          <a:xfrm>
            <a:off x="188748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3"/>
          <p:cNvSpPr/>
          <p:nvPr/>
        </p:nvSpPr>
        <p:spPr>
          <a:xfrm>
            <a:off x="1838520" y="5025960"/>
            <a:ext cx="1142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15.320,9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4"/>
          <p:cNvSpPr/>
          <p:nvPr/>
        </p:nvSpPr>
        <p:spPr>
          <a:xfrm>
            <a:off x="3422880" y="2433600"/>
            <a:ext cx="102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2.413,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5"/>
          <p:cNvSpPr/>
          <p:nvPr/>
        </p:nvSpPr>
        <p:spPr>
          <a:xfrm>
            <a:off x="3422880" y="2865600"/>
            <a:ext cx="102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1.973,5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6"/>
          <p:cNvSpPr/>
          <p:nvPr/>
        </p:nvSpPr>
        <p:spPr>
          <a:xfrm>
            <a:off x="3422880" y="4594320"/>
            <a:ext cx="102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6.537,8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7"/>
          <p:cNvSpPr/>
          <p:nvPr/>
        </p:nvSpPr>
        <p:spPr>
          <a:xfrm>
            <a:off x="4935600" y="3297240"/>
            <a:ext cx="102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2.495,6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8"/>
          <p:cNvSpPr/>
          <p:nvPr/>
        </p:nvSpPr>
        <p:spPr>
          <a:xfrm>
            <a:off x="5095440" y="3728880"/>
            <a:ext cx="84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575,7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9"/>
          <p:cNvSpPr/>
          <p:nvPr/>
        </p:nvSpPr>
        <p:spPr>
          <a:xfrm>
            <a:off x="4935600" y="4162320"/>
            <a:ext cx="102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4.887,3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1"/>
          <p:cNvSpPr/>
          <p:nvPr/>
        </p:nvSpPr>
        <p:spPr>
          <a:xfrm>
            <a:off x="4862880" y="5025960"/>
            <a:ext cx="1142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18.200,8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2"/>
          <p:cNvSpPr/>
          <p:nvPr/>
        </p:nvSpPr>
        <p:spPr>
          <a:xfrm>
            <a:off x="6375600" y="2433600"/>
            <a:ext cx="102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4.171,7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3"/>
          <p:cNvSpPr/>
          <p:nvPr/>
        </p:nvSpPr>
        <p:spPr>
          <a:xfrm>
            <a:off x="6354720" y="2886120"/>
            <a:ext cx="102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4.037,5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4"/>
          <p:cNvSpPr/>
          <p:nvPr/>
        </p:nvSpPr>
        <p:spPr>
          <a:xfrm>
            <a:off x="6375600" y="3297240"/>
            <a:ext cx="102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4.633,8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5"/>
          <p:cNvSpPr/>
          <p:nvPr/>
        </p:nvSpPr>
        <p:spPr>
          <a:xfrm>
            <a:off x="6375600" y="3728880"/>
            <a:ext cx="102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1.513,7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6"/>
          <p:cNvSpPr/>
          <p:nvPr/>
        </p:nvSpPr>
        <p:spPr>
          <a:xfrm>
            <a:off x="6375600" y="4162320"/>
            <a:ext cx="102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8.079,9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7"/>
          <p:cNvSpPr/>
          <p:nvPr/>
        </p:nvSpPr>
        <p:spPr>
          <a:xfrm>
            <a:off x="6375600" y="4594320"/>
            <a:ext cx="102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8.943,2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8"/>
          <p:cNvSpPr/>
          <p:nvPr/>
        </p:nvSpPr>
        <p:spPr>
          <a:xfrm>
            <a:off x="6304320" y="5025960"/>
            <a:ext cx="1142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18.429,4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9"/>
          <p:cNvSpPr/>
          <p:nvPr/>
        </p:nvSpPr>
        <p:spPr>
          <a:xfrm>
            <a:off x="7670880" y="2433600"/>
            <a:ext cx="10220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3.749,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0"/>
          <p:cNvSpPr/>
          <p:nvPr/>
        </p:nvSpPr>
        <p:spPr>
          <a:xfrm>
            <a:off x="7670880" y="2865600"/>
            <a:ext cx="102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2.911,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1"/>
          <p:cNvSpPr/>
          <p:nvPr/>
        </p:nvSpPr>
        <p:spPr>
          <a:xfrm>
            <a:off x="7670880" y="3297240"/>
            <a:ext cx="10220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3.778,6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2"/>
          <p:cNvSpPr/>
          <p:nvPr/>
        </p:nvSpPr>
        <p:spPr>
          <a:xfrm>
            <a:off x="7887960" y="3728880"/>
            <a:ext cx="84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910,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7670880" y="4162320"/>
            <a:ext cx="102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7.431,6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7670880" y="4594320"/>
            <a:ext cx="10220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9.386,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5"/>
          <p:cNvSpPr/>
          <p:nvPr/>
        </p:nvSpPr>
        <p:spPr>
          <a:xfrm>
            <a:off x="7529760" y="5025960"/>
            <a:ext cx="11422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29.262,8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2"/>
          <p:cNvSpPr/>
          <p:nvPr/>
        </p:nvSpPr>
        <p:spPr>
          <a:xfrm>
            <a:off x="3929040" y="6357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Consórcio Intermunicipal do Médio Vale do Itaja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3081240" y="10717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$/MÊ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3143160" y="171468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23f"/>
                </a:solidFill>
                <a:latin typeface="Arial"/>
              </a:rPr>
              <a:t>Aterro em Ascu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23f"/>
                </a:solidFill>
                <a:latin typeface="Arial"/>
              </a:rPr>
              <a:t>    </a:t>
            </a:r>
            <a:r>
              <a:rPr b="0" lang="pt-BR" sz="1400" spc="-1" strike="noStrike">
                <a:solidFill>
                  <a:srgbClr val="00923f"/>
                </a:solidFill>
                <a:latin typeface="Arial"/>
              </a:rPr>
              <a:t>3 Municíp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4"/>
          <p:cNvSpPr/>
          <p:nvPr/>
        </p:nvSpPr>
        <p:spPr>
          <a:xfrm>
            <a:off x="4714920" y="1714680"/>
            <a:ext cx="1643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23f"/>
                </a:solidFill>
                <a:latin typeface="Arial"/>
              </a:rPr>
              <a:t>Aterro em Timb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23f"/>
                </a:solidFill>
                <a:latin typeface="Arial"/>
              </a:rPr>
              <a:t>   </a:t>
            </a:r>
            <a:r>
              <a:rPr b="0" lang="pt-BR" sz="1400" spc="-1" strike="noStrike">
                <a:solidFill>
                  <a:srgbClr val="00923f"/>
                </a:solidFill>
                <a:latin typeface="Arial"/>
              </a:rPr>
              <a:t>4 Municípios</a:t>
            </a: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>
            <a:off x="357120" y="2786040"/>
            <a:ext cx="849636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3"/>
          <p:cNvSpPr/>
          <p:nvPr/>
        </p:nvSpPr>
        <p:spPr>
          <a:xfrm>
            <a:off x="357120" y="3214800"/>
            <a:ext cx="8496360" cy="0"/>
          </a:xfrm>
          <a:prstGeom prst="line">
            <a:avLst/>
          </a:prstGeom>
          <a:ln w="1260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3"/>
          <p:cNvSpPr/>
          <p:nvPr/>
        </p:nvSpPr>
        <p:spPr>
          <a:xfrm>
            <a:off x="357120" y="3643200"/>
            <a:ext cx="8496360" cy="0"/>
          </a:xfrm>
          <a:prstGeom prst="line">
            <a:avLst/>
          </a:prstGeom>
          <a:ln w="1260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3"/>
          <p:cNvSpPr/>
          <p:nvPr/>
        </p:nvSpPr>
        <p:spPr>
          <a:xfrm>
            <a:off x="357120" y="4071960"/>
            <a:ext cx="849636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357120" y="4572000"/>
            <a:ext cx="849636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357120" y="5000760"/>
            <a:ext cx="849636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3"/>
          <p:cNvSpPr/>
          <p:nvPr/>
        </p:nvSpPr>
        <p:spPr>
          <a:xfrm>
            <a:off x="433440" y="5429160"/>
            <a:ext cx="8496360" cy="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5"/>
          <p:cNvSpPr/>
          <p:nvPr/>
        </p:nvSpPr>
        <p:spPr>
          <a:xfrm>
            <a:off x="3600360" y="3292560"/>
            <a:ext cx="682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5"/>
          <p:cNvSpPr/>
          <p:nvPr/>
        </p:nvSpPr>
        <p:spPr>
          <a:xfrm>
            <a:off x="3600360" y="3718080"/>
            <a:ext cx="682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5"/>
          <p:cNvSpPr/>
          <p:nvPr/>
        </p:nvSpPr>
        <p:spPr>
          <a:xfrm>
            <a:off x="3600360" y="4146480"/>
            <a:ext cx="682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5"/>
          <p:cNvSpPr/>
          <p:nvPr/>
        </p:nvSpPr>
        <p:spPr>
          <a:xfrm>
            <a:off x="3600360" y="5075280"/>
            <a:ext cx="682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5"/>
          <p:cNvSpPr/>
          <p:nvPr/>
        </p:nvSpPr>
        <p:spPr>
          <a:xfrm>
            <a:off x="5075280" y="2428920"/>
            <a:ext cx="682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5"/>
          <p:cNvSpPr/>
          <p:nvPr/>
        </p:nvSpPr>
        <p:spPr>
          <a:xfrm>
            <a:off x="5075280" y="2860560"/>
            <a:ext cx="682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5"/>
          <p:cNvSpPr/>
          <p:nvPr/>
        </p:nvSpPr>
        <p:spPr>
          <a:xfrm>
            <a:off x="5075280" y="4646520"/>
            <a:ext cx="682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0" y="692280"/>
            <a:ext cx="9180360" cy="5545080"/>
          </a:xfrm>
          <a:prstGeom prst="rect">
            <a:avLst/>
          </a:prstGeom>
          <a:solidFill>
            <a:srgbClr val="00923f"/>
          </a:solidFill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9"/>
          <p:cNvSpPr/>
          <p:nvPr/>
        </p:nvSpPr>
        <p:spPr>
          <a:xfrm>
            <a:off x="1440" y="907920"/>
            <a:ext cx="9178920" cy="5113440"/>
          </a:xfrm>
          <a:prstGeom prst="rect">
            <a:avLst/>
          </a:prstGeom>
          <a:solidFill>
            <a:srgbClr val="d2e8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21"/>
          <p:cNvGraphicFramePr/>
          <p:nvPr/>
        </p:nvGraphicFramePr>
        <p:xfrm>
          <a:off x="108000" y="98280"/>
          <a:ext cx="6840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8280"/>
                    <a:ext cx="68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840" y="999720"/>
            <a:ext cx="492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RVIÇO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2"/>
          <p:cNvSpPr/>
          <p:nvPr/>
        </p:nvSpPr>
        <p:spPr>
          <a:xfrm>
            <a:off x="3929040" y="6357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Consórcio Intermunicipal do Médio Vale do Itaja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14200" y="2428920"/>
            <a:ext cx="8786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  <a:ea typeface="Times New Roman"/>
              </a:rPr>
              <a:t>Serviço público é todo aquele que é prestado pela Administração ou seus delegados, sob normas e controles estatais, para satisfazer necessidades essenciais ou secundárias da coletividade ou simples conveniência do Estado. (Hely Lopes Meirel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4"/>
          <p:cNvGrpSpPr/>
          <p:nvPr/>
        </p:nvGrpSpPr>
        <p:grpSpPr>
          <a:xfrm>
            <a:off x="0" y="0"/>
            <a:ext cx="9180360" cy="6858000"/>
            <a:chOff x="0" y="0"/>
            <a:chExt cx="9180360" cy="6858000"/>
          </a:xfrm>
        </p:grpSpPr>
        <p:sp>
          <p:nvSpPr>
            <p:cNvPr id="285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6"/>
            <p:cNvSpPr/>
            <p:nvPr/>
          </p:nvSpPr>
          <p:spPr>
            <a:xfrm>
              <a:off x="0" y="692280"/>
              <a:ext cx="9180360" cy="5545080"/>
            </a:xfrm>
            <a:prstGeom prst="rect">
              <a:avLst/>
            </a:prstGeom>
            <a:solidFill>
              <a:srgbClr val="00923f"/>
            </a:solidFill>
            <a:ln w="9360">
              <a:solidFill>
                <a:srgbClr val="0092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1440" y="907920"/>
              <a:ext cx="9178920" cy="5113440"/>
            </a:xfrm>
            <a:prstGeom prst="rect">
              <a:avLst/>
            </a:prstGeom>
            <a:solidFill>
              <a:srgbClr val="d2e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8" name="Object 9"/>
            <p:cNvGraphicFramePr/>
            <p:nvPr/>
          </p:nvGraphicFramePr>
          <p:xfrm>
            <a:off x="108000" y="98280"/>
            <a:ext cx="684000" cy="52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9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8000" y="98280"/>
                      <a:ext cx="684000" cy="52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0" name="Rectangle 57"/>
          <p:cNvSpPr/>
          <p:nvPr/>
        </p:nvSpPr>
        <p:spPr>
          <a:xfrm>
            <a:off x="0" y="1268280"/>
            <a:ext cx="8893080" cy="459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2e8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639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ORMA DE RATEIO  -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porção Popul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556920" y="1341360"/>
            <a:ext cx="1189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923f"/>
                </a:solidFill>
                <a:latin typeface="Arial"/>
              </a:rPr>
              <a:t>Municíp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2428920" y="1357200"/>
            <a:ext cx="1500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923f"/>
                </a:solidFill>
                <a:latin typeface="Arial"/>
              </a:rPr>
              <a:t>Populaçã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649080" y="1792440"/>
            <a:ext cx="855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Apiú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649080" y="2141640"/>
            <a:ext cx="925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Ascur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649440" y="2565360"/>
            <a:ext cx="1600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Benedito No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649080" y="2997360"/>
            <a:ext cx="1395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Dr. Pedrinh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649440" y="3438360"/>
            <a:ext cx="878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Indaia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2363760" y="1413000"/>
            <a:ext cx="0" cy="446400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3892680" y="1413000"/>
            <a:ext cx="0" cy="446400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0"/>
          <p:cNvSpPr/>
          <p:nvPr/>
        </p:nvSpPr>
        <p:spPr>
          <a:xfrm>
            <a:off x="685440" y="5589720"/>
            <a:ext cx="697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923f"/>
                </a:solidFill>
                <a:latin typeface="Arial"/>
              </a:rPr>
              <a:t>Tot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0"/>
          <p:cNvSpPr/>
          <p:nvPr/>
        </p:nvSpPr>
        <p:spPr>
          <a:xfrm>
            <a:off x="649440" y="3860640"/>
            <a:ext cx="1179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Pomer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4"/>
          <p:cNvSpPr/>
          <p:nvPr/>
        </p:nvSpPr>
        <p:spPr>
          <a:xfrm>
            <a:off x="648720" y="4292640"/>
            <a:ext cx="1672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Rio dos Cedr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8"/>
          <p:cNvSpPr/>
          <p:nvPr/>
        </p:nvSpPr>
        <p:spPr>
          <a:xfrm>
            <a:off x="648720" y="4724280"/>
            <a:ext cx="867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Rode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4"/>
          <p:cNvSpPr/>
          <p:nvPr/>
        </p:nvSpPr>
        <p:spPr>
          <a:xfrm>
            <a:off x="648360" y="5165640"/>
            <a:ext cx="782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Timbó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2"/>
          <p:cNvSpPr/>
          <p:nvPr/>
        </p:nvSpPr>
        <p:spPr>
          <a:xfrm>
            <a:off x="3929040" y="6357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Consórcio Intermunicipal do Médio Vale do Itaja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3938400" y="1357200"/>
            <a:ext cx="167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923f"/>
                </a:solidFill>
                <a:latin typeface="Arial"/>
              </a:rPr>
              <a:t>5 </a:t>
            </a:r>
            <a:r>
              <a:rPr b="1" lang="pt-BR" sz="1600" spc="-1" strike="noStrike">
                <a:solidFill>
                  <a:srgbClr val="00923f"/>
                </a:solidFill>
                <a:latin typeface="Arial"/>
              </a:rPr>
              <a:t>Municípios</a:t>
            </a:r>
            <a:r>
              <a:rPr b="1" lang="pt-BR" sz="1700" spc="-1" strike="noStrike">
                <a:solidFill>
                  <a:srgbClr val="00923f"/>
                </a:solidFill>
                <a:latin typeface="Arial"/>
              </a:rPr>
              <a:t> 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>
            <a:off x="5535720" y="1428840"/>
            <a:ext cx="0" cy="446400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2"/>
          <p:cNvSpPr/>
          <p:nvPr/>
        </p:nvSpPr>
        <p:spPr>
          <a:xfrm>
            <a:off x="4214160" y="2637000"/>
            <a:ext cx="72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14,9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3"/>
          <p:cNvSpPr/>
          <p:nvPr/>
        </p:nvSpPr>
        <p:spPr>
          <a:xfrm>
            <a:off x="4222080" y="3013200"/>
            <a:ext cx="72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05,0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1"/>
          <p:cNvSpPr/>
          <p:nvPr/>
        </p:nvSpPr>
        <p:spPr>
          <a:xfrm>
            <a:off x="4286520" y="5589720"/>
            <a:ext cx="734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923f"/>
                </a:solidFill>
                <a:latin typeface="Arial"/>
              </a:rPr>
              <a:t>10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5"/>
          <p:cNvSpPr/>
          <p:nvPr/>
        </p:nvSpPr>
        <p:spPr>
          <a:xfrm>
            <a:off x="4222080" y="4308480"/>
            <a:ext cx="72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14,7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0"/>
          <p:cNvSpPr/>
          <p:nvPr/>
        </p:nvSpPr>
        <p:spPr>
          <a:xfrm>
            <a:off x="4236480" y="4740120"/>
            <a:ext cx="72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17,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5"/>
          <p:cNvSpPr/>
          <p:nvPr/>
        </p:nvSpPr>
        <p:spPr>
          <a:xfrm>
            <a:off x="4236480" y="5211720"/>
            <a:ext cx="72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48,2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5570280" y="1357200"/>
            <a:ext cx="1666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923f"/>
                </a:solidFill>
                <a:latin typeface="Arial"/>
              </a:rPr>
              <a:t>7 </a:t>
            </a:r>
            <a:r>
              <a:rPr b="1" lang="pt-BR" sz="1600" spc="-1" strike="noStrike">
                <a:solidFill>
                  <a:srgbClr val="00923f"/>
                </a:solidFill>
                <a:latin typeface="Arial"/>
              </a:rPr>
              <a:t>Municípios </a:t>
            </a:r>
            <a:r>
              <a:rPr b="1" lang="pt-BR" sz="1700" spc="-1" strike="noStrike">
                <a:solidFill>
                  <a:srgbClr val="00923f"/>
                </a:solidFill>
                <a:latin typeface="Arial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9"/>
          <p:cNvSpPr/>
          <p:nvPr/>
        </p:nvSpPr>
        <p:spPr>
          <a:xfrm>
            <a:off x="7321680" y="1428840"/>
            <a:ext cx="0" cy="4464000"/>
          </a:xfrm>
          <a:prstGeom prst="line">
            <a:avLst/>
          </a:prstGeom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6031080" y="2619360"/>
            <a:ext cx="721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11.8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3"/>
          <p:cNvSpPr/>
          <p:nvPr/>
        </p:nvSpPr>
        <p:spPr>
          <a:xfrm>
            <a:off x="6041520" y="3013200"/>
            <a:ext cx="721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04.0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1"/>
          <p:cNvSpPr/>
          <p:nvPr/>
        </p:nvSpPr>
        <p:spPr>
          <a:xfrm>
            <a:off x="6013800" y="5589720"/>
            <a:ext cx="734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923f"/>
                </a:solidFill>
                <a:latin typeface="Arial"/>
              </a:rPr>
              <a:t>10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5"/>
          <p:cNvSpPr/>
          <p:nvPr/>
        </p:nvSpPr>
        <p:spPr>
          <a:xfrm>
            <a:off x="5999400" y="4308480"/>
            <a:ext cx="72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11.7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0"/>
          <p:cNvSpPr/>
          <p:nvPr/>
        </p:nvSpPr>
        <p:spPr>
          <a:xfrm>
            <a:off x="6022440" y="4740120"/>
            <a:ext cx="721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13,6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5"/>
          <p:cNvSpPr/>
          <p:nvPr/>
        </p:nvSpPr>
        <p:spPr>
          <a:xfrm>
            <a:off x="6022440" y="5211720"/>
            <a:ext cx="72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38,4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016680" y="1812960"/>
            <a:ext cx="841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11.1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2"/>
          <p:cNvSpPr/>
          <p:nvPr/>
        </p:nvSpPr>
        <p:spPr>
          <a:xfrm>
            <a:off x="6035760" y="2170080"/>
            <a:ext cx="10000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09.0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7284960" y="1357200"/>
            <a:ext cx="1666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923f"/>
                </a:solidFill>
                <a:latin typeface="Arial"/>
              </a:rPr>
              <a:t>9 </a:t>
            </a:r>
            <a:r>
              <a:rPr b="1" lang="pt-BR" sz="1600" spc="-1" strike="noStrike">
                <a:solidFill>
                  <a:srgbClr val="00923f"/>
                </a:solidFill>
                <a:latin typeface="Arial"/>
              </a:rPr>
              <a:t>Municípios </a:t>
            </a:r>
            <a:r>
              <a:rPr b="1" lang="pt-BR" sz="1700" spc="-1" strike="noStrike">
                <a:solidFill>
                  <a:srgbClr val="00923f"/>
                </a:solidFill>
                <a:latin typeface="Arial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3"/>
          <p:cNvSpPr/>
          <p:nvPr/>
        </p:nvSpPr>
        <p:spPr>
          <a:xfrm>
            <a:off x="324000" y="1785960"/>
            <a:ext cx="8496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3"/>
          <p:cNvSpPr/>
          <p:nvPr/>
        </p:nvSpPr>
        <p:spPr>
          <a:xfrm>
            <a:off x="357120" y="2143080"/>
            <a:ext cx="84963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3"/>
          <p:cNvSpPr/>
          <p:nvPr/>
        </p:nvSpPr>
        <p:spPr>
          <a:xfrm>
            <a:off x="357120" y="2571840"/>
            <a:ext cx="84963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3"/>
          <p:cNvSpPr/>
          <p:nvPr/>
        </p:nvSpPr>
        <p:spPr>
          <a:xfrm>
            <a:off x="357120" y="3000240"/>
            <a:ext cx="84963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3"/>
          <p:cNvSpPr/>
          <p:nvPr/>
        </p:nvSpPr>
        <p:spPr>
          <a:xfrm>
            <a:off x="357120" y="3429000"/>
            <a:ext cx="84963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3"/>
          <p:cNvSpPr/>
          <p:nvPr/>
        </p:nvSpPr>
        <p:spPr>
          <a:xfrm>
            <a:off x="357120" y="3857760"/>
            <a:ext cx="84963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357120" y="4286160"/>
            <a:ext cx="84963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3"/>
          <p:cNvSpPr/>
          <p:nvPr/>
        </p:nvSpPr>
        <p:spPr>
          <a:xfrm>
            <a:off x="357120" y="4714920"/>
            <a:ext cx="84963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357120" y="5143680"/>
            <a:ext cx="84963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3"/>
          <p:cNvSpPr/>
          <p:nvPr/>
        </p:nvSpPr>
        <p:spPr>
          <a:xfrm>
            <a:off x="357120" y="5572080"/>
            <a:ext cx="84963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0"/>
          <p:cNvSpPr/>
          <p:nvPr/>
        </p:nvSpPr>
        <p:spPr>
          <a:xfrm>
            <a:off x="4214880" y="1785960"/>
            <a:ext cx="785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4214880" y="2217600"/>
            <a:ext cx="785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4214880" y="3503520"/>
            <a:ext cx="785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4214880" y="3932280"/>
            <a:ext cx="785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6000840" y="3929040"/>
            <a:ext cx="785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0"/>
          <p:cNvSpPr/>
          <p:nvPr/>
        </p:nvSpPr>
        <p:spPr>
          <a:xfrm>
            <a:off x="6000840" y="3500280"/>
            <a:ext cx="785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2718720" y="2162160"/>
            <a:ext cx="72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6.93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2718720" y="2593800"/>
            <a:ext cx="721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9.07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3"/>
          <p:cNvSpPr/>
          <p:nvPr/>
        </p:nvSpPr>
        <p:spPr>
          <a:xfrm>
            <a:off x="2710800" y="2987640"/>
            <a:ext cx="721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3.08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4"/>
          <p:cNvSpPr/>
          <p:nvPr/>
        </p:nvSpPr>
        <p:spPr>
          <a:xfrm>
            <a:off x="2574720" y="3429000"/>
            <a:ext cx="8420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40.19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1"/>
          <p:cNvSpPr/>
          <p:nvPr/>
        </p:nvSpPr>
        <p:spPr>
          <a:xfrm>
            <a:off x="2503080" y="5578560"/>
            <a:ext cx="962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923f"/>
                </a:solidFill>
                <a:latin typeface="Arial"/>
              </a:rPr>
              <a:t>138.6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1"/>
          <p:cNvSpPr/>
          <p:nvPr/>
        </p:nvSpPr>
        <p:spPr>
          <a:xfrm>
            <a:off x="2574720" y="3851280"/>
            <a:ext cx="8420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22.12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5"/>
          <p:cNvSpPr/>
          <p:nvPr/>
        </p:nvSpPr>
        <p:spPr>
          <a:xfrm>
            <a:off x="2710800" y="4282920"/>
            <a:ext cx="72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8.93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0"/>
          <p:cNvSpPr/>
          <p:nvPr/>
        </p:nvSpPr>
        <p:spPr>
          <a:xfrm>
            <a:off x="2574720" y="4714920"/>
            <a:ext cx="8420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10.38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5"/>
          <p:cNvSpPr/>
          <p:nvPr/>
        </p:nvSpPr>
        <p:spPr>
          <a:xfrm>
            <a:off x="2574720" y="5186520"/>
            <a:ext cx="8420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29.35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2717280" y="1819440"/>
            <a:ext cx="721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8.5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5"/>
          <p:cNvSpPr/>
          <p:nvPr/>
        </p:nvSpPr>
        <p:spPr>
          <a:xfrm>
            <a:off x="7743240" y="1773360"/>
            <a:ext cx="7218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06,1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6"/>
          <p:cNvSpPr/>
          <p:nvPr/>
        </p:nvSpPr>
        <p:spPr>
          <a:xfrm>
            <a:off x="7743240" y="2205000"/>
            <a:ext cx="721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05,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7743240" y="2637000"/>
            <a:ext cx="721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06,5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8"/>
          <p:cNvSpPr/>
          <p:nvPr/>
        </p:nvSpPr>
        <p:spPr>
          <a:xfrm>
            <a:off x="7740720" y="3068640"/>
            <a:ext cx="7268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02,2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9"/>
          <p:cNvSpPr/>
          <p:nvPr/>
        </p:nvSpPr>
        <p:spPr>
          <a:xfrm>
            <a:off x="7743240" y="3500280"/>
            <a:ext cx="72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29,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2"/>
          <p:cNvSpPr/>
          <p:nvPr/>
        </p:nvSpPr>
        <p:spPr>
          <a:xfrm>
            <a:off x="7672680" y="5589720"/>
            <a:ext cx="7340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923f"/>
                </a:solidFill>
                <a:latin typeface="Arial"/>
              </a:rPr>
              <a:t>10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2"/>
          <p:cNvSpPr/>
          <p:nvPr/>
        </p:nvSpPr>
        <p:spPr>
          <a:xfrm>
            <a:off x="7743240" y="3933720"/>
            <a:ext cx="7218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15,9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7743240" y="4365720"/>
            <a:ext cx="721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06,4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1"/>
          <p:cNvSpPr/>
          <p:nvPr/>
        </p:nvSpPr>
        <p:spPr>
          <a:xfrm>
            <a:off x="7743240" y="4797360"/>
            <a:ext cx="72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07,4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6"/>
          <p:cNvSpPr/>
          <p:nvPr/>
        </p:nvSpPr>
        <p:spPr>
          <a:xfrm>
            <a:off x="7727400" y="5214960"/>
            <a:ext cx="72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23f"/>
                </a:solidFill>
                <a:latin typeface="Arial"/>
              </a:rPr>
              <a:t>21,1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2e8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395280" y="1341360"/>
            <a:ext cx="8280360" cy="551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2e8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2"/>
          <p:cNvSpPr/>
          <p:nvPr/>
        </p:nvSpPr>
        <p:spPr>
          <a:xfrm>
            <a:off x="6517080" y="6308640"/>
            <a:ext cx="190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d2e8d7"/>
                </a:solidFill>
                <a:latin typeface="Arial"/>
              </a:rPr>
              <a:t>Foto . Elisabeth Ge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Imagem 9" descr="pedra preta 13.jpg"/>
          <p:cNvPicPr/>
          <p:nvPr/>
        </p:nvPicPr>
        <p:blipFill>
          <a:blip r:embed="rId1"/>
          <a:stretch/>
        </p:blipFill>
        <p:spPr>
          <a:xfrm>
            <a:off x="428760" y="642960"/>
            <a:ext cx="8286480" cy="62150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2"/>
          <p:cNvSpPr/>
          <p:nvPr/>
        </p:nvSpPr>
        <p:spPr>
          <a:xfrm rot="16200000">
            <a:off x="7807680" y="1546920"/>
            <a:ext cx="221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08080"/>
                </a:solidFill>
                <a:latin typeface="Times New Roman"/>
              </a:rPr>
              <a:t>Pedra Preta / Rio dos Cedros . Foto Pi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tângulo 7"/>
          <p:cNvSpPr/>
          <p:nvPr/>
        </p:nvSpPr>
        <p:spPr>
          <a:xfrm>
            <a:off x="1571760" y="0"/>
            <a:ext cx="5500440" cy="642960"/>
          </a:xfrm>
          <a:prstGeom prst="rect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9"/>
          <p:cNvSpPr/>
          <p:nvPr/>
        </p:nvSpPr>
        <p:spPr>
          <a:xfrm>
            <a:off x="1476360" y="115920"/>
            <a:ext cx="5738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d2e8d7"/>
                </a:solidFill>
                <a:latin typeface="Arial"/>
                <a:ea typeface="Times New Roman"/>
              </a:rPr>
              <a:t>Consórcio Intermunicipal do Médio Vale do Itajaí - CIMV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tângulo 8"/>
          <p:cNvSpPr/>
          <p:nvPr/>
        </p:nvSpPr>
        <p:spPr>
          <a:xfrm>
            <a:off x="3800880" y="178596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RIGA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tângulo 9"/>
          <p:cNvSpPr/>
          <p:nvPr/>
        </p:nvSpPr>
        <p:spPr>
          <a:xfrm>
            <a:off x="2793960" y="3071880"/>
            <a:ext cx="47116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g.º Valter Conrado de Araú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tângulo 11"/>
          <p:cNvSpPr/>
          <p:nvPr/>
        </p:nvSpPr>
        <p:spPr>
          <a:xfrm>
            <a:off x="3358440" y="3244680"/>
            <a:ext cx="316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orcio@cimvi.sc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692280"/>
            <a:ext cx="9180360" cy="5545080"/>
          </a:xfrm>
          <a:prstGeom prst="rect">
            <a:avLst/>
          </a:prstGeom>
          <a:solidFill>
            <a:srgbClr val="00923f"/>
          </a:solidFill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1440" y="907920"/>
            <a:ext cx="9178920" cy="5113440"/>
          </a:xfrm>
          <a:prstGeom prst="rect">
            <a:avLst/>
          </a:prstGeom>
          <a:solidFill>
            <a:srgbClr val="d2e8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21"/>
          <p:cNvGraphicFramePr/>
          <p:nvPr/>
        </p:nvGraphicFramePr>
        <p:xfrm>
          <a:off x="108000" y="98280"/>
          <a:ext cx="6840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8280"/>
                    <a:ext cx="68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4200" y="907920"/>
            <a:ext cx="7237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ORMAS DE PRESTAÇÃO DE SERVIÇ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2"/>
          <p:cNvSpPr/>
          <p:nvPr/>
        </p:nvSpPr>
        <p:spPr>
          <a:xfrm>
            <a:off x="3929040" y="6357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Consórcio Intermunicipal do Médio Vale do Itaja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179280" y="1854360"/>
            <a:ext cx="8785440" cy="49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4040"/>
                </a:solidFill>
                <a:latin typeface="Arial"/>
              </a:rPr>
              <a:t>a) direta:</a:t>
            </a:r>
            <a:r>
              <a:rPr b="1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descentralizada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(autarquia, fundação, empresa públ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4040"/>
                </a:solidFill>
                <a:latin typeface="Arial"/>
              </a:rPr>
              <a:t>b) indireta:</a:t>
            </a:r>
            <a:r>
              <a:rPr b="1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conce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permissão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(necessidade de licita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autor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4040"/>
                </a:solidFill>
                <a:latin typeface="Arial"/>
              </a:rPr>
              <a:t>c) gestão</a:t>
            </a:r>
            <a:r>
              <a:rPr b="1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consórcio público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04040"/>
                </a:solidFill>
                <a:latin typeface="Arial"/>
              </a:rPr>
              <a:t>associada:</a:t>
            </a:r>
            <a:r>
              <a:rPr b="1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(dispensa de licitação) 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convênio de cooperação       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                             </a:t>
            </a:r>
            <a:r>
              <a:rPr b="0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0" y="692280"/>
            <a:ext cx="9180360" cy="5545080"/>
          </a:xfrm>
          <a:prstGeom prst="rect">
            <a:avLst/>
          </a:prstGeom>
          <a:solidFill>
            <a:srgbClr val="00923f"/>
          </a:solidFill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1440" y="907920"/>
            <a:ext cx="9178920" cy="5113440"/>
          </a:xfrm>
          <a:prstGeom prst="rect">
            <a:avLst/>
          </a:prstGeom>
          <a:solidFill>
            <a:srgbClr val="d2e8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21"/>
          <p:cNvGraphicFramePr/>
          <p:nvPr/>
        </p:nvGraphicFramePr>
        <p:xfrm>
          <a:off x="108000" y="98280"/>
          <a:ext cx="6840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8280"/>
                    <a:ext cx="68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000080"/>
            <a:ext cx="70945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ÓRCIOS INTERMUNICIPAIS - ORI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2"/>
          <p:cNvSpPr/>
          <p:nvPr/>
        </p:nvSpPr>
        <p:spPr>
          <a:xfrm>
            <a:off x="3929040" y="6357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Consórcio Intermunicipal do Médio Vale do Itaja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230040" y="1989000"/>
            <a:ext cx="878688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  <a:ea typeface="Times New Roman"/>
              </a:rPr>
              <a:t>AT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  <a:ea typeface="Times New Roman"/>
              </a:rPr>
              <a:t>UAÇ</a:t>
            </a:r>
            <a:r>
              <a:rPr b="1" lang="pt-BR" sz="1800" spc="-1" strike="noStrike">
                <a:solidFill>
                  <a:srgbClr val="808080"/>
                </a:solidFill>
                <a:latin typeface="Arial"/>
                <a:ea typeface="Times New Roman"/>
              </a:rPr>
              <a:t>ÃO CONJU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  <a:ea typeface="Times New Roman"/>
              </a:rPr>
              <a:t>CF 37 -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“Art. 29 – Os Municípios da mesma região podem agrupar-se para a instalação, exploração e administração de serviços públicos comuns. O Agrupamento, assim constituído, será dotado de personalidade jurídica limitada a seus fin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CF 46 – omi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CF 67 – Art. 16 – “§ 4º - Os Municípios poderão celebrar convênios para a realização de obras ou exploração de serviços públicos de interesse comum, cuja execução ficará dependendo de aprovação das respectivas Câmaras Municipai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0" y="692280"/>
            <a:ext cx="9180360" cy="5545080"/>
          </a:xfrm>
          <a:prstGeom prst="rect">
            <a:avLst/>
          </a:prstGeom>
          <a:solidFill>
            <a:srgbClr val="00923f"/>
          </a:solidFill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-34920" y="871560"/>
            <a:ext cx="9178920" cy="5114880"/>
          </a:xfrm>
          <a:prstGeom prst="rect">
            <a:avLst/>
          </a:prstGeom>
          <a:solidFill>
            <a:srgbClr val="d2e8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21"/>
          <p:cNvGraphicFramePr/>
          <p:nvPr/>
        </p:nvGraphicFramePr>
        <p:xfrm>
          <a:off x="108000" y="98280"/>
          <a:ext cx="6840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8280"/>
                    <a:ext cx="68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840" y="1000080"/>
            <a:ext cx="70945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ÓRCIOS INTERMUNICIPAIS - ORI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2"/>
          <p:cNvSpPr/>
          <p:nvPr/>
        </p:nvSpPr>
        <p:spPr>
          <a:xfrm>
            <a:off x="3929040" y="6357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Consórcio Intermunicipal do Médio Vale do Itaja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196920" y="2060640"/>
            <a:ext cx="878688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  <a:ea typeface="Times New Roman"/>
              </a:rPr>
              <a:t>EC 01/69 -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Art. 13 – “§ 3º - A União, os Estados e Municípios poderão celebrar convênios para execução de suas leis, serviços ou decisões, por intermédio de funcionários federais, estaduais ou municipai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           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- “Art. 164. A União, mediante lei complementar, poderá para a realização de serviços comuns, estabelecer regiões metropolitanas, constituídas por municípios que, independentemente de sua vinculação administrativa, façam parte da mesma comunidade sócioeconômica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CF 88 – omissão - previu somente a instituição pelos Estados de regiões metropolitanas para funções de interesse com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0" y="692280"/>
            <a:ext cx="9180360" cy="5545080"/>
          </a:xfrm>
          <a:prstGeom prst="rect">
            <a:avLst/>
          </a:prstGeom>
          <a:solidFill>
            <a:srgbClr val="00923f"/>
          </a:solidFill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-34920" y="871560"/>
            <a:ext cx="9178920" cy="5114880"/>
          </a:xfrm>
          <a:prstGeom prst="rect">
            <a:avLst/>
          </a:prstGeom>
          <a:solidFill>
            <a:srgbClr val="d2e8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21"/>
          <p:cNvGraphicFramePr/>
          <p:nvPr/>
        </p:nvGraphicFramePr>
        <p:xfrm>
          <a:off x="108000" y="98280"/>
          <a:ext cx="6840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8280"/>
                    <a:ext cx="68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840" y="1000080"/>
            <a:ext cx="70945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ÓRCIOS INTERMUNICIPAIS - ORI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2"/>
          <p:cNvSpPr/>
          <p:nvPr/>
        </p:nvSpPr>
        <p:spPr>
          <a:xfrm>
            <a:off x="3929040" y="6357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Consórcio Intermunicipal do Médio Vale do Itaja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96920" y="2060640"/>
            <a:ext cx="87868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  <a:ea typeface="Times New Roman"/>
              </a:rPr>
              <a:t>Lei nº 8.080/90 – “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Art. 10. Os municípios poderão constituir consórcios para desenvolver em conjunto as ações e os serviços de saúde que lhes correspond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 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§ 1º Aplica-se aos consórcios administrativos intermunicipais o princípio da direção única, e os respectivos atos constitutivos disporão sobre sua observância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Lei nº 9.433/97 – “Art. 47. São consideradas, para os efeitos desta Lei, organizações civis de recursos hídr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I – consórcios e associações intermunicipais de bacias hidrográficas;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8"/>
          <p:cNvSpPr/>
          <p:nvPr/>
        </p:nvSpPr>
        <p:spPr>
          <a:xfrm>
            <a:off x="0" y="692280"/>
            <a:ext cx="9180360" cy="5545080"/>
          </a:xfrm>
          <a:prstGeom prst="rect">
            <a:avLst/>
          </a:prstGeom>
          <a:solidFill>
            <a:srgbClr val="00923f"/>
          </a:solidFill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-34920" y="871560"/>
            <a:ext cx="9178920" cy="5114880"/>
          </a:xfrm>
          <a:prstGeom prst="rect">
            <a:avLst/>
          </a:prstGeom>
          <a:solidFill>
            <a:srgbClr val="d2e8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21"/>
          <p:cNvGraphicFramePr/>
          <p:nvPr/>
        </p:nvGraphicFramePr>
        <p:xfrm>
          <a:off x="108000" y="98280"/>
          <a:ext cx="6840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8280"/>
                    <a:ext cx="68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840" y="1000080"/>
            <a:ext cx="70945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ÓRCIOS INTERMUNICIPAIS - ORI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3929040" y="6357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Consórcio Intermunicipal do Médio Vale do Itaja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ext Box 10" descr=""/>
          <p:cNvPicPr/>
          <p:nvPr/>
        </p:nvPicPr>
        <p:blipFill>
          <a:blip r:embed="rId3"/>
          <a:stretch/>
        </p:blipFill>
        <p:spPr>
          <a:xfrm>
            <a:off x="109440" y="2316240"/>
            <a:ext cx="88884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0" y="692280"/>
            <a:ext cx="9180360" cy="5545080"/>
          </a:xfrm>
          <a:prstGeom prst="rect">
            <a:avLst/>
          </a:prstGeom>
          <a:solidFill>
            <a:srgbClr val="00923f"/>
          </a:solidFill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-34920" y="871560"/>
            <a:ext cx="9178920" cy="5114880"/>
          </a:xfrm>
          <a:prstGeom prst="rect">
            <a:avLst/>
          </a:prstGeom>
          <a:solidFill>
            <a:srgbClr val="d2e8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1"/>
          <p:cNvGraphicFramePr/>
          <p:nvPr/>
        </p:nvGraphicFramePr>
        <p:xfrm>
          <a:off x="108000" y="98280"/>
          <a:ext cx="6840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8280"/>
                    <a:ext cx="68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840" y="1000080"/>
            <a:ext cx="70945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ÓRCIOS INTERMUNICIP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3929040" y="6357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Consórcio Intermunicipal do Médio Vale do Itaja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11280" y="1844640"/>
          <a:ext cx="7848360" cy="3044880"/>
        </p:xfrm>
        <a:graphic>
          <a:graphicData uri="http://schemas.openxmlformats.org/drawingml/2006/table">
            <a:tbl>
              <a:tblPr/>
              <a:tblGrid>
                <a:gridCol w="5154480"/>
                <a:gridCol w="2693880"/>
              </a:tblGrid>
              <a:tr h="312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consó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Municíp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10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ú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3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isição e/ou uso de máquinas e equipa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10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28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t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10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ços de abastecimento de ág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28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ços de esgotamento sanitá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10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tamento ou disposição final de li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28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amento de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Rectangle 2"/>
          <p:cNvSpPr/>
          <p:nvPr/>
        </p:nvSpPr>
        <p:spPr>
          <a:xfrm>
            <a:off x="946080" y="4904280"/>
            <a:ext cx="653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Perfil dos Municípios Brasileiros – Gestão Pública (IBGE, 2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0" y="692280"/>
            <a:ext cx="9180360" cy="5545080"/>
          </a:xfrm>
          <a:prstGeom prst="rect">
            <a:avLst/>
          </a:prstGeom>
          <a:solidFill>
            <a:srgbClr val="00923f"/>
          </a:solidFill>
          <a:ln w="9360">
            <a:solidFill>
              <a:srgbClr val="009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-34920" y="871560"/>
            <a:ext cx="9178920" cy="5114880"/>
          </a:xfrm>
          <a:prstGeom prst="rect">
            <a:avLst/>
          </a:prstGeom>
          <a:solidFill>
            <a:srgbClr val="d2e8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21"/>
          <p:cNvGraphicFramePr/>
          <p:nvPr/>
        </p:nvGraphicFramePr>
        <p:xfrm>
          <a:off x="108000" y="98280"/>
          <a:ext cx="6840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8280"/>
                    <a:ext cx="68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840" y="1000080"/>
            <a:ext cx="70945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ÓRC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3929040" y="635796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Arial"/>
              </a:rPr>
              <a:t>Consórcio Intermunicipal do Médio Vale do Itaja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41280" y="2565360"/>
            <a:ext cx="84265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FINIÇÃO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Associações voluntárias  de  entes  da  Federação par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realização de objetivos de interesse comum, em qualq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área de atu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SE LEGAL</a:t>
            </a:r>
            <a:r>
              <a:rPr b="1" lang="pt-BR" sz="1800" spc="-1" strike="noStrike">
                <a:solidFill>
                  <a:srgbClr val="404040"/>
                </a:solidFill>
                <a:latin typeface="Arial"/>
              </a:rPr>
              <a:t>:</a:t>
            </a:r>
            <a:r>
              <a:rPr b="1" lang="pt-BR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CF88 Art. 2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                   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Lei nº 11.107/05 – Lei dos Consórcio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                     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7f7f7f"/>
                </a:solidFill>
                <a:latin typeface="Arial"/>
              </a:rPr>
              <a:t>Decreto 6.017/07 – Regulamentação da Lei 11.107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8:57:05Z</dcterms:created>
  <dc:creator>.</dc:creator>
  <dc:description/>
  <dc:language>en-US</dc:language>
  <cp:lastModifiedBy>michele</cp:lastModifiedBy>
  <dcterms:modified xsi:type="dcterms:W3CDTF">2013-03-13T16:56:19Z</dcterms:modified>
  <cp:revision>212</cp:revision>
  <dc:subject/>
  <dc:title>Slide 1</dc:title>
</cp:coreProperties>
</file>